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1C53-0DC2-4A27-9CF1-55B37D359F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ATG TRACING REQUIREMENTS - INTRODUCTION: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vast majority of illicit ammunition is legally manufactured or imported and then subsequently diverted to the illicit realm. Illicit ammunition fuels armed crime and conflict and its components commonly form the basis from improvised explosive devices (IE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cing is the systematic tracking of illicit ammunition from the point of manufacture or import, through the lines of supply, to the last legal title-holder, in order to determine the point, in space and time, at which the ammunition was diver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1" lang="en-GB" sz="1200" spc="-1" strike="noStrike">
                <a:solidFill>
                  <a:srgbClr val="000000"/>
                </a:solidFill>
                <a:latin typeface="Calibri"/>
              </a:rPr>
              <a:t>tracing</a:t>
            </a:r>
            <a:r>
              <a:rPr b="0" lang="ja-JP" sz="1200" spc="-1" strike="noStrike">
                <a:solidFill>
                  <a:srgbClr val="000000"/>
                </a:solidFill>
                <a:latin typeface="Calibri"/>
              </a:rPr>
              <a:t>’</a:t>
            </a:r>
            <a:r>
              <a:rPr b="0" lang="en-GB" sz="1200" spc="-1" strike="noStrike">
                <a:solidFill>
                  <a:srgbClr val="000000"/>
                </a:solidFill>
                <a:latin typeface="Calibri"/>
              </a:rPr>
              <a:t> refers to the systematic tracking of illicit ammunition from the point of its manufacture or import, through the lines of supply, to the point at which it became illic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3E43-E1F9-4F9A-9D4C-701C661B7D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INTERNATIONAL TRACING OPERATIONS: (3 SLIDES, 10 MIN)</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LIDE 2 of 3: </a:t>
            </a:r>
            <a:r>
              <a:rPr b="1" lang="en-US" sz="1100" spc="-1" strike="noStrike" u="sng">
                <a:solidFill>
                  <a:srgbClr val="000000"/>
                </a:solidFill>
                <a:uFillTx/>
                <a:latin typeface="Calibri"/>
              </a:rPr>
              <a:t>CONTENT OF INTERNATIONAL TRACING REQUESTS  (3 mi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n international tracing request should contai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ontextual information regarding the illicit nature of the ammunition, including the legal justification for the tracing request and, to the extent possible, the circumstances under which the illicit ammunition was recovered;</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 The grounds for believing that the State in receipt of the international tracing request held jurisdiction over the ammuni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Correct identification of the ammunition in accordance with IATG 03:50, Clause 6.1, including supporting photographs and documenta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E53B-D278-445D-AA28-C3D05238B0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OPERATIONS: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CONTENT OF INTERNATIONAL TRACING REQUESTS (CONT)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international tracing request should conta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A request for information regarding the history of the ammunition while under the legal jurisdiction of the State in receipt of the international tracing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 Information on any onward transfer (or previous import, if required) of the ammunition, including details or suppliers/recipients; 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 The purpose and intended use of the information so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F4E2-9D6D-47E6-B2B7-CFBE189A34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SPONDING TO INTERNATIONAL TRACING REQUESTS: (4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4: </a:t>
            </a:r>
            <a:r>
              <a:rPr b="1" lang="en-GB" sz="1200" spc="-1" strike="noStrike" u="sng">
                <a:solidFill>
                  <a:srgbClr val="000000"/>
                </a:solidFill>
                <a:uFillTx/>
                <a:latin typeface="Calibri"/>
              </a:rPr>
              <a:t>ACKNOWLEDGE OF RECEIPT AND VERIFICATION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acknowledgement of receipt of an international tracing request should be issued within seven days of receipt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incoming international tracing request should first be checked for completeness in accordance with IATG 03:5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3C6F-F2D6-43AF-9691-E5C2677311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SPONDING TO INTERNATIONAL TRACING REQUESTS: (4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4: </a:t>
            </a:r>
            <a:r>
              <a:rPr b="1" lang="en-GB" sz="1200" spc="-1" strike="noStrike" u="sng">
                <a:solidFill>
                  <a:srgbClr val="000000"/>
                </a:solidFill>
                <a:uFillTx/>
                <a:latin typeface="Calibri"/>
              </a:rPr>
              <a:t>RESTRICTIONS ON THE USE OF INFORMATION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cipient of an international tracing request may impose restrictions on the use of all or part of the information provided in response to the request (e.g. proprietary information relating to commercial transactions). Such restrictions should, however, be kept to the minimum required by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itiator of the request shall comply with any such restrictions, subject to national and/or international legal oblig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it is not possible, for legal reasons, for such restrictions to be complied with, the initiator of the tracing request shall inform the recipient of the tracing request of this in adv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BC1D-9DEA-4146-A7BC-F59FC35A1B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SPONDING TO INTERNATIONAL TRACING REQUESTS: (4 SLIDES, 10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4: </a:t>
            </a:r>
            <a:r>
              <a:rPr b="1" lang="en-GB" sz="1200" spc="-1" strike="noStrike" u="sng">
                <a:solidFill>
                  <a:srgbClr val="000000"/>
                </a:solidFill>
                <a:uFillTx/>
                <a:latin typeface="Calibri"/>
              </a:rPr>
              <a:t>THE NATURE OF THE RESPONSE WILL VARY (3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ature of the response will vary depending 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case of legal manufacture or impor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case of internal transfer</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case of expor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case of internal divers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3:50 provides detail on each of these types of event.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6030-FF32-45C6-8D85-764985711F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SPONDING TO INTERNATIONAL TRACING REQUESTS: (4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4: </a:t>
            </a:r>
            <a:r>
              <a:rPr b="1" lang="en-GB" sz="1200" spc="-1" strike="noStrike" u="sng">
                <a:solidFill>
                  <a:srgbClr val="000000"/>
                </a:solidFill>
                <a:uFillTx/>
                <a:latin typeface="Calibri"/>
              </a:rPr>
              <a:t>TIMEFRAME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sponses to international tracing requests shall be timely. As a general guide, responses should be provided within three weeks of receipt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quested point of contact may delay, or restrict the content of, the response to a tracing request, or may refuse to provide the information so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If releasing the information would compromise on-going criminal investigations or violate legislation providing for the protection of confidential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If the requesting point of contact cannot guarantee the confidentiality of the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For reasons of national security consistent with the Charter of the United N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a requested point of contact delays or provides a restricted response to a tracing request, or refuses to provide the information sought, it will inform the requesting point of contact of the reasons for this. The requesting point of contact may subsequently seek clarification of this explan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AE2E-B4BA-4A41-94AD-E1864750ED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B8A4-6258-423A-8EF8-9448F468E3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5: </a:t>
            </a:r>
            <a:r>
              <a:rPr b="1" lang="en-US" sz="1200" spc="-1" strike="noStrike" u="sng">
                <a:solidFill>
                  <a:srgbClr val="000000"/>
                </a:solidFill>
                <a:uFillTx/>
                <a:latin typeface="Calibri"/>
              </a:rPr>
              <a:t>WEAPONS SUBJECT TO DOMESTIC TRACING  (4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s should implement a national tracing system to make possible the timely and reliable domestic tracing of illicit ammunition tha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s legally manufactured and/or assembled under national jurisdi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was legally imported into national jurisdi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ransited national jurisdi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Otherwise entered national jurisdiction (e.g. through recovery from the illicit sphe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Left national jurisdiction (e.g. through export or alleged destruction);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 Was identified as domestically diverted (e.g. through theft or los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963A-1C5F-4EF2-ACFC-27CB257541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5: </a:t>
            </a:r>
            <a:r>
              <a:rPr b="1" lang="en-US" sz="1200" spc="-1" strike="noStrike" u="sng">
                <a:solidFill>
                  <a:srgbClr val="000000"/>
                </a:solidFill>
                <a:uFillTx/>
                <a:latin typeface="Calibri"/>
              </a:rPr>
              <a:t>EXTENT OF DOMESTIC TRACING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ional tracing system will make possible the timely and reliable domestic tracing of illicit ammunition from its manufacture, import or other point of entry into national jurisdiction up 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ast legal possessor of the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point at which the ammunition left national jurisdiction (e.g. though destruction or expo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8A73-7037-4528-8859-4687E3F019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5: </a:t>
            </a:r>
            <a:r>
              <a:rPr b="1" lang="en-US" sz="1200" spc="-1" strike="noStrike" u="sng">
                <a:solidFill>
                  <a:srgbClr val="000000"/>
                </a:solidFill>
                <a:uFillTx/>
                <a:latin typeface="Calibri"/>
              </a:rPr>
              <a:t>PREVIOUSLY EXPORTED AMMUNITION  (3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s where recovered illicit ammunition is determined to have previously left the national jurisdiction through export, the national tracing system should make it possible to identify:</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recipient of the ammunition and date of transf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lot numbers and relevant characteristics of the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quantity of ammunition exported and its mode of transfer, including documen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The actor(s) involved in the transfer (e.g. transport agents and brok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ssociated financial transactions, if applicable.</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3822-A97D-46C6-A769-95F523E626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DOMESTIC INFORMATION EXCHANG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parate systems may be used, at the national level, for tracing ammunition that is held and/or controlled by different agencies of the State (e.g. law enforcement, armed forces, etc.). In such cases, it should be possible to exchange information quickly between the different tracing systems in use. To achieve this, it may be necessary to have in place a legislative or regulatory framework to enable efficient exchange of information, at the national level, regarding domestic tracing oper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F9F3-46C2-404A-9332-F0E40B5F1B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DATABASES  (2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entralized collection and analysis of data on recovered ammunition and on its tracing can assist in the identification and design of counter-measures to prevent future diversions of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r more national electronic databases containing the details of all illicit ammunition recovered within the jurisdiction of the State should be created. These databases should also record the progress and outcome of domestic and international tracing operatio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more than one database exists, they may be networked so as to allow for the efficient searching of all databases from a single loc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7AA4-8B6D-4A09-8D5A-BA47129567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DOMESTIC TRACING OPERATIONS: (2  SLIDES, 5 MIN)</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SLIDE 1 of 2: </a:t>
            </a:r>
            <a:r>
              <a:rPr b="1" lang="en-GB" sz="1100" spc="-1" strike="noStrike" u="sng">
                <a:solidFill>
                  <a:srgbClr val="000000"/>
                </a:solidFill>
                <a:uFillTx/>
                <a:latin typeface="Calibri"/>
              </a:rPr>
              <a:t>DOMESTIC TRACING OPERATIONS  (1 mi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ATG 03:50 provides significant detail on domestic tracing operation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n important factor in domestic tracing regards when the ammunition was diverted.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answer to be identified is whether the ammunition was diverted while under national jurisdiction (e.g. after having been legally held by the State or by a private entity or individual within the jurisdiction of the State), or diverted after having left (and re-entered) national jurisdiction (e.g. following export or alleged destruc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5946-398D-4017-94CD-761C26FFFB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OMESTIC TRACING OPERATIONS: (2  SLIDES, 5 MI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LIDE 2 of 2: </a:t>
            </a:r>
            <a:r>
              <a:rPr b="1" lang="en-US" sz="1100" spc="-1" strike="noStrike" u="sng">
                <a:solidFill>
                  <a:srgbClr val="000000"/>
                </a:solidFill>
                <a:uFillTx/>
                <a:latin typeface="Calibri"/>
              </a:rPr>
              <a:t>GENERAL PROCEDURE  (4 mi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hen it is determined that the ammunition in question was 1) diverted while under national jurisdiction or 2) illicitly manufactured within national jurisdiction, the national Point(s) of Contact need to determ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oint (in space and time) of diversion or illicit manufacture</a:t>
            </a:r>
            <a:endParaRPr b="0" lang="en-US" sz="1100" spc="-1" strike="noStrike">
              <a:solidFill>
                <a:srgbClr val="000000"/>
              </a:solidFill>
              <a:latin typeface="Calibri"/>
            </a:endParaRPr>
          </a:p>
          <a:p>
            <a:pPr indent="0">
              <a:lnSpc>
                <a:spcPct val="80000"/>
              </a:lnSpc>
              <a:spcBef>
                <a:spcPts val="41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ndividuals responsible for the diversion or illicit manufacture</a:t>
            </a:r>
            <a:endParaRPr b="0" lang="en-US" sz="1100" spc="-1" strike="noStrike">
              <a:solidFill>
                <a:srgbClr val="000000"/>
              </a:solidFill>
              <a:latin typeface="Calibri"/>
            </a:endParaRPr>
          </a:p>
          <a:p>
            <a:pPr indent="0">
              <a:lnSpc>
                <a:spcPct val="80000"/>
              </a:lnSpc>
              <a:spcBef>
                <a:spcPts val="41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ffective action (e.g. prosecuting those involved, strengthening national legislative and regulatory frameworks, etc.) to ensure that similar diversions or illicit manufacture do not re-occur.</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owever, if it is determined that the ammunition in question was 1) diverted after having left national jurisdiction and/or 2) illicitly trafficked into the State, the national Point(s) of Contact shall, where applicab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irect an international tracing request to the State to which the ammunition was exported (identified by domestic records)</a:t>
            </a:r>
            <a:endParaRPr b="0" lang="en-US" sz="1100" spc="-1" strike="noStrike">
              <a:solidFill>
                <a:srgbClr val="000000"/>
              </a:solidFill>
              <a:latin typeface="Calibri"/>
            </a:endParaRPr>
          </a:p>
          <a:p>
            <a:pPr indent="0">
              <a:lnSpc>
                <a:spcPct val="80000"/>
              </a:lnSpc>
              <a:spcBef>
                <a:spcPts val="41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irect an international tracing request to the manufacturing State, or legal importing States (identified by markings on the ammunition, its packaging and associated identifying informat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5F9D-BEE4-4E6B-9D5B-AE2CAD4F34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INTERNATIONAL TRACING OPERATIONS: (3 SLIDES, 10 MIN)</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SLIDE 1 of 3: </a:t>
            </a:r>
            <a:r>
              <a:rPr b="1" lang="en-GB" sz="1000" spc="-1" strike="noStrike" u="sng">
                <a:solidFill>
                  <a:srgbClr val="000000"/>
                </a:solidFill>
                <a:uFillTx/>
                <a:latin typeface="Calibri"/>
              </a:rPr>
              <a:t>ROUTING INTERNATIONAL TRACING REQUESTS  (5 mi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International tracing requests shall be addressed, in writing, by the national point of contact in one State to the national coint(s) of contact in other State(s) that, according to the result of a domestic tracing operation, have exercised jurisdiction over the ammunition in question (e.g. preferably the State to have held most recent jurisdiction, or States that have held past jurisdiction at various points (in time and space) in the lines of suppl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State(s) to which the tracing request is addressed may b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a) The State(s) to which the requesting State exported the ammunition (identified by domestic record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b) The State in which the ammunition was manufactured (identifed by markings on the ammunition, its packaging and associated identifying inform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 State(s) that have, at one time, imported/exported the ammunition (identifed by markings on the ammunition, its packaging and associated identifying information); o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national Point(s) of Contact may be required to address tracing requests to several States, including those that other contacted States have identified as having held prior or subsequent jurisdiction over the ammunition, e.g. one State may reply that it transferred ammunition to, or received it from, a second State (e.g. the tracing operation has to work </a:t>
            </a:r>
            <a:r>
              <a:rPr b="0" lang="ja-JP" sz="1000" spc="-1" strike="noStrike">
                <a:solidFill>
                  <a:srgbClr val="000000"/>
                </a:solidFill>
                <a:latin typeface="Calibri"/>
              </a:rPr>
              <a:t>‘</a:t>
            </a:r>
            <a:r>
              <a:rPr b="0" lang="en-GB" sz="1000" spc="-1" strike="noStrike">
                <a:solidFill>
                  <a:srgbClr val="000000"/>
                </a:solidFill>
                <a:latin typeface="Calibri"/>
              </a:rPr>
              <a:t>forwards</a:t>
            </a:r>
            <a:r>
              <a:rPr b="0" lang="ja-JP" sz="1000" spc="-1" strike="noStrike">
                <a:solidFill>
                  <a:srgbClr val="000000"/>
                </a:solidFill>
                <a:latin typeface="Calibri"/>
              </a:rPr>
              <a:t>’</a:t>
            </a:r>
            <a:r>
              <a:rPr b="0" lang="en-GB" sz="1000" spc="-1" strike="noStrike">
                <a:solidFill>
                  <a:srgbClr val="000000"/>
                </a:solidFill>
                <a:latin typeface="Calibri"/>
              </a:rPr>
              <a:t> or </a:t>
            </a:r>
            <a:r>
              <a:rPr b="0" lang="ja-JP" sz="1000" spc="-1" strike="noStrike">
                <a:solidFill>
                  <a:srgbClr val="000000"/>
                </a:solidFill>
                <a:latin typeface="Calibri"/>
              </a:rPr>
              <a:t>‘</a:t>
            </a:r>
            <a:r>
              <a:rPr b="0" lang="en-GB" sz="1000" spc="-1" strike="noStrike">
                <a:solidFill>
                  <a:srgbClr val="000000"/>
                </a:solidFill>
                <a:latin typeface="Calibri"/>
              </a:rPr>
              <a:t>backwards</a:t>
            </a:r>
            <a:r>
              <a:rPr b="0" lang="ja-JP" sz="1000" spc="-1" strike="noStrike">
                <a:solidFill>
                  <a:srgbClr val="000000"/>
                </a:solidFill>
                <a:latin typeface="Calibri"/>
              </a:rPr>
              <a:t>’</a:t>
            </a:r>
            <a:r>
              <a:rPr b="0" lang="en-GB" sz="1000" spc="-1" strike="noStrike">
                <a:solidFill>
                  <a:srgbClr val="000000"/>
                </a:solidFill>
                <a:latin typeface="Calibri"/>
              </a:rPr>
              <a:t> (in space and time) through the lines of suppl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Assistance with international tracing operations may also be requested of partners other than State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EA87-4013-43A6-9EBF-757E6AFA6C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879B1-F8DC-4BAB-A695-A64B16B98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ABC75-AD6B-452B-A7BD-8F7C30710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D2C95-E2D4-4145-829A-6027C7594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8A3D3-D7D8-48DE-BA79-93FF2F80D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45B35-D687-46E9-976D-CF9B86DF4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B1F63-CD58-4B62-BB2B-20654AB9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6FAB7-2255-4325-A45F-E7C605683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36098-9B5C-4B3D-9245-08B19A3EA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0477-FB2A-4F09-ABE7-F85F6ABA6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E197-3B04-4571-8453-4C632E0AB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C5D0A-258C-41CE-ACB2-C62697585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066B-E119-40FD-9A99-1D5CAC904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05B8-A685-448B-BA29-FBA77321EB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ATG Tracing Requirement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035C0D4F-11C6-4097-B923-DE7C034399F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Tracing Operations</a:t>
            </a:r>
            <a:endParaRPr b="1" lang="en-US" sz="3600" spc="-1" strike="noStrike">
              <a:solidFill>
                <a:srgbClr val="000000"/>
              </a:solidFill>
              <a:latin typeface="Arial"/>
            </a:endParaRPr>
          </a:p>
        </p:txBody>
      </p:sp>
      <p:sp>
        <p:nvSpPr>
          <p:cNvPr id="7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of international tracing reque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ual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s for belie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identification</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80E2F570-F722-40D1-9DDF-9862D5B79F9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Tracing Operations</a:t>
            </a:r>
            <a:endParaRPr b="1" lang="en-US" sz="3600" spc="-1" strike="noStrike">
              <a:solidFill>
                <a:srgbClr val="000000"/>
              </a:solidFill>
              <a:latin typeface="Arial"/>
            </a:endParaRPr>
          </a:p>
        </p:txBody>
      </p:sp>
      <p:sp>
        <p:nvSpPr>
          <p:cNvPr id="8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of international tracing requests (continu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for information regarding the history of th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any onward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and intended use of the information sough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A75330CA-1272-4141-9A3F-E90364B6E12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International Tracing Requests</a:t>
            </a:r>
            <a:endParaRPr b="1" lang="en-US" sz="3600" spc="-1" strike="noStrike">
              <a:solidFill>
                <a:srgbClr val="000000"/>
              </a:solidFill>
              <a:latin typeface="Arial"/>
            </a:endParaRPr>
          </a:p>
        </p:txBody>
      </p:sp>
      <p:sp>
        <p:nvSpPr>
          <p:cNvPr id="8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e of receipt and verif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d within 7 days of receipt of the reques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of completen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Tracing Request should first be checked for completeness in accordance with IATG</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6AB39DDB-584F-4B52-BF94-59C3A8DF9FE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International Tracing Requests</a:t>
            </a:r>
            <a:endParaRPr b="1" lang="en-US" sz="3600" spc="-1" strike="noStrike">
              <a:solidFill>
                <a:srgbClr val="000000"/>
              </a:solidFill>
              <a:latin typeface="Arial"/>
            </a:endParaRPr>
          </a:p>
        </p:txBody>
      </p:sp>
      <p:sp>
        <p:nvSpPr>
          <p:cNvPr id="8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ions on the use of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 of an International Tracing Request may impose restri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oprietary information relating to commercial transactions</a:t>
            </a:r>
            <a:endParaRPr b="0" lang="en-US" sz="2400" spc="-1" strike="noStrike">
              <a:solidFill>
                <a:srgbClr val="000000"/>
              </a:solidFill>
              <a:latin typeface="Arial"/>
            </a:endParaRPr>
          </a:p>
        </p:txBody>
      </p:sp>
      <p:sp>
        <p:nvSpPr>
          <p:cNvPr id="88"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6F99168C-AED2-474F-8394-F55D52DEF49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International Tracing Requests</a:t>
            </a:r>
            <a:endParaRPr b="1" lang="en-US" sz="3600" spc="-1" strike="noStrike">
              <a:solidFill>
                <a:srgbClr val="000000"/>
              </a:solidFill>
              <a:latin typeface="Arial"/>
            </a:endParaRPr>
          </a:p>
        </p:txBody>
      </p:sp>
      <p:sp>
        <p:nvSpPr>
          <p:cNvPr id="9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ure of the response will v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ase of legal manufacture or im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ase of internal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ase of ex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ase of internal diversion</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AE7033E9-59E3-4802-8533-F49D5DF29FC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International Tracing Requests</a:t>
            </a:r>
            <a:endParaRPr b="1" lang="en-US" sz="3600" spc="-1" strike="noStrike">
              <a:solidFill>
                <a:srgbClr val="000000"/>
              </a:solidFill>
              <a:latin typeface="Arial"/>
            </a:endParaRPr>
          </a:p>
        </p:txBody>
      </p:sp>
      <p:sp>
        <p:nvSpPr>
          <p:cNvPr id="9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fram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to International Requests shall be tim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should be provided within 3 weeks of receipt of the Request</a:t>
            </a:r>
            <a:endParaRPr b="0" lang="en-US" sz="2400" spc="-1" strike="noStrike">
              <a:solidFill>
                <a:srgbClr val="000000"/>
              </a:solidFill>
              <a:latin typeface="Arial"/>
            </a:endParaRPr>
          </a:p>
        </p:txBody>
      </p:sp>
      <p:sp>
        <p:nvSpPr>
          <p:cNvPr id="94"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9015A88C-52AC-433C-9507-73C1D41B365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96" name="PlaceHolder 2"/>
          <p:cNvSpPr>
            <a:spLocks noGrp="1"/>
          </p:cNvSpPr>
          <p:nvPr>
            <p:ph type="subTitle"/>
          </p:nvPr>
        </p:nvSpPr>
        <p:spPr>
          <a:xfrm>
            <a:off x="129528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3"/>
          <p:cNvSpPr/>
          <p:nvPr/>
        </p:nvSpPr>
        <p:spPr>
          <a:xfrm>
            <a:off x="770004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FECB9279-B374-454B-924A-BE0DB143ED4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pons subject to domestic trac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ly manufactu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ly impor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ed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ed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s domestically diverted</a:t>
            </a:r>
            <a:endParaRPr b="0" lang="en-US" sz="2400" spc="-1" strike="noStrike">
              <a:solidFill>
                <a:srgbClr val="000000"/>
              </a:solidFill>
              <a:latin typeface="Arial"/>
            </a:endParaRPr>
          </a:p>
        </p:txBody>
      </p:sp>
      <p:sp>
        <p:nvSpPr>
          <p:cNvPr id="55"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9DF56B32-83D4-4762-9441-B3CBE349CDB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t of domestic trac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egal possessor of th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at which the ammunition left national jurisdiction</a:t>
            </a:r>
            <a:endParaRPr b="0" lang="en-US" sz="2400" spc="-1" strike="noStrike">
              <a:solidFill>
                <a:srgbClr val="000000"/>
              </a:solidFill>
              <a:latin typeface="Arial"/>
            </a:endParaRPr>
          </a:p>
        </p:txBody>
      </p:sp>
      <p:sp>
        <p:nvSpPr>
          <p:cNvPr id="58"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903DD2D3-2E8E-4D0D-8DBB-195843139FE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6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exported ammuni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 of the ammunition and date of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 numbers &amp; relevant characteristics of th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y of ammunition exported and its mode of transfer, including doc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or (s) involved in the transfer (e.g. transport agents and brok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financial transactions, if Appli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F6357B85-5161-4105-9E52-C579D5192D2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6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information exchan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systems may be used at the National level, for tracing ammunition that is held and/or controlled by different agencies of the Sta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Law Enforcement, Armed Forces</a:t>
            </a:r>
            <a:endParaRPr b="0" lang="en-US" sz="2400" spc="-1" strike="noStrike">
              <a:solidFill>
                <a:srgbClr val="000000"/>
              </a:solidFill>
              <a:latin typeface="Arial"/>
            </a:endParaRPr>
          </a:p>
        </p:txBody>
      </p:sp>
      <p:sp>
        <p:nvSpPr>
          <p:cNvPr id="64"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48A1FD9F-4CDB-4C0A-967F-4F8E608DE80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6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collection and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one or more National databases to contain the details of all illicit ammunition which is recove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more than one database exists, they may be network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3E561151-9918-479A-A68A-A78A9F615FD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estic Tracing Operations</a:t>
            </a:r>
            <a:endParaRPr b="1" lang="en-US" sz="3600" spc="-1" strike="noStrike">
              <a:solidFill>
                <a:srgbClr val="000000"/>
              </a:solidFill>
              <a:latin typeface="Arial"/>
            </a:endParaRPr>
          </a:p>
        </p:txBody>
      </p:sp>
      <p:sp>
        <p:nvSpPr>
          <p:cNvPr id="6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ammunition diverted while under national jurisdiction or afterwards?</a:t>
            </a:r>
            <a:endParaRPr b="0" lang="en-US" sz="2800" spc="-1" strike="noStrike">
              <a:solidFill>
                <a:srgbClr val="000000"/>
              </a:solidFill>
              <a:latin typeface="Arial"/>
            </a:endParaRPr>
          </a:p>
        </p:txBody>
      </p:sp>
      <p:sp>
        <p:nvSpPr>
          <p:cNvPr id="70"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83756882-6E3F-4FA1-9E04-56EF5465012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estic Tracing Operations</a:t>
            </a:r>
            <a:endParaRPr b="1" lang="en-US" sz="3600" spc="-1" strike="noStrike">
              <a:solidFill>
                <a:srgbClr val="000000"/>
              </a:solidFill>
              <a:latin typeface="Arial"/>
            </a:endParaRPr>
          </a:p>
        </p:txBody>
      </p:sp>
      <p:sp>
        <p:nvSpPr>
          <p:cNvPr id="7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while under/within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the point of diversion or illicit manufa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he individ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effective a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ted after leaving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ly trafficked into th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77B8B38F-FD7F-40B3-ADAE-6A1E81F0BDE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Tracing Operations</a:t>
            </a:r>
            <a:endParaRPr b="1" lang="en-US" sz="3600" spc="-1" strike="noStrike">
              <a:solidFill>
                <a:srgbClr val="000000"/>
              </a:solidFill>
              <a:latin typeface="Arial"/>
            </a:endParaRPr>
          </a:p>
        </p:txBody>
      </p:sp>
      <p:sp>
        <p:nvSpPr>
          <p:cNvPr id="75"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 international tracing reque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s) to which the tracing request is addressed may 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s) to which the requesting State exported the ammuni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in which the ammunition was manufactur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that have at one time imported/exported th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F3A9A79E-DBEE-43C5-A9EA-A1D64B2D3C9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2:51:46Z</dcterms:modified>
  <cp:revision>197</cp:revision>
  <dc:subject/>
  <dc:title>Slide 1</dc:title>
</cp:coreProperties>
</file>