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F8D4-5834-492E-9531-7142C9964A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ND USER CERTIFICATES - 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ND USER CERTIFICATES (EUC)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hrase </a:t>
            </a:r>
            <a:r>
              <a:rPr b="0" lang="ja-JP" sz="1200" spc="-1" strike="noStrike">
                <a:solidFill>
                  <a:srgbClr val="000000"/>
                </a:solidFill>
                <a:latin typeface="Calibri"/>
              </a:rPr>
              <a:t>‘</a:t>
            </a:r>
            <a:r>
              <a:rPr b="0" lang="en-GB" sz="1200" spc="-1" strike="noStrike">
                <a:solidFill>
                  <a:srgbClr val="000000"/>
                </a:solidFill>
                <a:latin typeface="Calibri"/>
              </a:rPr>
              <a:t>End-User Certificate</a:t>
            </a:r>
            <a:r>
              <a:rPr b="0" lang="ja-JP" sz="1200" spc="-1" strike="noStrike">
                <a:solidFill>
                  <a:srgbClr val="000000"/>
                </a:solidFill>
                <a:latin typeface="Calibri"/>
              </a:rPr>
              <a:t>’</a:t>
            </a:r>
            <a:r>
              <a:rPr b="0" lang="en-GB" sz="1200" spc="-1" strike="noStrike">
                <a:solidFill>
                  <a:srgbClr val="000000"/>
                </a:solidFill>
                <a:latin typeface="Calibri"/>
              </a:rPr>
              <a:t> (</a:t>
            </a:r>
            <a:r>
              <a:rPr b="0" lang="ja-JP" sz="1200" spc="-1" strike="noStrike">
                <a:solidFill>
                  <a:srgbClr val="000000"/>
                </a:solidFill>
                <a:latin typeface="Calibri"/>
              </a:rPr>
              <a:t>‘</a:t>
            </a:r>
            <a:r>
              <a:rPr b="0" lang="en-GB" sz="1200" spc="-1" strike="noStrike">
                <a:solidFill>
                  <a:srgbClr val="000000"/>
                </a:solidFill>
                <a:latin typeface="Calibri"/>
              </a:rPr>
              <a:t>EUC</a:t>
            </a:r>
            <a:r>
              <a:rPr b="0" lang="ja-JP" sz="1200" spc="-1" strike="noStrike">
                <a:solidFill>
                  <a:srgbClr val="000000"/>
                </a:solidFill>
                <a:latin typeface="Calibri"/>
              </a:rPr>
              <a:t>’</a:t>
            </a:r>
            <a:r>
              <a:rPr b="0" lang="en-GB" sz="1200" spc="-1" strike="noStrike">
                <a:solidFill>
                  <a:srgbClr val="000000"/>
                </a:solidFill>
                <a:latin typeface="Calibri"/>
              </a:rPr>
              <a:t>) denotes the documents used to control and certify the end-user and the end-use prior to the approval of an ammunition export lic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ocument may be named differently depending on the type, destination, and end-user of the ammunition to be transferred. The most common denominations are </a:t>
            </a:r>
            <a:r>
              <a:rPr b="0" lang="ja-JP" sz="1200" spc="-1" strike="noStrike">
                <a:solidFill>
                  <a:srgbClr val="000000"/>
                </a:solidFill>
                <a:latin typeface="Calibri"/>
              </a:rPr>
              <a:t>‘</a:t>
            </a:r>
            <a:r>
              <a:rPr b="0" lang="en-GB" sz="1200" spc="-1" strike="noStrike">
                <a:solidFill>
                  <a:srgbClr val="000000"/>
                </a:solidFill>
                <a:latin typeface="Calibri"/>
              </a:rPr>
              <a:t>end-use assurance</a:t>
            </a:r>
            <a:r>
              <a:rPr b="0" lang="ja-JP" sz="1200" spc="-1" strike="noStrike">
                <a:solidFill>
                  <a:srgbClr val="000000"/>
                </a:solidFill>
                <a:latin typeface="Calibri"/>
              </a:rPr>
              <a:t>’</a:t>
            </a:r>
            <a:r>
              <a:rPr b="0" lang="en-GB" sz="1200" spc="-1" strike="noStrike">
                <a:solidFill>
                  <a:srgbClr val="000000"/>
                </a:solidFill>
                <a:latin typeface="Calibri"/>
              </a:rPr>
              <a:t>, </a:t>
            </a:r>
            <a:r>
              <a:rPr b="0" lang="ja-JP" sz="1200" spc="-1" strike="noStrike">
                <a:solidFill>
                  <a:srgbClr val="000000"/>
                </a:solidFill>
                <a:latin typeface="Calibri"/>
              </a:rPr>
              <a:t>‘</a:t>
            </a:r>
            <a:r>
              <a:rPr b="0" lang="en-GB" sz="1200" spc="-1" strike="noStrike">
                <a:solidFill>
                  <a:srgbClr val="000000"/>
                </a:solidFill>
                <a:latin typeface="Calibri"/>
              </a:rPr>
              <a:t>end-use certificate</a:t>
            </a:r>
            <a:r>
              <a:rPr b="0" lang="ja-JP" sz="1200" spc="-1" strike="noStrike">
                <a:solidFill>
                  <a:srgbClr val="000000"/>
                </a:solidFill>
                <a:latin typeface="Calibri"/>
              </a:rPr>
              <a:t>’</a:t>
            </a:r>
            <a:r>
              <a:rPr b="0" lang="en-GB" sz="1200" spc="-1" strike="noStrike">
                <a:solidFill>
                  <a:srgbClr val="000000"/>
                </a:solidFill>
                <a:latin typeface="Calibri"/>
              </a:rPr>
              <a:t>, </a:t>
            </a:r>
            <a:r>
              <a:rPr b="0" lang="ja-JP" sz="1200" spc="-1" strike="noStrike">
                <a:solidFill>
                  <a:srgbClr val="000000"/>
                </a:solidFill>
                <a:latin typeface="Calibri"/>
              </a:rPr>
              <a:t>‘</a:t>
            </a:r>
            <a:r>
              <a:rPr b="0" lang="en-GB" sz="1200" spc="-1" strike="noStrike">
                <a:solidFill>
                  <a:srgbClr val="000000"/>
                </a:solidFill>
                <a:latin typeface="Calibri"/>
              </a:rPr>
              <a:t>end-user certificat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end-use statement</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uthorities of the importing State should certify this document. Such documents should also contain specific clauses on the potential re-export of the transferred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bilateral or multilateral agreements, some States may use alternative documents, such as an International Import Certificate (IIC). Usually, the IIC is signed by the authorities of the importing State and does not contain any assurances regarding end-use and the end-user of the ammunition to be transferred and regarding potential re-ex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3A8C-A2DE-496F-BC37-31A02A78A5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EMENT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REQUIREMENT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shall be required prior to the approval of any ammunition export licence. The applicant (i.e. the exporter) shall be provided with guidance with respect to the minimum elements that an EUC shall cont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nce the exporting State has primary responsibility for ensuring that the ammunition to be transferred is not diverted or re-exported to unauthorized end-users and/or end-uses, such guidance should be provided by the authorities of the exporting State. Alternatively, the exporting State may provide the applicant with national standardized end-use certificates. Different sorts of standardized end-use certificates may be used depending on the type of the transaction (transfers to state or private entities) and/or of the ammunition subject to transf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umber of officials and institutions of the exporting State authorized to issue and provide such documents should be kept to a minim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umber of officials and institutions of the importing State authorized to stamp or sign such documents should be kept to a minimu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ing State shall ensure that EUCs issued by its authorities contain the minimum amount of information required by this IAT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shall not be used for more than one transa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analysis of documented clandestine deliveries indicates that a lack of sufficient end user verification is the greatest expediting factor for illicit delivery. End user certificates are used to secure the single most important document required by arms brokers to transfer weaponry from the country of origin: the arms export licence. As such, rigorous and thorough end user verification procedures are the most effective method through which arms export licencing and transportation authorities in the point of departure states may identify PDOD and PDD shipments. However, even well-developed countries with extensive arms export legislation and control procedures sometimes fail to carry out sufficient chec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EB6E-D431-4266-B058-42118E91EF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3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TYP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ypically, EUCs are of two typ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states enti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private ent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a:t>
            </a:r>
            <a:r>
              <a:rPr b="1" lang="en-GB" sz="1200" spc="-1" strike="noStrike">
                <a:solidFill>
                  <a:srgbClr val="000000"/>
                </a:solidFill>
                <a:latin typeface="Calibri"/>
              </a:rPr>
              <a:t>state entities </a:t>
            </a:r>
            <a:r>
              <a:rPr b="0" lang="en-GB" sz="1200" spc="-1" strike="noStrike">
                <a:solidFill>
                  <a:srgbClr val="000000"/>
                </a:solidFill>
                <a:latin typeface="Calibri"/>
              </a:rPr>
              <a:t>are assurances provided by the importing State authorities that the ammunition to be transferred will only be used for the stated end-use and by the stated end user. Such documents should also contain specific clauses on the potential re-export of the transferred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UCs for transfer to </a:t>
            </a:r>
            <a:r>
              <a:rPr b="1" lang="en-GB" sz="1200" spc="-1" strike="noStrike">
                <a:solidFill>
                  <a:srgbClr val="000000"/>
                </a:solidFill>
                <a:latin typeface="Calibri"/>
              </a:rPr>
              <a:t>private entities </a:t>
            </a:r>
            <a:r>
              <a:rPr b="0" lang="en-GB" sz="1200" spc="-1" strike="noStrike">
                <a:solidFill>
                  <a:srgbClr val="000000"/>
                </a:solidFill>
                <a:latin typeface="Calibri"/>
              </a:rPr>
              <a:t>are assurances provided by the commercial importer that the ammunition to be transferred will only be used for the stated end-use and by the stated end-u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an EUC should vary depending on the nature of the end-user, (state entity or private e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B35B-B911-42C4-9333-1381A466CE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3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CONTENTS OF A TYPICAL EUC (a)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3:40 states the contents of an EUC (for both States and private ent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a slightly different emphasis or requirement on some of the elements, depending on which type is to be appli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 general though, some of the key components of an EUC ar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e of issu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ailed description of the ammunition to be exported 1) type, 2) model, 3) calibre, 4) quantity, 5) lot or batch numbers and 6) valu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untry of final destination of the goods to be exporte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scription of the end-use of the goods to be exporte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surances that the ammunition will only be used by the end-user</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surances that the ammunition will be used only for the stated end-us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surances that re-export of imported ammunition can only take place after receiving a written authorization from the exporting country, unless the exporting country decides to transfer that authority to the export licencing authorities of the importing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F5D6-D46C-4791-A30B-B50DD29542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3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CONTENTS OF A TYPICAL EUC (b)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tails of the exporter, including name, position, business name, address, phone, fax, email and website (if availabl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ation about the end-user, including name, position, business name, address, phone, fax, e-mail and website (if available). In the case of an export to a firm, which retails ammunition on its national market, the firm should be regarded as the end-us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riginal signature of the end-user (a legally certified signature may be used when using an electronically issued EU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ertification by the relevant governmental authorities, according to national practice, as to the authenticity of the end-user, including the date, name, position, business name, address, phone, fax, e-mail, website (if available), and authorized signature of the authorizing official (a legally certified signature may be used when using an electronically issued EUC)</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unique register number and the duration of the end-user certific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ation on transit points (if any). If these elements are not known at the time of the EUC development, they should be notified prior to the expor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clause allowing the exporting State to carry out, upon its request, on-site inspections of the transferred ammunition, particularly in the case of production capacity transf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3196-FF58-4EB3-B4C1-8458F050FB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FORGERIE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orged EUC is totally bogu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ake EUC uses real information and credentials, but is not signed legally on behalf of the stated End U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shall be designed in order to prevent forgery. When provided by State authorities, an EUC should be issued on a pre-printed form or on letterhead paper. As a minimum alternative, an EUC could be issued on a letterhead paper of the end-u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UC may also be produced by the authorities on special paper, such as banknote-quality paper, with an individual reference num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orting State shall only accept EUCs that meet those requirements.  The importing State shall only issue EUCs that meet those requir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rder to reduce clandestine deliveries, end user certificates should be carefully studied both in terms of form, content and authorisation. But since there is no standardised end user certificate, such documentation comes in a variety of forms with very simplistic formats sufficing for the transfer of millions of rounds of ammunition or tens of thousands of assault rifles ostensibly to countries bordering embargoed destinations or conflict z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 reports have noted the issuance of such crude documentation by actors within a number of states, such as Burkino Faso and Togo to obtain weaponry for embargoed destinations like the rebel UNITA group in Ango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ack of a standardised format, with either barcodes or watermarks make it more difficult for arms export licencing officials and customs officers to easily identify fake EUCs or those subject to abuse in one form or another. The simplicity of certain EUCs lend themselves to forgery and unauthorised distribution. They can also hinder any verification procedures that arms export licencing officers attempt to carry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DF56-65E9-4293-A369-8D69309E58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LED DISCUSSION: (1 SLIDE, 1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TRUCTOR-LED DISCUSSION (1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should now lead a discussion into EUCs and the potentially for abuse and forgery of these documents, or alternatively AW to develop this lesson pack fur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BBD4-9494-4577-8D26-5B19C07EE8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6677-DF23-43AD-8CBE-184632B6C8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B1C19-3AF3-4265-A4DC-9CA526114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C2EAB-26B2-4B4B-BA55-20B33CFF7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75232-C3B4-49F4-9CC1-A802E5304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C3A34-E745-4FFE-8E5A-E8BF6425A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3B264-9B60-4784-8F82-543C2539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9D78-8035-4B54-8E35-664A8D39C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FFC6-99D3-48CB-953C-950D5B45A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E967-8677-46D5-9D8D-D1737E463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7C072-86CD-4C21-9494-F9111078F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4416-DD10-4E32-A217-F656FF723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4B55F-5FC7-4CF7-A16B-76FED9A8F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71F2-6F8F-4EB8-A75F-453403CEA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B26B-684D-479F-BBEA-A469F6118C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 User Certificates (EUC)</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39AD1D4E-A91B-485C-AD1C-5D71622FAEA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irements</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C required prior to approval of export licenc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ing state to provide guidanc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to minimise number of officials authorised to sign/stamp EUC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ing State to ensure EUC contains minimum information requirement as per IATG 03:40</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UC shall not be used for more than one transac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igorous and thorough end user verification</a:t>
            </a:r>
            <a:endParaRPr b="0" lang="en-US" sz="2400" spc="-1" strike="noStrike">
              <a:solidFill>
                <a:srgbClr val="000000"/>
              </a:solidFill>
              <a:latin typeface="Arial"/>
            </a:endParaRPr>
          </a:p>
        </p:txBody>
      </p:sp>
      <p:sp>
        <p:nvSpPr>
          <p:cNvPr id="5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FB0419BB-7118-47FC-BAAF-AE02AF1B61E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EUCs are of  2 type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s for transfer to </a:t>
            </a:r>
            <a:r>
              <a:rPr b="1" lang="en-US" sz="2400" spc="-1" strike="noStrike" u="sng">
                <a:solidFill>
                  <a:srgbClr val="000000"/>
                </a:solidFill>
                <a:uFillTx/>
                <a:latin typeface="Arial"/>
              </a:rPr>
              <a:t>states</a:t>
            </a:r>
            <a:r>
              <a:rPr b="0" lang="en-US" sz="2400" spc="-1" strike="noStrike">
                <a:solidFill>
                  <a:srgbClr val="000000"/>
                </a:solidFill>
                <a:latin typeface="Arial"/>
              </a:rPr>
              <a:t> ent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s for transfer to </a:t>
            </a:r>
            <a:r>
              <a:rPr b="1" lang="en-US" sz="2400" spc="-1" strike="noStrike" u="sng">
                <a:solidFill>
                  <a:srgbClr val="000000"/>
                </a:solidFill>
                <a:uFillTx/>
                <a:latin typeface="Arial"/>
              </a:rPr>
              <a:t>private</a:t>
            </a:r>
            <a:r>
              <a:rPr b="0" lang="en-US" sz="2400" spc="-1" strike="noStrike">
                <a:solidFill>
                  <a:srgbClr val="000000"/>
                </a:solidFill>
                <a:latin typeface="Arial"/>
              </a:rPr>
              <a:t> entitie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AC533013-CF0B-4CCF-B2E1-735961ABDE8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s of a Typical EUC (a)</a:t>
            </a:r>
            <a:endParaRPr b="1" lang="en-US" sz="3600" spc="-1" strike="noStrike">
              <a:solidFill>
                <a:srgbClr val="000000"/>
              </a:solidFill>
              <a:latin typeface="Arial"/>
            </a:endParaRPr>
          </a:p>
        </p:txBody>
      </p:sp>
      <p:sp>
        <p:nvSpPr>
          <p:cNvPr id="60" name=""/>
          <p:cNvSpPr txBox="1"/>
          <p:nvPr/>
        </p:nvSpPr>
        <p:spPr>
          <a:xfrm>
            <a:off x="761760" y="1295280"/>
            <a:ext cx="7924680" cy="4525920"/>
          </a:xfrm>
          <a:prstGeom prst="rect">
            <a:avLst/>
          </a:prstGeom>
          <a:noFill/>
          <a:ln w="0">
            <a:noFill/>
          </a:ln>
        </p:spPr>
        <p:txBody>
          <a:bodyPr anchor="t">
            <a:normAutofit fontScale="98000"/>
          </a:bodyPr>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 (A):</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of issue and detailed description of ammunition</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y of final destination of goods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the end-us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s that ammunition will only be used by the end-us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s the ammunition will be used only for the stated end-us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rances that re-export of imported ammunition can only take place after written authorization </a:t>
            </a:r>
            <a:endParaRPr b="0" lang="en-US" sz="2400" spc="-1" strike="noStrike">
              <a:solidFill>
                <a:srgbClr val="000000"/>
              </a:solidFill>
              <a:latin typeface="Arial"/>
            </a:endParaRPr>
          </a:p>
        </p:txBody>
      </p:sp>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313CE0B9-EE89-4D32-A193-7900E4DB373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ents of a Typical EUC (b)</a:t>
            </a:r>
            <a:endParaRPr b="1" lang="en-US" sz="3600" spc="-1" strike="noStrike">
              <a:solidFill>
                <a:srgbClr val="000000"/>
              </a:solidFill>
              <a:latin typeface="Arial"/>
            </a:endParaRPr>
          </a:p>
        </p:txBody>
      </p:sp>
      <p:sp>
        <p:nvSpPr>
          <p:cNvPr id="63" name=""/>
          <p:cNvSpPr txBox="1"/>
          <p:nvPr/>
        </p:nvSpPr>
        <p:spPr>
          <a:xfrm>
            <a:off x="761760" y="13716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 (B):</a:t>
            </a:r>
            <a:endParaRPr b="0" lang="en-US" sz="2800" spc="-1" strike="noStrike">
              <a:solidFill>
                <a:srgbClr val="000000"/>
              </a:solidFill>
              <a:latin typeface="Arial"/>
            </a:endParaRPr>
          </a:p>
          <a:p>
            <a:pPr lvl="2" marL="74304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e expor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end-us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signature of the end-us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ion by the relevant governmental authorities as to the authenticity of the end-u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ique register number and the duration Information on transit points (if an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use allowing exporting State to conduct on-site inspections of the transferred ammunition</a:t>
            </a:r>
            <a:endParaRPr b="0" lang="en-US" sz="2400" spc="-1" strike="noStrike">
              <a:solidFill>
                <a:srgbClr val="000000"/>
              </a:solidFill>
              <a:latin typeface="Arial"/>
            </a:endParaRPr>
          </a:p>
        </p:txBody>
      </p:sp>
      <p:sp>
        <p:nvSpPr>
          <p:cNvPr id="6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DE9311A0-FE54-4478-B059-774E7848A9B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geries and Fakes</a:t>
            </a:r>
            <a:endParaRPr b="1" lang="en-US" sz="36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7" name="Picture 2" descr=""/>
          <p:cNvPicPr/>
          <p:nvPr/>
        </p:nvPicPr>
        <p:blipFill>
          <a:blip r:embed="rId1"/>
          <a:stretch/>
        </p:blipFill>
        <p:spPr>
          <a:xfrm>
            <a:off x="2209680" y="1179360"/>
            <a:ext cx="4800600" cy="4627800"/>
          </a:xfrm>
          <a:prstGeom prst="rect">
            <a:avLst/>
          </a:prstGeom>
          <a:ln w="0">
            <a:noFill/>
          </a:ln>
        </p:spPr>
      </p:pic>
      <p:sp>
        <p:nvSpPr>
          <p:cNvPr id="6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4DC9E6F3-A299-47D7-8BDE-D14656F35B9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TextBox 3"/>
          <p:cNvSpPr/>
          <p:nvPr/>
        </p:nvSpPr>
        <p:spPr>
          <a:xfrm>
            <a:off x="5692680" y="2125800"/>
            <a:ext cx="24386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address for correspondence, no fax/phone number</a:t>
            </a:r>
            <a:endParaRPr b="0" lang="en-US" sz="1200" spc="-1" strike="noStrike">
              <a:solidFill>
                <a:srgbClr val="000000"/>
              </a:solidFill>
              <a:latin typeface="Arial"/>
            </a:endParaRPr>
          </a:p>
        </p:txBody>
      </p:sp>
      <p:sp>
        <p:nvSpPr>
          <p:cNvPr id="70" name="TextBox 6"/>
          <p:cNvSpPr/>
          <p:nvPr/>
        </p:nvSpPr>
        <p:spPr>
          <a:xfrm>
            <a:off x="5692680" y="1295280"/>
            <a:ext cx="16765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ministerial or government logo</a:t>
            </a:r>
            <a:endParaRPr b="0" lang="en-US" sz="1200" spc="-1" strike="noStrike">
              <a:solidFill>
                <a:srgbClr val="000000"/>
              </a:solidFill>
              <a:latin typeface="Arial"/>
            </a:endParaRPr>
          </a:p>
        </p:txBody>
      </p:sp>
      <p:sp>
        <p:nvSpPr>
          <p:cNvPr id="71" name="TextBox 7"/>
          <p:cNvSpPr/>
          <p:nvPr/>
        </p:nvSpPr>
        <p:spPr>
          <a:xfrm>
            <a:off x="5692680" y="3022560"/>
            <a:ext cx="24386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nk space instead of fixed individual certification number</a:t>
            </a:r>
            <a:endParaRPr b="0" lang="en-US" sz="1200" spc="-1" strike="noStrike">
              <a:solidFill>
                <a:srgbClr val="000000"/>
              </a:solidFill>
              <a:latin typeface="Arial"/>
            </a:endParaRPr>
          </a:p>
        </p:txBody>
      </p:sp>
      <p:sp>
        <p:nvSpPr>
          <p:cNvPr id="72" name="TextBox 8"/>
          <p:cNvSpPr/>
          <p:nvPr/>
        </p:nvSpPr>
        <p:spPr>
          <a:xfrm>
            <a:off x="5692680" y="3886200"/>
            <a:ext cx="24386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specific broker or agent named as facilitating the transfer</a:t>
            </a:r>
            <a:endParaRPr b="0" lang="en-US" sz="1200" spc="-1" strike="noStrike">
              <a:solidFill>
                <a:srgbClr val="000000"/>
              </a:solidFill>
              <a:latin typeface="Arial"/>
            </a:endParaRPr>
          </a:p>
        </p:txBody>
      </p:sp>
      <p:sp>
        <p:nvSpPr>
          <p:cNvPr id="73" name="TextBox 9"/>
          <p:cNvSpPr/>
          <p:nvPr/>
        </p:nvSpPr>
        <p:spPr>
          <a:xfrm>
            <a:off x="5692680" y="4572000"/>
            <a:ext cx="243864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cument is signed by the highest-ranking official within the MOD, making it more politically sensitive</a:t>
            </a:r>
            <a:endParaRPr b="0" lang="en-US" sz="1200" spc="-1" strike="noStrike">
              <a:solidFill>
                <a:srgbClr val="000000"/>
              </a:solidFill>
              <a:latin typeface="Arial"/>
            </a:endParaRPr>
          </a:p>
        </p:txBody>
      </p:sp>
      <p:sp>
        <p:nvSpPr>
          <p:cNvPr id="74" name="TextBox 10"/>
          <p:cNvSpPr/>
          <p:nvPr/>
        </p:nvSpPr>
        <p:spPr>
          <a:xfrm>
            <a:off x="2362320" y="5329080"/>
            <a:ext cx="327636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me-made EUC to cover 2,200,000 rounds of 5.56mm ammunition</a:t>
            </a:r>
            <a:endParaRPr b="0" lang="en-US" sz="1100" spc="-1" strike="noStrike">
              <a:solidFill>
                <a:srgbClr val="000000"/>
              </a:solidFill>
              <a:latin typeface="Arial"/>
            </a:endParaRPr>
          </a:p>
        </p:txBody>
      </p:sp>
      <p:cxnSp>
        <p:nvCxnSpPr>
          <p:cNvPr id="75" name="Straight Arrow Connector 11"/>
          <p:cNvCxnSpPr>
            <a:stCxn id="69" idx="1"/>
          </p:cNvCxnSpPr>
          <p:nvPr/>
        </p:nvCxnSpPr>
        <p:spPr>
          <a:xfrm flipH="1" flipV="1">
            <a:off x="3885840" y="1980360"/>
            <a:ext cx="1807200" cy="376920"/>
          </a:xfrm>
          <a:prstGeom prst="straightConnector1">
            <a:avLst/>
          </a:prstGeom>
          <a:ln w="38160">
            <a:solidFill>
              <a:srgbClr val="ff0000"/>
            </a:solidFill>
            <a:miter/>
            <a:tailEnd len="med" type="triangle" w="med"/>
          </a:ln>
        </p:spPr>
      </p:cxnSp>
      <p:cxnSp>
        <p:nvCxnSpPr>
          <p:cNvPr id="76" name="Straight Arrow Connector 16"/>
          <p:cNvCxnSpPr/>
          <p:nvPr/>
        </p:nvCxnSpPr>
        <p:spPr>
          <a:xfrm flipH="1" flipV="1">
            <a:off x="2818800" y="2168280"/>
            <a:ext cx="2873880" cy="1041840"/>
          </a:xfrm>
          <a:prstGeom prst="straightConnector1">
            <a:avLst/>
          </a:prstGeom>
          <a:ln w="38160">
            <a:solidFill>
              <a:srgbClr val="ff0000"/>
            </a:solidFill>
            <a:miter/>
            <a:tailEnd len="med" type="triangle" w="med"/>
          </a:ln>
        </p:spPr>
      </p:cxnSp>
      <p:cxnSp>
        <p:nvCxnSpPr>
          <p:cNvPr id="77" name="Straight Arrow Connector 19"/>
          <p:cNvCxnSpPr/>
          <p:nvPr/>
        </p:nvCxnSpPr>
        <p:spPr>
          <a:xfrm flipH="1" flipV="1">
            <a:off x="4037760" y="3021840"/>
            <a:ext cx="1654920" cy="1051560"/>
          </a:xfrm>
          <a:prstGeom prst="straightConnector1">
            <a:avLst/>
          </a:prstGeom>
          <a:ln w="38160">
            <a:solidFill>
              <a:srgbClr val="ff0000"/>
            </a:solidFill>
            <a:miter/>
            <a:tailEnd len="med" type="triangle" w="med"/>
          </a:ln>
        </p:spPr>
      </p:cxnSp>
      <p:cxnSp>
        <p:nvCxnSpPr>
          <p:cNvPr id="78" name="Straight Arrow Connector 21"/>
          <p:cNvCxnSpPr/>
          <p:nvPr/>
        </p:nvCxnSpPr>
        <p:spPr>
          <a:xfrm flipH="1" flipV="1">
            <a:off x="4609440" y="4494960"/>
            <a:ext cx="1083240" cy="453240"/>
          </a:xfrm>
          <a:prstGeom prst="straightConnector1">
            <a:avLst/>
          </a:prstGeom>
          <a:ln w="38160">
            <a:solidFill>
              <a:srgbClr val="ff0000"/>
            </a:solidFill>
            <a:miter/>
            <a:tailEnd len="med" type="triangle" w="med"/>
          </a:ln>
        </p:spPr>
      </p:cxnSp>
      <p:cxnSp>
        <p:nvCxnSpPr>
          <p:cNvPr id="79" name="Straight Arrow Connector 23"/>
          <p:cNvCxnSpPr/>
          <p:nvPr/>
        </p:nvCxnSpPr>
        <p:spPr>
          <a:xfrm flipH="1" flipV="1">
            <a:off x="3809520" y="1524960"/>
            <a:ext cx="1890000" cy="108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ctor-Led Discussion</a:t>
            </a:r>
            <a:endParaRPr b="1" lang="en-US" sz="36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0833E8F9-F3BC-45EE-BC42-D42ECC6062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T03 Slide </a:t>
            </a:r>
            <a:fld id="{2FAF1CE6-F8C8-442C-BB12-8DA6C1E19BA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2:55:39Z</dcterms:modified>
  <cp:revision>41</cp:revision>
  <dc:subject/>
  <dc:title>Slide 1</dc:title>
</cp:coreProperties>
</file>