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CD11-374D-4009-97D2-7C3DF4B7AF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AMMUNITION ACCOUNTING: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ammunition accounting system offers the ability to rapidly detect inaccuracies, loss, theft, leakage or diversion from the national stockpile.  It is also a key control measure for effective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effective stock accounting systems significantly increase the risks of prolif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y way of defi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ccounting’ refers to information management systems and associated operating procedures that are designed to record, numerically monitor, verify, issue and receive ammunition in organisations and stockpi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AF36-2CCB-416D-8431-A2964697C0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Lot</a:t>
            </a:r>
            <a:r>
              <a:rPr b="0" lang="en-GB" sz="1200" spc="-1" strike="noStrike">
                <a:solidFill>
                  <a:srgbClr val="000000"/>
                </a:solidFill>
                <a:latin typeface="Calibri"/>
              </a:rPr>
              <a:t>’ refers to a predetermined quantity of ammunition or components which is as homogeneous as possible and under similar conditions may be expected to give uniform performance.  A Lot is normally manufactured from the same raw materials, using the same production technique and in the same production ru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a:t>
            </a:r>
            <a:r>
              <a:rPr b="0" lang="en-GB" sz="1200" spc="-1" strike="noStrike">
                <a:solidFill>
                  <a:srgbClr val="000000"/>
                </a:solidFill>
                <a:latin typeface="Calibri"/>
              </a:rPr>
              <a:t>’ refers to a discrete quantity of ammunition which is assembled from two or more Lotted components (one of which will be the Primary Governing Component), is as homogeneous as possible and under similar conditions may be expected to give uniform perform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primary governing component</a:t>
            </a:r>
            <a:r>
              <a:rPr b="0" lang="en-GB" sz="1200" spc="-1" strike="noStrike">
                <a:solidFill>
                  <a:srgbClr val="000000"/>
                </a:solidFill>
                <a:latin typeface="Calibri"/>
              </a:rPr>
              <a:t>’ refers to the component in a Batch, which is considered to be of major importance to the correct functioning of the 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 key identity</a:t>
            </a:r>
            <a:r>
              <a:rPr b="0" lang="en-GB" sz="1200" spc="-1" strike="noStrike">
                <a:solidFill>
                  <a:srgbClr val="000000"/>
                </a:solidFill>
                <a:latin typeface="Calibri"/>
              </a:rPr>
              <a:t>’ is a commonly used term, which is used to identify a particular Lot </a:t>
            </a:r>
            <a:r>
              <a:rPr b="0" lang="en-GB" sz="1200" spc="-1" strike="noStrike" u="sng">
                <a:solidFill>
                  <a:srgbClr val="000000"/>
                </a:solidFill>
                <a:uFillTx/>
                <a:latin typeface="Calibri"/>
              </a:rPr>
              <a:t>or</a:t>
            </a:r>
            <a:r>
              <a:rPr b="0" lang="en-GB" sz="1200" spc="-1" strike="noStrike">
                <a:solidFill>
                  <a:srgbClr val="000000"/>
                </a:solidFill>
                <a:latin typeface="Calibri"/>
              </a:rPr>
              <a:t> Batch of ammunition.  It is sometimes just referred to as the ‘</a:t>
            </a:r>
            <a:r>
              <a:rPr b="1" lang="en-GB" sz="1200" spc="-1" strike="noStrike">
                <a:solidFill>
                  <a:srgbClr val="000000"/>
                </a:solidFill>
                <a:latin typeface="Calibri"/>
              </a:rPr>
              <a:t>BK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B920-F8A8-489E-A710-9E83132C6B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WORKED EXAMPLES OF HOW THE LOTTING AND BATCHING SYSTEM WORK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pplication of Lotting and batching varies depending on what the type of ammunition is.  For example, small arms rounds are managed differently from, say, mortar bombs in the way that lot and batch numbers are applied.  Sometime the propellant will be the governing component, sometimes it won’t.  The finer details of exactly how every type of ammunition is Lotted and batched is well outside the scope of this lesson.  Different countries will have their ow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owever, here is a worked example to illustrate the poi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components that consist of one or more factory pieces (i.e. shell bodies with no explosive content) are produced as empty Lots, each Lot being considered to be homogeneous. Empty Lots should be given empty Lot numbers for identification purposes (i.e. if metallurgical failure is responsible for an ammunition accident, then all filled ammunition made from that particular Lot may be identified and appropriate remedial action tak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high explosive and propellants are manufactured from individual constituent materials, and the final product should be given a unique Lot number, which may be considered as the primary governing component when it is used to fill empty ammunition components (i.e. shell bod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Lots of components become filled Lots when they are filled with explosive, propellant or pyrotechnic compositions. The explosive used to fill an empty component Lot should also be from a homogeneous Lot of explosive. The filled components should then be given a unique, filled Lot number for future identification and records kept of the Lot numbers of the empty component and the explosive used to make up the filled L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mmunition is assembled from two or more critical components, the two most critical components should be nominated as the Primary and Secondary Governing Components, and the item should be Batched. The Primary Governing Component should be used to determine the Batch size.  For example, if there were 500 fuzes available on the shelf at the manufacturer’s production facility, but only 100 filled shell bodies – and the filled shell bodies are the primary governing component, then the batch would be of 100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s an additional simplified example, consider a quantity of manufactured ball and tracer ammunition, for example 4B/1T (based on the British system for allocating lot and batch numbe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ll rounds may have been produced in June 2010 and have a lot number RG 06-10 </a:t>
            </a:r>
            <a:r>
              <a:rPr b="0" lang="en-GB" sz="1200" spc="-1" strike="noStrike" u="sng">
                <a:solidFill>
                  <a:srgbClr val="000000"/>
                </a:solidFill>
                <a:uFillTx/>
                <a:latin typeface="Calibri"/>
              </a:rPr>
              <a:t>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cer rounds may have been produced in July 2011 and have a lot number RG 07-11 </a:t>
            </a:r>
            <a:r>
              <a:rPr b="0" lang="en-GB" sz="1200" spc="-1" strike="noStrike" u="sng">
                <a:solidFill>
                  <a:srgbClr val="000000"/>
                </a:solidFill>
                <a:uFillTx/>
                <a:latin typeface="Calibri"/>
              </a:rPr>
              <a:t>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wo lots may have been assembled into linked ammunition in January 2012, and therefore be given a batch number of RG 01-12 </a:t>
            </a:r>
            <a:r>
              <a:rPr b="0" lang="en-GB" sz="1200" spc="-1" strike="noStrike" u="sng">
                <a:solidFill>
                  <a:srgbClr val="000000"/>
                </a:solidFill>
                <a:uFillTx/>
                <a:latin typeface="Calibri"/>
              </a:rPr>
              <a:t>002</a:t>
            </a:r>
            <a:r>
              <a:rPr b="0" lang="en-GB" sz="1200" spc="-1" strike="noStrike">
                <a:solidFill>
                  <a:srgbClr val="000000"/>
                </a:solidFill>
                <a:latin typeface="Calibri"/>
              </a:rPr>
              <a:t>.  The manufacturer, and probably the national ammunition management organisation, will have details of the individual lots for each of the ball and tracer, and this will be trackable to the batch of 4B/1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there were a series of performance failures of all ball ammunition using RG 06-10 </a:t>
            </a:r>
            <a:r>
              <a:rPr b="0" lang="en-GB" sz="1200" spc="-1" strike="noStrike" u="sng">
                <a:solidFill>
                  <a:srgbClr val="000000"/>
                </a:solidFill>
                <a:uFillTx/>
                <a:latin typeface="Calibri"/>
              </a:rPr>
              <a:t>001</a:t>
            </a:r>
            <a:r>
              <a:rPr b="0" lang="en-GB" sz="1200" spc="-1" strike="noStrike">
                <a:solidFill>
                  <a:srgbClr val="000000"/>
                </a:solidFill>
                <a:latin typeface="Calibri"/>
              </a:rPr>
              <a:t>, then other stocks of the ‘all ball’ ammunition, plus this stock of the 4B/1T could be managed through a ban or constrai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finish on this ‘crash course’ on Lotting and batching</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ose stockpile management organisations that do not hold the technical data above for each item of ammunition, the only short term solution shall be to conduct a 100% stock take of all ammunition and record all markings on that ammunition and its packaging. Informed decisions shall then be taken about instigating a Lotting and Batching system, based on the principles of logistic Batching, which is integrated with the ammunition accounting system and that allows the ammunition managers a degree of visibility of the entire stockpile by individual ammunition type. This may be a massive task, dependent on the stockpile size, but it is the only way to gain effective control over the ammunition and to reduce the inherent explosive risk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EF5A-1B0A-42D0-888C-4E121E5F8B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ITS OF SPACE: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UNITS OF SPAC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ana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ck location can be simplified if a “Unit of Space” (UOS) concept is adop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generally assumed for planning purposes that the volume of the majority of pallets or other ammunition 'unit load containers' equates to one square metre, with an average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pproach simplifies ammunition storage planning, as the number of UOS within an explosive storehouse may be easily calculated by a simple volume measur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short, a UOS is essentially (if you conform to norms in ammunition management ) a 1 square meter of space on the ground, which is 1 meter high, and has a notional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imilar approach can be used for un-palletised ammunition, but it is then essential that the exact dimensions of ammunition outer packaging are kn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a building – an Explosive Storehouse (ESH), a small amount of space needs to be deducted to allow f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ximum safe stacking height for the ammunition, (usually 3 or 4 metres if palletis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sles wide enough for the type of mechanical handling equipment being used, (usually at least 500m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600mm air gap from the front wall of the ESH to ammunition stack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150mm air gap between the exterior walls of the ESH and the ammunition stac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maining floor space is then available for the first layer of pallets. As a UOS must be an integer, so the fractions of metres are discounted.  This has the benefit of increasing free air space within the ESH and hence improves air circ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ample: A simplified floor plan of a notional Explosive Storehouse is shown on the screen</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ilding interior measures 10 x 6 met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is example, the depot manager has decided to have a 1 meter air gap between the ammunition and the walls.  This is greater than the minimum air gap distances stipulated in IATG 03:10, however he wants to be able to get his mechanical handling equipment around the building.  He has also decided to have a 1 meter wide aisle up the middle, for the same rea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the available 60 UOS potentially available, he depot manager actually has 35 UOS that he is prepared to allocate to storage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Grid Locator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by the simple expediency of giving each UOS a number, that it is easy to state exactly which UOS is which.  This could also be done using an alpha-numeric system, for example A1 to A7, B1 to B7, C1 to C7,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ill ease management of the stock in each ESH as things should, in theory, be easier to f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7E78-C1C9-487E-B493-A285DFFA99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CK TALLY CARD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TACK TALLY CARD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 UOS might reasonably be assumed to be an area of ground measuring 1 square meter, clearly some systems may be bigger than this.  For example a large missile may be 3 meters long.  Clearly, this will occupy at least 3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 a quick defini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is the amount of ammunition that is contained within a particular area within an explosive storehou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range from a single ammunition box within a ground level Unit of Space (UOS) of 1 square meter, to a block of many pallets stored vertically over a number of ground level UO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bout Stack Tally Card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e of stack tally cards is an effective measure that supports accurate ammunition accounting, assists in stock taking and deters theft. Each stack of ammunition should have a tally card(s) attached to it that records the following information for that particular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ck tally cards should be placed in plastic envelopes or suitable substitutes to prevent deterioration of the forms and to protect them from mois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 form is completed, or the last lot or batch of that particular ammunition has been issued, then the stack tally card should be kept for at least two years by the ammunition depot's stock taking department. This allows future reconciliation of ammunition accounts should a discrepancy occur in the future during stock taking or aud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ample Stack Tally Car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mple stack tally card is provided in IATG 03:10.  This is also shown on the scre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tally card should record the following inform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id locator reference to identify where in the building or area it i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Storehouse (ESH) number or other site identification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ll description of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Descriptive Asset Codes (ADAC) number or similar asset code syste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 and/or batch number, (a separate card should be used for each lot and/or batch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condition code, eg 'serviceable', 'constrain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cord of transactions for that stack by quantity, lot/batch number and da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ssue or receipt voucher reference for each trans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365C-CAE7-4B9A-8395-C42D640999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9129-846A-4CE6-9200-057F8FE05C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AMMUNITION STOCKPILE: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YPES OF AMMUNITION STOCKPI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ay be a range of separate ammunition and explosive stockpiles within a country.  These may variously be under the control of different organisations such as: the police, the active military, the reserve military, border guards, ammunition production company holdings, and potentially other organis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of these organisational stockpiles will probably have one or more of the following generic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perational ammunition and explosives</a:t>
            </a:r>
            <a:r>
              <a:rPr b="0" lang="en-GB" sz="1200" spc="-1" strike="noStrike">
                <a:solidFill>
                  <a:srgbClr val="000000"/>
                </a:solidFill>
                <a:latin typeface="Calibri"/>
              </a:rPr>
              <a:t>:  The ammunition and explosives necessary to support the routine operations of military, police and other security agencies over an agreed period of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ar reserve ammunition and explosives</a:t>
            </a:r>
            <a:r>
              <a:rPr b="0" lang="en-GB" sz="1200" spc="-1" strike="noStrike">
                <a:solidFill>
                  <a:srgbClr val="000000"/>
                </a:solidFill>
                <a:latin typeface="Calibri"/>
              </a:rPr>
              <a:t>:  The ammunition and explosives necessary to support the operations of military, police and other security agencies during external conflict or general war over an agreed period of time.  30 days at intensive expenditure rates is often used as the time peri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ammunition and explosives</a:t>
            </a:r>
            <a:r>
              <a:rPr b="0" lang="en-GB" sz="1200" spc="-1" strike="noStrike">
                <a:solidFill>
                  <a:srgbClr val="000000"/>
                </a:solidFill>
                <a:latin typeface="Calibri"/>
              </a:rPr>
              <a:t>:  The ammunition and explosives necessary to support the routine training of military, police and other security agencies. This will usually be an agreed percentage of the war reserve holdings.  15% would not be unreasonable, dependent on the training activities and frequ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erimental ammunition and explosives</a:t>
            </a:r>
            <a:r>
              <a:rPr b="0" lang="en-GB" sz="1200" spc="-1" strike="noStrike">
                <a:solidFill>
                  <a:srgbClr val="000000"/>
                </a:solidFill>
                <a:latin typeface="Calibri"/>
              </a:rPr>
              <a:t>:  This type of ammunition is usually only held by those nations with a research, development and production capability.  These holdings will be minimal, but must be included for intellectual accura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roduction ammunition</a:t>
            </a:r>
            <a:r>
              <a:rPr b="0" lang="en-GB" sz="1200" spc="-1" strike="noStrike">
                <a:solidFill>
                  <a:srgbClr val="000000"/>
                </a:solidFill>
                <a:latin typeface="Calibri"/>
              </a:rPr>
              <a:t>:  This type of ammunition is usually only held by those nations with a production capability. The ammunition and explosives that have been produced and are awaiting sale under the control of the manufacturer. These may be available to the military during general war but would not form part of the war reserve as their availability cannot be guarante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mmunition and explosives awaiting disposal</a:t>
            </a:r>
            <a:r>
              <a:rPr b="0" lang="en-GB" sz="1200" spc="-1" strike="noStrike">
                <a:solidFill>
                  <a:srgbClr val="000000"/>
                </a:solidFill>
                <a:latin typeface="Calibri"/>
              </a:rPr>
              <a:t>:  The ammunition and explosives that have been identified as unserviceable, unstable or surplus to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inventory management system should ensure that the type of ammunition stockpile is clearly defined.  Detailed technical information on the quantity, location and condition of the ammunition itself, (by specific type), should be readily available for the stock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954F-45A0-4FB5-9CE2-A04D80CAD1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30 secon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O stands for “Attractive to Criminal and Terrorist Organis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It is ammunition that would significantly increase criminal or terrorist capabilit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ACTO ammunition should be subject to more stringent security than other ammunition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D665-27AE-42A5-B109-5DD64CEAA2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ITEMS THAT ARE CONSDIERED TO BE ‘ACT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ir Defence Systems (MANPADS):  These can be sued for attacks on civilian aircraf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onators:  These can be used for initiation of Improvised Explosive Devices (IEDs). They are attractive because detonators are strictly controlled in the civilian explosives mark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explosive:  This can be used in main charges for IEDs, especially as it is likely to be more powerful than homemade or commercial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nti-tank systems:  These can be used for attacks on VIP vehic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nd grenades:  These are a concealable weapon that can be used in confined spa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mall Arms Ammunition:  This is particularly likely to be used for close quarter assassin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5578-917F-4D24-88D2-0A985C4C61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EXAMPLE OF A MANPAD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PADS are man portable air defence systems.  These are especially attractive as they are relatively small and simple but have the potential to produce extreme results which may be attractive to terrorist organisations in particular.  This is a shoulder-launched version of Russian origin.  </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86BF-9215-483B-BA4A-B38CBC338E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ACCOUNTING REQUIREMENT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ounting relies on the establishment and maintenance of accurate reco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rds should co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pecific type of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or batch number (we will come onto Lotting and batching short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act location where the items are stored, for example which building within which part of an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we had a stock of hand held parachute flare rockets the details might be something l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e:</a:t>
            </a:r>
            <a:r>
              <a:rPr b="0" lang="en-GB" sz="1200" spc="-1" strike="noStrike">
                <a:solidFill>
                  <a:srgbClr val="000000"/>
                </a:solidFill>
                <a:latin typeface="Calibri"/>
              </a:rPr>
              <a:t>	</a:t>
            </a:r>
            <a:r>
              <a:rPr b="0" lang="en-GB" sz="1200" spc="-1" strike="noStrike">
                <a:solidFill>
                  <a:srgbClr val="000000"/>
                </a:solidFill>
                <a:latin typeface="Calibri"/>
              </a:rPr>
              <a:t>Grenade, Hand, L2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y:</a:t>
            </a:r>
            <a:r>
              <a:rPr b="0" lang="en-GB" sz="1200" spc="-1" strike="noStrike">
                <a:solidFill>
                  <a:srgbClr val="000000"/>
                </a:solidFill>
                <a:latin typeface="Calibri"/>
              </a:rPr>
              <a:t>	</a:t>
            </a:r>
            <a:r>
              <a:rPr b="0" lang="en-GB" sz="1200" spc="-1" strike="noStrike">
                <a:solidFill>
                  <a:srgbClr val="000000"/>
                </a:solidFill>
                <a:latin typeface="Calibri"/>
              </a:rPr>
              <a:t>5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a:t>
            </a:r>
            <a:r>
              <a:rPr b="0" lang="en-GB" sz="1200" spc="-1" strike="noStrike">
                <a:solidFill>
                  <a:srgbClr val="000000"/>
                </a:solidFill>
                <a:latin typeface="Calibri"/>
              </a:rPr>
              <a:t>	</a:t>
            </a:r>
            <a:r>
              <a:rPr b="0" lang="en-GB" sz="1200" spc="-1" strike="noStrike">
                <a:solidFill>
                  <a:srgbClr val="000000"/>
                </a:solidFill>
                <a:latin typeface="Calibri"/>
              </a:rPr>
              <a:t>50CY 1-7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a:t>
            </a:r>
            <a:r>
              <a:rPr b="0" lang="en-GB" sz="1200" spc="-1" strike="noStrike">
                <a:solidFill>
                  <a:srgbClr val="000000"/>
                </a:solidFill>
                <a:latin typeface="Calibri"/>
              </a:rPr>
              <a:t>	</a:t>
            </a:r>
            <a:r>
              <a:rPr b="0" lang="en-GB" sz="1200" spc="-1" strike="noStrike">
                <a:solidFill>
                  <a:srgbClr val="000000"/>
                </a:solidFill>
                <a:latin typeface="Calibri"/>
              </a:rPr>
              <a:t>Storage Building 3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2FC8-81E3-4989-A998-FC8F624406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ACCOUNTING REQUIREMENTS (6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records should be kept for the following stages of an item of ammunition's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manufac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initial test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transportation and ship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depot stor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transfer to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storage at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ase of loss or thef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us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turned to ammunition depo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paired or modifi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subjected to in-service surveillance or pro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destroyed or demilitar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n-service surveillance and proof’ are outside the scope of this particular lesson, but in brief they are checks and tests which are done on items of ammunition to make sure they still perform correctly and intended and have not degraded beyond what would be expected and saf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essence, every event over the course of an items life should be entered into the account.  This will provide an audit trail of when the ammunition was and wh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me exampl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receive notification from the manufacturer of a piece of ammunition you use.  Some items may have a systematic fault, for example poorly fitted primers in 9mm cartridge cases.  However this fault only applies to a relatively small quantity of items which were made in June 2011, and they have identified that the fault does not apply to any other ammunition they have made.  They tell you that the ammunition effected is Lots ABC 06-11 </a:t>
            </a:r>
            <a:r>
              <a:rPr b="0" lang="en-GB" sz="1200" spc="-1" strike="noStrike" u="sng">
                <a:solidFill>
                  <a:srgbClr val="000000"/>
                </a:solidFill>
                <a:uFillTx/>
                <a:latin typeface="Calibri"/>
              </a:rPr>
              <a:t>002</a:t>
            </a:r>
            <a:r>
              <a:rPr b="0" lang="en-GB" sz="1200" spc="-1" strike="noStrike">
                <a:solidFill>
                  <a:srgbClr val="000000"/>
                </a:solidFill>
                <a:latin typeface="Calibri"/>
              </a:rPr>
              <a:t> to ABC 06-11 </a:t>
            </a:r>
            <a:r>
              <a:rPr b="0" lang="en-GB" sz="1200" spc="-1" strike="noStrike" u="sng">
                <a:solidFill>
                  <a:srgbClr val="000000"/>
                </a:solidFill>
                <a:uFillTx/>
                <a:latin typeface="Calibri"/>
              </a:rPr>
              <a:t>004</a:t>
            </a:r>
            <a:r>
              <a:rPr b="0" lang="en-GB" sz="1200" spc="-1" strike="noStrike">
                <a:solidFill>
                  <a:srgbClr val="000000"/>
                </a:solidFill>
                <a:latin typeface="Calibri"/>
              </a:rPr>
              <a:t>.  Fortunately, you have been accounting for ammunition appropriately, including down to Lot number.  You can therefore find out that all of Lot 003 and Lot 004 is still in depot and has not been issued.  You can therefore prevent this ammunition from being issued and know that no unit have it.  However you look at the accounts and find out that Lot </a:t>
            </a:r>
            <a:r>
              <a:rPr b="0" lang="en-GB" sz="1200" spc="-1" strike="noStrike" u="sng">
                <a:solidFill>
                  <a:srgbClr val="000000"/>
                </a:solidFill>
                <a:uFillTx/>
                <a:latin typeface="Calibri"/>
              </a:rPr>
              <a:t>002</a:t>
            </a:r>
            <a:r>
              <a:rPr b="0" lang="en-GB" sz="1200" spc="-1" strike="noStrike">
                <a:solidFill>
                  <a:srgbClr val="000000"/>
                </a:solidFill>
                <a:latin typeface="Calibri"/>
              </a:rPr>
              <a:t> has been issued to three units.  Of these, one of the units has returned all of their stock to depot, so again you know this is all secure in your storage facility.  This leaves two units who have been issued the ammunition.  You can then inform these two units that there may be a problem with this ammunition, and manage the problem accordingly.  You may choose to do this using a system of ‘bans’ and ‘constra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an be especially useful, for example you might receive a call one day – someone in a village found an item of ammunition that had fallen off a military jeep.  You should be able to identify, using the item type and lot number, the history of that type of ammunition.  If that lot is relatively new into the stockpile and has only been issued to one unit, you will have a fair idea of who lost the item from a jeep.  In this case, you may wish to liaise with the unit concerned to establish which vehicles were in that village, and thus work out more precisely who may have been there.  This may identify a re-training requirement for members of that unit on secure vehicle stowage of equipment and ammuni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another type of ammunition that has a much reduced useable life when it has been exposed to a maritime environment.  You have a quantity of this ammunition which was sent to arm a naval craft you are supporting.  This stock is duly returned to depot after the agreed time period on the ship.  You know the maritime environment shortens the useable life, so you note in the accounts, for example, that this stock has a shorter life and must be used for priority use on training exercises, along with a date when the ammunition must be withdrawn from service and offered up for dispos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8AD2-4F07-4E8C-A763-3DE0A52986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COUNTING SYSTEM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CCOUNTING SYSTEM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ither manual or computer ammunition accounting systems may be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nual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manual systems are labour intensive and time-consuming compared to computer systems, and the transmission of information between higher formations and units is slow, they have proven capability and are simple to use when individuals are appropriately trained. Their effectiveness is determined by the administrative instructions for their use and the standing operating procedures used within the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omputer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computerised ammunition accounts are more efficient and capable, they are expensive to develop, they are usually specifically designed for a particular ammunition stockpile management organisation, and they are just as reliant as the manual systems on the accuracy of the data entered i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m. They can be directly linked between the stockpile management organisation and the respective ammunition accounts at storage units.  As these types of systems show instant visibility of stock, it is possible therefore to reduce the requirement for reporting of stock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gardless of whether the system is a computer or a manual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nkages to other management systems</a:t>
            </a:r>
            <a:r>
              <a:rPr b="0" lang="en-GB" sz="1200" spc="-1" strike="noStrike">
                <a:solidFill>
                  <a:srgbClr val="000000"/>
                </a:solidFill>
                <a:latin typeface="Calibri"/>
              </a:rPr>
              <a:t>: For reasons of accounting accuracy, it is necessary to have linkages between the ammunition accounting systems and any systems that manage explosive safety and operational efficiency.  These parallel systems also need to be able to identify specific ammunition by either stockpile location or by lot/batch numb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ports and frequency</a:t>
            </a:r>
            <a:r>
              <a:rPr b="0" lang="en-GB" sz="1200" spc="-1" strike="noStrike">
                <a:solidFill>
                  <a:srgbClr val="000000"/>
                </a:solidFill>
                <a:latin typeface="Calibri"/>
              </a:rPr>
              <a:t>: Regular reports on inventory levels and condition should be made by the ammunition accounting and storage units to the stockpile management organisation.  The reporting frequency will depend on expected usage rates, and the current condition of the stockpile. It is recommended that reports should be submitted month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6151-233F-4712-9271-02A983CB29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PURPOS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uitable system for recording different groups of ammunition is essential for management of incidents, faults and performance failures - these events usually lead to a ban or constraint being placed.  This is only practicable if the limitation is placed on the same ammunition for which problems have already been encountered.  Otherwise we could end up having to ban the entire stockpile of, say, 5.56mm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est way to manage ammunition in order to achieve this objective is based around homogenous stocks that will perform in a similar way across that group.  In this sense, the group of ammunition will usually have been manufactured at the same time, using the same raw materials, using the same process and may therefore be expected to provide a uniform and similar perform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a means by which a discrete and homogenous quantity of ammunition may be identif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ystem of Lotting and Batching will provide a means of identifying all items of ammunition that are, for example: 1) filled with the same type of explosive or propellant made from the same production run with the same raw materials; or 2) contain the same component made on the same production run from the same raw materia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ther it is appropriate to use the term Lot or Batch will depend upon the complexity of the ammunition and will require tech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important for stockpile accounting.  It allows tracking and management of specific items, assuming an ammunition accounting system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 batch number, combined with an accounting system or even just accurate transportation manifests in the case of transport, are a sound method of identifying, tracking and checking ammunition stocks, so that instances of loss or theft might be easier noticed and ver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here particularly, different countries and even manufacturers may have different systems of Lotting and batch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8102-4225-4608-A243-C1D9492E85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EF2F8-1149-45A7-83AD-66C8A2BD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3B57A-315F-4C3B-A20C-52D4120F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C948A-1CEB-4E94-825E-0680A37AB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AB980-5170-4AE1-AD52-2568FEB59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19FE0-BADA-4D0E-A7F8-27D6186D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BA523-3E72-4799-B4EF-A688B7014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A7E9B-200C-42B1-BCF6-248DF2AF5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A4953-ABEB-4A15-82A3-996625026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B6B5C-DC22-4DFC-965D-60BA9C24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3C9C-6E0A-44F9-BC59-B5C32033B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988E-100D-43D3-ACBA-936CD1256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7FB1-0AE3-44CD-85CA-73B00B10E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10D4-8935-4D7B-8222-873151A787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roduction to Ammunition Accounting</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5A09D487-042D-4690-A8A2-6831C9F56D9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t</a:t>
            </a:r>
            <a:r>
              <a:rPr b="0" lang="en-GB" sz="2800" spc="-1" strike="noStrike">
                <a:solidFill>
                  <a:srgbClr val="000000"/>
                </a:solidFill>
                <a:latin typeface="Arial"/>
              </a:rPr>
              <a:t>: a homogenous quantity of ammunition or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a:t>
            </a:r>
            <a:r>
              <a:rPr b="0" lang="en-GB" sz="2800" spc="-1" strike="noStrike">
                <a:solidFill>
                  <a:srgbClr val="000000"/>
                </a:solidFill>
                <a:latin typeface="Arial"/>
              </a:rPr>
              <a:t>: a quantity of items made up from several other items, each of which will have their own Lot number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Primary Governing Component</a:t>
            </a:r>
            <a:r>
              <a:rPr b="0" lang="en-GB" sz="2800" spc="-1" strike="noStrike">
                <a:solidFill>
                  <a:srgbClr val="000000"/>
                </a:solidFill>
                <a:latin typeface="Arial"/>
              </a:rPr>
              <a:t>: most important component within items made up of sever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 Key Identity (BKI)</a:t>
            </a:r>
            <a:r>
              <a:rPr b="0" lang="en-GB" sz="2800" spc="-1" strike="noStrike">
                <a:solidFill>
                  <a:srgbClr val="000000"/>
                </a:solidFill>
                <a:latin typeface="Arial"/>
              </a:rPr>
              <a:t>: A common phrase</a:t>
            </a:r>
            <a:endParaRPr b="0" lang="en-US" sz="2800" spc="-1" strike="noStrike">
              <a:solidFill>
                <a:srgbClr val="000000"/>
              </a:solidFill>
              <a:latin typeface="Arial"/>
            </a:endParaRPr>
          </a:p>
        </p:txBody>
      </p:sp>
      <p:sp>
        <p:nvSpPr>
          <p:cNvPr id="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13AB62D-7CD2-4DF1-A43C-3CBC140ABA9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1" name="Flowchart: Delay 3"/>
          <p:cNvSpPr/>
          <p:nvPr/>
        </p:nvSpPr>
        <p:spPr>
          <a:xfrm>
            <a:off x="1339920" y="18334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257480" y="175248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Delay 5"/>
          <p:cNvSpPr/>
          <p:nvPr/>
        </p:nvSpPr>
        <p:spPr>
          <a:xfrm>
            <a:off x="1419120" y="1887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lowchart: Delay 6"/>
          <p:cNvSpPr/>
          <p:nvPr/>
        </p:nvSpPr>
        <p:spPr>
          <a:xfrm>
            <a:off x="1523880" y="1941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owchart: Delay 7"/>
          <p:cNvSpPr/>
          <p:nvPr/>
        </p:nvSpPr>
        <p:spPr>
          <a:xfrm>
            <a:off x="1627200" y="20080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lowchart: Delay 8"/>
          <p:cNvSpPr/>
          <p:nvPr/>
        </p:nvSpPr>
        <p:spPr>
          <a:xfrm>
            <a:off x="1752480" y="207792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1257480" y="331632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4944960" y="2736720"/>
            <a:ext cx="221004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rapezoid 12"/>
          <p:cNvSpPr/>
          <p:nvPr/>
        </p:nvSpPr>
        <p:spPr>
          <a:xfrm rot="10800000">
            <a:off x="1828440" y="3744720"/>
            <a:ext cx="1066680" cy="685800"/>
          </a:xfrm>
          <a:custGeom>
            <a:avLst/>
            <a:gdLst/>
            <a:ahLst/>
            <a:rect l="l" t="t" r="r" b="b"/>
            <a:pathLst>
              <a:path w="1066800" h="685800">
                <a:moveTo>
                  <a:pt x="0" y="685800"/>
                </a:moveTo>
                <a:lnTo>
                  <a:pt x="171450" y="0"/>
                </a:lnTo>
                <a:lnTo>
                  <a:pt x="895350" y="0"/>
                </a:lnTo>
                <a:lnTo>
                  <a:pt x="1066800" y="685800"/>
                </a:lnTo>
                <a:lnTo>
                  <a:pt x="0" y="685800"/>
                </a:lnTo>
                <a:close/>
              </a:path>
            </a:pathLst>
          </a:custGeom>
          <a:gradFill rotWithShape="0">
            <a:gsLst>
              <a:gs pos="0">
                <a:srgbClr val="ffc000"/>
              </a:gs>
              <a:gs pos="100000">
                <a:srgbClr val="cbffff"/>
              </a:gs>
            </a:gsLst>
            <a:lin ang="1620000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13"/>
          <p:cNvSpPr/>
          <p:nvPr/>
        </p:nvSpPr>
        <p:spPr>
          <a:xfrm>
            <a:off x="1257480" y="23670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 x empty shell bodies, with a common Lot number </a:t>
            </a:r>
            <a:endParaRPr b="0" lang="en-US" sz="1600" spc="-1" strike="noStrike">
              <a:solidFill>
                <a:srgbClr val="000000"/>
              </a:solidFill>
              <a:latin typeface="Arial"/>
            </a:endParaRPr>
          </a:p>
        </p:txBody>
      </p:sp>
      <p:sp>
        <p:nvSpPr>
          <p:cNvPr id="101" name="TextBox 14"/>
          <p:cNvSpPr/>
          <p:nvPr/>
        </p:nvSpPr>
        <p:spPr>
          <a:xfrm>
            <a:off x="1257480" y="39337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y of HE – one production mix, with its own Lot number</a:t>
            </a:r>
            <a:endParaRPr b="0" lang="en-US" sz="1600" spc="-1" strike="noStrike">
              <a:solidFill>
                <a:srgbClr val="000000"/>
              </a:solidFill>
              <a:latin typeface="Arial"/>
            </a:endParaRPr>
          </a:p>
        </p:txBody>
      </p:sp>
      <p:sp>
        <p:nvSpPr>
          <p:cNvPr id="102" name="Flowchart: Delay 15"/>
          <p:cNvSpPr/>
          <p:nvPr/>
        </p:nvSpPr>
        <p:spPr>
          <a:xfrm>
            <a:off x="5014800" y="28036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Delay 16"/>
          <p:cNvSpPr/>
          <p:nvPr/>
        </p:nvSpPr>
        <p:spPr>
          <a:xfrm>
            <a:off x="5091120" y="286056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Delay 19"/>
          <p:cNvSpPr/>
          <p:nvPr/>
        </p:nvSpPr>
        <p:spPr>
          <a:xfrm>
            <a:off x="5173560" y="29368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elay 21"/>
          <p:cNvSpPr/>
          <p:nvPr/>
        </p:nvSpPr>
        <p:spPr>
          <a:xfrm>
            <a:off x="5249880" y="2997360"/>
            <a:ext cx="1219320" cy="26640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Delay 18"/>
          <p:cNvSpPr/>
          <p:nvPr/>
        </p:nvSpPr>
        <p:spPr>
          <a:xfrm>
            <a:off x="5364000" y="304956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Delay 22"/>
          <p:cNvSpPr/>
          <p:nvPr/>
        </p:nvSpPr>
        <p:spPr>
          <a:xfrm>
            <a:off x="5440320" y="310680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Delay 20"/>
          <p:cNvSpPr/>
          <p:nvPr/>
        </p:nvSpPr>
        <p:spPr>
          <a:xfrm>
            <a:off x="5554800" y="317664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Delay 23"/>
          <p:cNvSpPr/>
          <p:nvPr/>
        </p:nvSpPr>
        <p:spPr>
          <a:xfrm>
            <a:off x="5630760" y="32464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Delay 17"/>
          <p:cNvSpPr/>
          <p:nvPr/>
        </p:nvSpPr>
        <p:spPr>
          <a:xfrm>
            <a:off x="5700600" y="331632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Delay 24"/>
          <p:cNvSpPr/>
          <p:nvPr/>
        </p:nvSpPr>
        <p:spPr>
          <a:xfrm>
            <a:off x="5776920" y="33940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5"/>
          <p:cNvSpPr/>
          <p:nvPr/>
        </p:nvSpPr>
        <p:spPr>
          <a:xfrm>
            <a:off x="4830840" y="3575160"/>
            <a:ext cx="2438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lled shell given new number: </a:t>
            </a:r>
            <a:r>
              <a:rPr b="1" lang="en-GB" sz="1600" spc="-1" strike="noStrike">
                <a:solidFill>
                  <a:srgbClr val="000000"/>
                </a:solidFill>
                <a:latin typeface="Arial"/>
              </a:rPr>
              <a:t>BATCH</a:t>
            </a:r>
            <a:r>
              <a:rPr b="0" lang="en-GB" sz="1600" spc="-1" strike="noStrike">
                <a:solidFill>
                  <a:srgbClr val="000000"/>
                </a:solidFill>
                <a:latin typeface="Arial"/>
              </a:rPr>
              <a:t> number</a:t>
            </a:r>
            <a:endParaRPr b="0" lang="en-US" sz="1600" spc="-1" strike="noStrike">
              <a:solidFill>
                <a:srgbClr val="000000"/>
              </a:solidFill>
              <a:latin typeface="Arial"/>
            </a:endParaRPr>
          </a:p>
        </p:txBody>
      </p:sp>
      <p:sp>
        <p:nvSpPr>
          <p:cNvPr id="113" name="TextBox 26"/>
          <p:cNvSpPr/>
          <p:nvPr/>
        </p:nvSpPr>
        <p:spPr>
          <a:xfrm>
            <a:off x="4297320" y="4572000"/>
            <a:ext cx="350532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record lot numbers of the components for traceability to the higher-level assembly Batch number</a:t>
            </a:r>
            <a:endParaRPr b="0" lang="en-US" sz="1600" spc="-1" strike="noStrike">
              <a:solidFill>
                <a:srgbClr val="000000"/>
              </a:solidFill>
              <a:latin typeface="Arial"/>
            </a:endParaRPr>
          </a:p>
        </p:txBody>
      </p:sp>
      <p:sp>
        <p:nvSpPr>
          <p:cNvPr id="114" name="Down Arrow 27"/>
          <p:cNvSpPr/>
          <p:nvPr/>
        </p:nvSpPr>
        <p:spPr>
          <a:xfrm rot="10800000">
            <a:off x="5859000" y="4191120"/>
            <a:ext cx="381240" cy="380880"/>
          </a:xfrm>
          <a:prstGeom prst="downArrow">
            <a:avLst>
              <a:gd name="adj1" fmla="val 50000"/>
              <a:gd name="adj2" fmla="val 50000"/>
            </a:avLst>
          </a:prstGeom>
          <a:solidFill>
            <a:srgbClr val="ff0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28"/>
          <p:cNvSpPr/>
          <p:nvPr/>
        </p:nvSpPr>
        <p:spPr>
          <a:xfrm rot="16200000">
            <a:off x="3904920" y="2768400"/>
            <a:ext cx="765360" cy="1251000"/>
          </a:xfrm>
          <a:prstGeom prst="downArrow">
            <a:avLst>
              <a:gd name="adj1" fmla="val 50000"/>
              <a:gd name="adj2" fmla="val 49989"/>
            </a:avLst>
          </a:prstGeom>
          <a:noFill/>
          <a:ln w="1908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3E9FD18-90A8-41EB-B04C-B6893C99484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its of Space (UOS)</a:t>
            </a:r>
            <a:endParaRPr b="1" lang="en-US" sz="36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2" descr=""/>
          <p:cNvPicPr/>
          <p:nvPr/>
        </p:nvPicPr>
        <p:blipFill>
          <a:blip r:embed="rId1"/>
          <a:stretch/>
        </p:blipFill>
        <p:spPr>
          <a:xfrm>
            <a:off x="1752480" y="1676520"/>
            <a:ext cx="5667480" cy="3657600"/>
          </a:xfrm>
          <a:prstGeom prst="rect">
            <a:avLst/>
          </a:prstGeom>
          <a:ln w="0">
            <a:noFill/>
          </a:ln>
        </p:spPr>
      </p:pic>
      <p:sp>
        <p:nvSpPr>
          <p:cNvPr id="120" name="Straight Connector 4"/>
          <p:cNvSpPr/>
          <p:nvPr/>
        </p:nvSpPr>
        <p:spPr>
          <a:xfrm>
            <a:off x="7419960" y="18288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6"/>
          <p:cNvSpPr/>
          <p:nvPr/>
        </p:nvSpPr>
        <p:spPr>
          <a:xfrm>
            <a:off x="7419960" y="22860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7"/>
          <p:cNvSpPr/>
          <p:nvPr/>
        </p:nvSpPr>
        <p:spPr>
          <a:xfrm>
            <a:off x="7634160" y="1828800"/>
            <a:ext cx="0" cy="45720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Box 9"/>
          <p:cNvSpPr/>
          <p:nvPr/>
        </p:nvSpPr>
        <p:spPr>
          <a:xfrm>
            <a:off x="7829640" y="191916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eter</a:t>
            </a:r>
            <a:endParaRPr b="0" lang="en-US" sz="1200" spc="-1" strike="noStrike">
              <a:solidFill>
                <a:srgbClr val="000000"/>
              </a:solidFill>
              <a:latin typeface="Arial"/>
            </a:endParaRPr>
          </a:p>
        </p:txBody>
      </p:sp>
      <p:sp>
        <p:nvSpPr>
          <p:cNvPr id="12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7AA7F251-C548-4074-AE9A-2C37A74CE07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ack Tally Cards</a:t>
            </a:r>
            <a:endParaRPr b="1" lang="en-US" sz="36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27" name="Picture 3" descr="DSC_0009.jpg"/>
          <p:cNvPicPr/>
          <p:nvPr/>
        </p:nvPicPr>
        <p:blipFill>
          <a:blip r:embed="rId1"/>
          <a:stretch/>
        </p:blipFill>
        <p:spPr>
          <a:xfrm>
            <a:off x="533520" y="1488960"/>
            <a:ext cx="1958760" cy="3006720"/>
          </a:xfrm>
          <a:prstGeom prst="rect">
            <a:avLst/>
          </a:prstGeom>
          <a:ln w="0">
            <a:noFill/>
          </a:ln>
        </p:spPr>
      </p:pic>
      <p:pic>
        <p:nvPicPr>
          <p:cNvPr id="128" name="Picture 2" descr=""/>
          <p:cNvPicPr/>
          <p:nvPr/>
        </p:nvPicPr>
        <p:blipFill>
          <a:blip r:embed="rId2"/>
          <a:stretch/>
        </p:blipFill>
        <p:spPr>
          <a:xfrm>
            <a:off x="2674800" y="1488960"/>
            <a:ext cx="5980320" cy="3083040"/>
          </a:xfrm>
          <a:prstGeom prst="rect">
            <a:avLst/>
          </a:prstGeom>
          <a:ln w="0">
            <a:noFill/>
          </a:ln>
        </p:spPr>
      </p:pic>
      <p:pic>
        <p:nvPicPr>
          <p:cNvPr id="129" name="Picture 3" descr=""/>
          <p:cNvPicPr/>
          <p:nvPr/>
        </p:nvPicPr>
        <p:blipFill>
          <a:blip r:embed="rId3"/>
          <a:stretch/>
        </p:blipFill>
        <p:spPr>
          <a:xfrm>
            <a:off x="1600200" y="3222720"/>
            <a:ext cx="384120" cy="193680"/>
          </a:xfrm>
          <a:prstGeom prst="rect">
            <a:avLst/>
          </a:prstGeom>
          <a:ln w="0">
            <a:noFill/>
          </a:ln>
        </p:spPr>
      </p:pic>
      <p:cxnSp>
        <p:nvCxnSpPr>
          <p:cNvPr id="130" name="Straight Arrow Connector 5"/>
          <p:cNvCxnSpPr>
            <a:stCxn id="128" idx="1"/>
          </p:cNvCxnSpPr>
          <p:nvPr/>
        </p:nvCxnSpPr>
        <p:spPr>
          <a:xfrm flipH="1">
            <a:off x="1983960" y="3030120"/>
            <a:ext cx="691200" cy="289440"/>
          </a:xfrm>
          <a:prstGeom prst="straightConnector1">
            <a:avLst/>
          </a:prstGeom>
          <a:ln w="31680">
            <a:solidFill>
              <a:srgbClr val="ff0000"/>
            </a:solidFill>
            <a:miter/>
            <a:tailEnd len="med" type="arrow" w="med"/>
          </a:ln>
        </p:spPr>
      </p:cxn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702CCD57-059F-41B6-B409-37CB6577C44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BF823F49-012E-48C2-83FB-216BBF6B6C9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Ammunition Stockpil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on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r reser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posal</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6D0D025F-6526-454E-9B7E-D379956DFF0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ition </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ems that are:</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0000"/>
                </a:solidFill>
                <a:latin typeface="Arial"/>
              </a:rPr>
              <a:t>A</a:t>
            </a:r>
            <a:r>
              <a:rPr b="0" lang="en-GB" sz="2800" spc="-1" strike="noStrike">
                <a:solidFill>
                  <a:srgbClr val="000000"/>
                </a:solidFill>
                <a:latin typeface="Arial"/>
              </a:rPr>
              <a:t>ttractive to </a:t>
            </a:r>
            <a:r>
              <a:rPr b="1" lang="en-GB" sz="2800" spc="-1" strike="noStrike">
                <a:solidFill>
                  <a:srgbClr val="000000"/>
                </a:solidFill>
                <a:latin typeface="Arial"/>
              </a:rPr>
              <a:t>C</a:t>
            </a:r>
            <a:r>
              <a:rPr b="0" lang="en-GB" sz="2800" spc="-1" strike="noStrike">
                <a:solidFill>
                  <a:srgbClr val="000000"/>
                </a:solidFill>
                <a:latin typeface="Arial"/>
              </a:rPr>
              <a:t>riminal and </a:t>
            </a:r>
            <a:r>
              <a:rPr b="1" lang="en-GB" sz="2800" spc="-1" strike="noStrike">
                <a:solidFill>
                  <a:srgbClr val="000000"/>
                </a:solidFill>
                <a:latin typeface="Arial"/>
              </a:rPr>
              <a:t>T</a:t>
            </a:r>
            <a:r>
              <a:rPr b="0" lang="en-GB" sz="2800" spc="-1" strike="noStrike">
                <a:solidFill>
                  <a:srgbClr val="000000"/>
                </a:solidFill>
                <a:latin typeface="Arial"/>
              </a:rPr>
              <a:t>errorist </a:t>
            </a:r>
            <a:r>
              <a:rPr b="1" lang="en-GB" sz="2800" spc="-1" strike="noStrike">
                <a:solidFill>
                  <a:srgbClr val="000000"/>
                </a:solidFill>
                <a:latin typeface="Arial"/>
              </a:rPr>
              <a:t>O</a:t>
            </a:r>
            <a:r>
              <a:rPr b="0" lang="en-GB" sz="2800" spc="-1" strike="noStrike">
                <a:solidFill>
                  <a:srgbClr val="000000"/>
                </a:solidFill>
                <a:latin typeface="Arial"/>
              </a:rPr>
              <a:t>rganisations”</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62B4649F-3991-4B88-A507-B9F5D088326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990720" y="1523880"/>
          <a:ext cx="7207200" cy="3795840"/>
        </p:xfrm>
        <a:graphic>
          <a:graphicData uri="http://schemas.openxmlformats.org/drawingml/2006/table">
            <a:tbl>
              <a:tblPr/>
              <a:tblGrid>
                <a:gridCol w="2579400"/>
                <a:gridCol w="4627800"/>
              </a:tblGrid>
              <a:tr h="430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CTO It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otential Terrorist Us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40320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A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civil avi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Detonato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Initiation of Improvised Explosive Devices (IED).</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ually strictly controlled on civilian explosives mark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Bulk Explos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ed as main charge for IEDs.</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More powerful than home-made or commercial explos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ortable Anti-Tank Missi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VIP vehic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Hand Grenad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oncealable weapon that can be used in confined spa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Small arms ammuniti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lose Quarter Assassin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EA01F8E-BF73-4326-ABCE-73A66AF21CC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5" name="Object 3"/>
          <p:cNvGraphicFramePr/>
          <p:nvPr/>
        </p:nvGraphicFramePr>
        <p:xfrm>
          <a:off x="2057400" y="1600200"/>
          <a:ext cx="5029200" cy="3886200"/>
        </p:xfrm>
        <a:graphic>
          <a:graphicData uri="http://schemas.openxmlformats.org/presentationml/2006/ole">
            <p:oleObj r:id="rId1" spid="">
              <p:embed/>
              <p:pic>
                <p:nvPicPr>
                  <p:cNvPr id="66" name="Object 3" descr=""/>
                  <p:cNvPicPr/>
                  <p:nvPr/>
                </p:nvPicPr>
                <p:blipFill>
                  <a:blip r:embed="rId2"/>
                  <a:stretch/>
                </p:blipFill>
                <p:spPr>
                  <a:xfrm>
                    <a:off x="2057400" y="1600200"/>
                    <a:ext cx="5029200" cy="3886200"/>
                  </a:xfrm>
                  <a:prstGeom prst="rect">
                    <a:avLst/>
                  </a:prstGeom>
                  <a:ln w="0">
                    <a:noFill/>
                  </a:ln>
                </p:spPr>
              </p:pic>
            </p:oleObj>
          </a:graphicData>
        </a:graphic>
      </p:graphicFrame>
      <p:sp>
        <p:nvSpPr>
          <p:cNvPr id="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D83A2F16-FFAD-4250-807E-B8EE5EF0E1B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typ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t / batch number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 location</a:t>
            </a:r>
            <a:endParaRPr b="0" lang="en-US" sz="2800" spc="-1" strike="noStrike">
              <a:solidFill>
                <a:srgbClr val="000000"/>
              </a:solidFill>
              <a:latin typeface="Arial"/>
            </a:endParaRPr>
          </a:p>
        </p:txBody>
      </p:sp>
      <p:sp>
        <p:nvSpPr>
          <p:cNvPr id="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8FAC270-4A0F-495A-A3B1-3A8135D61D1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manufactur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initial testing</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transportation</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depot storag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transfer to users</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storage users</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ase of loss or thef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return to depo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repaired/modifi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vice surveillance or proof</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disposed of</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3A51CDC-EF1F-40A0-9500-842BF75EC9A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Systems</a:t>
            </a:r>
            <a:endParaRPr b="1" lang="en-US" sz="3600" spc="-1" strike="noStrike">
              <a:solidFill>
                <a:srgbClr val="000000"/>
              </a:solidFill>
              <a:latin typeface="Arial"/>
            </a:endParaRPr>
          </a:p>
        </p:txBody>
      </p:sp>
      <p:sp>
        <p:nvSpPr>
          <p:cNvPr id="7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DAEF3901-2D23-408C-8665-3C06A6496C4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7" name="Content Placeholder 5" descr=""/>
          <p:cNvPicPr/>
          <p:nvPr/>
        </p:nvPicPr>
        <p:blipFill>
          <a:blip r:embed="rId1"/>
          <a:stretch/>
        </p:blipFill>
        <p:spPr>
          <a:xfrm>
            <a:off x="1905120" y="1523880"/>
            <a:ext cx="5319720" cy="369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914400" y="1700280"/>
            <a:ext cx="3454560" cy="2590560"/>
          </a:xfrm>
          <a:prstGeom prst="rect">
            <a:avLst/>
          </a:prstGeom>
          <a:ln w="0">
            <a:noFill/>
          </a:ln>
        </p:spPr>
      </p:pic>
      <p:pic>
        <p:nvPicPr>
          <p:cNvPr id="81" name="Picture 5" descr=""/>
          <p:cNvPicPr/>
          <p:nvPr/>
        </p:nvPicPr>
        <p:blipFill>
          <a:blip r:embed="rId2"/>
          <a:stretch/>
        </p:blipFill>
        <p:spPr>
          <a:xfrm>
            <a:off x="4800600" y="1700280"/>
            <a:ext cx="3454560" cy="2590560"/>
          </a:xfrm>
          <a:prstGeom prst="rect">
            <a:avLst/>
          </a:prstGeom>
          <a:ln w="0">
            <a:noFill/>
          </a:ln>
        </p:spPr>
      </p:pic>
      <p:sp>
        <p:nvSpPr>
          <p:cNvPr id="82" name="Oval 6"/>
          <p:cNvSpPr/>
          <p:nvPr/>
        </p:nvSpPr>
        <p:spPr>
          <a:xfrm>
            <a:off x="6172200" y="2819520"/>
            <a:ext cx="990720" cy="609480"/>
          </a:xfrm>
          <a:prstGeom prst="ellipse">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flipV="1">
            <a:off x="5638320" y="3428640"/>
            <a:ext cx="839160" cy="1296000"/>
          </a:xfrm>
          <a:prstGeom prst="straightConnector1">
            <a:avLst/>
          </a:prstGeom>
          <a:ln w="44280">
            <a:solidFill>
              <a:srgbClr val="ff0000"/>
            </a:solidFill>
            <a:miter/>
            <a:tailEnd len="med" type="arrow" w="med"/>
          </a:ln>
        </p:spPr>
      </p:cxnSp>
      <p:sp>
        <p:nvSpPr>
          <p:cNvPr id="84" name="TextBox 9"/>
          <p:cNvSpPr/>
          <p:nvPr/>
        </p:nvSpPr>
        <p:spPr>
          <a:xfrm>
            <a:off x="3809880" y="4648320"/>
            <a:ext cx="350532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aw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nations use different systems of Lotting and batching</a:t>
            </a:r>
            <a:endParaRPr b="0" lang="en-US" sz="1800" spc="-1" strike="noStrike">
              <a:solidFill>
                <a:srgbClr val="000000"/>
              </a:solidFill>
              <a:latin typeface="Arial"/>
            </a:endParaRPr>
          </a:p>
        </p:txBody>
      </p:sp>
      <p:sp>
        <p:nvSpPr>
          <p:cNvPr id="8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6A58E6A-D1E5-483A-BDBC-82D0559C8CA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5T17:42:14Z</dcterms:modified>
  <cp:revision>71</cp:revision>
  <dc:subject/>
  <dc:title>Slide 1</dc:title>
</cp:coreProperties>
</file>