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BB39-E881-459C-B2DE-4FD654DD55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SSISTANCE AND SOURCES - INTRODUCTION: (1 SLIDES,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locations, organisations and indeed websites which can be useful to us for source material and assistance.  We will look at some of these prospects.  It should be remembered that there are a number of organisations working to improve the situation in terms of illicit weapons and ammunition trading.  These organisations can be a useful support and may even be open to collaboration on proje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FA34-9BE8-42C4-A9FC-0411D9C5E4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LED DISCUSSION: (1 SLIDE,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TRUCTOR-LED DISCUSSION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Get students to participate bin discussion that you lead on experiences and knowledge on this topic.  Aim to identify any other sources that may be useful and/or of interest.  Get students who have experience in this area to talk about their activities and how outside organisations have helped (or hindered) their projects.  If things stall, consider going to the EthicalCargo website and viewing some of their video trailers).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90AA-82E3-42B4-B946-CD81FD89E4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B487-8953-4479-92E9-F80A821C42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ational Criminal Police Organization (INTERPOL) is represented by a National Central Bureau in each of its 187 member Sta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primary task is to support law enforcement agencies in Member States in crime prevention and the conduct of criminal investigations. It offers member States secure global police communications services, operational data services and databases for police, and operational police support servi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is mandated to assist States in the implementation of the International Tracing Instrument, which the UN General Assembly adopted in 2005 (International Tracing Instrument, paragraphs 33 - 35). INTERPOL</a:t>
            </a:r>
            <a:r>
              <a:rPr b="0" lang="ja-JP" sz="1200" spc="-1" strike="noStrike">
                <a:solidFill>
                  <a:srgbClr val="000000"/>
                </a:solidFill>
                <a:latin typeface="Calibri"/>
              </a:rPr>
              <a:t>’</a:t>
            </a:r>
            <a:r>
              <a:rPr b="0" lang="en-GB" sz="1200" spc="-1" strike="noStrike">
                <a:solidFill>
                  <a:srgbClr val="000000"/>
                </a:solidFill>
                <a:latin typeface="Calibri"/>
              </a:rPr>
              <a:t>s role is specified to facilitate tracing operations and assist in investigations to identify and trace illicit small arms ammunition when requested by a member St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developed the INTERPOL Firearms Trace Request, which complements the existing communication system and provides an easy-to-use tool for law enforcement officers to trace ammunition that has been recovered during an inves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lso provides the INTERPOL Firearms Reference Table (IFRT) to assist member States in the correct identification of firearms recovered in crime, which may assist in identifying the ammunition also recovered at the crime sce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website may be a useful source of material for you.  The organisation itself is closely linked to the United Nations, particularly the United Nations Office for Disarmament Affa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883A-0258-4226-A19C-C69B420380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REFERENCE TABLE (FRT):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REFERENCE TABLE (FRT)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 assists member States in the identification of illicit firearms by hosting a comprehensive and continually upgraded library of most firearms types and models in existence. The INTERPOL Firearms Reference Table (IFRT) facilitates the correct identification of the recovered firearm prior to submitting a tracing request. It forms part of INTERPOL</a:t>
            </a:r>
            <a:r>
              <a:rPr b="0" lang="ja-JP" sz="1200" spc="-1" strike="noStrike">
                <a:solidFill>
                  <a:srgbClr val="000000"/>
                </a:solidFill>
                <a:latin typeface="Calibri"/>
              </a:rPr>
              <a:t>’</a:t>
            </a:r>
            <a:r>
              <a:rPr b="0" lang="en-GB" sz="1200" spc="-1" strike="noStrike">
                <a:solidFill>
                  <a:srgbClr val="000000"/>
                </a:solidFill>
                <a:latin typeface="Calibri"/>
              </a:rPr>
              <a:t>s aim to provide a web-based solution to identifying and tracing illicit firearms. Knowledge of the firearm used assists in the identification of complimentary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FRT is an easy-to-use system containing over 250,000 firearms references and 57,000 high quality images. The web-based application, currently available in French and English, was developed by INTERPOL using data supplied and annually updated by the Royal Canadian Mounted Pol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potentially useful resource to you, in order to identify weapons which you may encounter in your work.  </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F7B9-2052-4A3F-BFBA-E8EE9B1B0D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FIREARMS TRACING REQUEST (IFTR):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FIREARMS TRACING REQUEST (IFTR)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POL</a:t>
            </a:r>
            <a:r>
              <a:rPr b="0" lang="ja-JP" sz="1200" spc="-1" strike="noStrike">
                <a:solidFill>
                  <a:srgbClr val="000000"/>
                </a:solidFill>
                <a:latin typeface="Calibri"/>
              </a:rPr>
              <a:t>’</a:t>
            </a:r>
            <a:r>
              <a:rPr b="0" lang="en-GB" sz="1200" spc="-1" strike="noStrike">
                <a:solidFill>
                  <a:srgbClr val="000000"/>
                </a:solidFill>
                <a:latin typeface="Calibri"/>
              </a:rPr>
              <a:t>s Firearms Programme comprises a three-pronged approach to assist member States with obtaining the best weapons and ammunition intelligence possible using the information on the outside of the firearm and the data that can be gleaned from the inside of the firearm to pr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 solve crime. The INTERPOL Firearms Trace Request gives the investigator the international means to request, from the country of manufacture or legal import, the firearm</a:t>
            </a:r>
            <a:r>
              <a:rPr b="0" lang="ja-JP" sz="1200" spc="-1" strike="noStrike">
                <a:solidFill>
                  <a:srgbClr val="000000"/>
                </a:solidFill>
                <a:latin typeface="Calibri"/>
              </a:rPr>
              <a:t>’</a:t>
            </a:r>
            <a:r>
              <a:rPr b="0" lang="en-GB" sz="1200" spc="-1" strike="noStrike">
                <a:solidFill>
                  <a:srgbClr val="000000"/>
                </a:solidFill>
                <a:latin typeface="Calibri"/>
              </a:rPr>
              <a:t>s ownership histo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vailable on the INTERPOL I-24/7 Network in all four official INTERPOL langu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POL Firearms Tracing System (formerly known as IWeTS) is an international communications tool which allows an investigator to request the ownership history for a firearm from the country of origin or legal import. Tracing firearms can provide valuable intelligence and generate investigative leads for the police to solve crim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firearms traced through INTERPOL are checked against firearms reported to INTERPOL by member States as lost or stolen. INTERPOL also checks available information in relation to the individual from whom the firearm was recovered, as well as checking his/her passport and vehicle against relevant INTERPOL databases. Global participation in firearms tracing through INTERPOL would establish the system as a crucial central point for tracing illicit firearms in the context of law enforcement investigations. Ammunition may also be included in such reque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0987-28E2-4B3C-89E3-8483651328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POL BALLISTIC IDENTIFICATION NETWORK (IBIN):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POL BALLISTIC IDENTIFICATION NETWORK (IBIN)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firearm leaves unique microscopic markings on the surface of fired bullets and cartridges. Just as fingerprint data can link crimes and criminals across international borders, IBIN can identify links between pairs of spent bullets and cartridge cases within minutes, thereby helping forensic experts give police investigators timely information about crimes, guns and suspects. IBIN is the first platform for the large-scale international sharing and comparing of ballistics dat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hird prong of INTERPOL</a:t>
            </a:r>
            <a:r>
              <a:rPr b="0" lang="ja-JP" sz="1200" spc="-1" strike="noStrike">
                <a:solidFill>
                  <a:srgbClr val="000000"/>
                </a:solidFill>
                <a:latin typeface="Calibri"/>
              </a:rPr>
              <a:t>’</a:t>
            </a:r>
            <a:r>
              <a:rPr b="0" lang="en-GB" sz="1200" spc="-1" strike="noStrike">
                <a:solidFill>
                  <a:srgbClr val="000000"/>
                </a:solidFill>
                <a:latin typeface="Calibri"/>
              </a:rPr>
              <a:t>s Firearms Programme is the INTERPOL Ballistic Information Network (IBIN), currently under development. IBIN will be the first large-scale international platform for the sharing and comparing of ballistics data. IBIN will connect member States/territories that have the IBIS© technology and wish to participate. It will also connect States or regional alliances that may acquire the system in the fu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anticipated that IBIN will link separate crimes across international borders that would otherwise not have been known to law enforcement. Over time, analysis of the shared ballistic data is expected to reveal illicit firearm trafficking routes and provide police with critical information about firearm traffickers and other violent 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9D27-A24F-46EC-A0A6-F3CEE0D2A9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GRATED BALLISTIC IDENTIFICATION SYSTEM (IBI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GRATED BALLISTIC IDENTIFICATION SYSTEM (IBI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or IBIS, is the brand of the Automated firearms identification system manufactured by Forensic Technology WAI, Inc., of Montreal, Canad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bullets and shell casings are shot from firearms they can leave unique marks, which when examined by forensic scientists can link a particular firearm to a specific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grated Ballistics Identification System (IBIS) was created to expedite the highly labour-intensive and time-consuming task of matching ballistics information in police investigations. In addition to matching evidence from an ongoing or current investigation, IBIS can be used to link ballistic information to prior investigations and to guns used in crimes — that is, firearms that have been used in the commission of multiple crimes but that may not have been recovered in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BIS uses sophisticated electronic and optical technology to digitally compare evidence stored in the database. Initially, IBIS equipment photographs the surface of fired bullets and casings from crime scenes and laboratories. Upon entering a new image into the database, the system searches for a match by using advanced mathematical algorithms to correlate the new image against previously stored images. Using filters such as calibre, date of crime, date of entry, and rifling specifications, the correlations produce lists of possible matches. A forensic examiner then visually compares the matched images on a computer monitor. If a possible match is found, the images are compared with actual evidence by an examiner on a microscope for a final determination. Once an identification is confirmed in association with at least two different crimes, a unique identifier is assigned for future reference to that im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BD98-ABE9-4FB8-B48D-E743CDABF4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IPRI CIT-MAP: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IPRI CIT-MAP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SIPRI</a:t>
            </a:r>
            <a:r>
              <a:rPr b="0" lang="ja-JP" sz="1200" spc="-1" strike="noStrike">
                <a:solidFill>
                  <a:srgbClr val="000000"/>
                </a:solidFill>
                <a:latin typeface="Calibri"/>
              </a:rPr>
              <a:t>”</a:t>
            </a:r>
            <a:r>
              <a:rPr b="0" lang="en-GB" sz="1200" spc="-1" strike="noStrike">
                <a:solidFill>
                  <a:srgbClr val="000000"/>
                </a:solidFill>
                <a:latin typeface="Calibri"/>
              </a:rPr>
              <a:t> is the Stockholm International Peace Research Instit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CIT-MAP</a:t>
            </a:r>
            <a:r>
              <a:rPr b="0" lang="ja-JP" sz="1200" spc="-1" strike="noStrike">
                <a:solidFill>
                  <a:srgbClr val="000000"/>
                </a:solidFill>
                <a:latin typeface="Calibri"/>
              </a:rPr>
              <a:t>”</a:t>
            </a:r>
            <a:r>
              <a:rPr b="0" lang="en-GB" sz="1200" spc="-1" strike="noStrike">
                <a:solidFill>
                  <a:srgbClr val="000000"/>
                </a:solidFill>
                <a:latin typeface="Calibri"/>
              </a:rPr>
              <a:t> is an abbreviation of Countering Illicit Trafficking – Mechanism Assessment Proj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is an independent international institute dedicated to research into conflict, armaments, arms control and disarmament. Established in 1966, SIPRI provides data, analysis and recommendations, based on open sources, to policymakers, researchers, media and the interested public. SIPRI is named as one of the world's leading think tanks in the international "Think Tank Index". Based in Stockholm, SIPRI also has presences in Beijing and Washington, D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was established on the basis of a decision by the Swedish Parliament and receives a substantial part of its funding in the form of an annual grant from the Swedish Government. The Institute also seeks financial support from other organizations in order to carry out its broad research program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maintains contacts with other research centres and individual researchers throughout the world. The Institute cooperates closely with several intergovernmental organizations, notably the United Nations and the European Union, and regularly receives parliamentary, scientific and government delegations as well as visiting researc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at SIPRI focuses on the sea and air transport of conflict-sensitive, destabilizing or illicit commodity flows such as military equipment, dual use (WMD) goods, narcotics as well as smuggling activities relating to tobacco, oil and counterfeit go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PRI Sea and air transport projects maintain databases dedicated to illicit trafficking and destabilizing commodity flows reporting, safety and environmental correlations, as well as piracy and illegal, unreported or undocumented fishing (IU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ctivities are combined with field and action-orientated research to provide data, field studies, analysis and policy options for governments, industry and civil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 and security initiatives are centred around earlier work undertaken by SIPRI's Countering Illicit Trafficking – Mechanism Assessment Projects (CIT-MAP) involving research, training and outreach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ducts include software, field and HQ-based training, manuals, expert seminars, open source intelligence (OSI) collaborative information-sharing models and an internet-based clearinghouse serving the global humanitarian aid and peace support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379F-D768-4B3B-9FAD-9EC949392E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ASSENAAR ARRANGEMENT: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WASSENAAR ARRANGEMENT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full name: "The Wassenaar Arrangement on Export Controls for Conventional Arms and Dual-Use Goods and Technologies") is a multilateral export control regime (MECR) with 41 participating states including many former COMECON (Warsaw Pact)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the successor to the Cold war-era Coordinating Committee for Multilateral Export Controls (COCOM), and was established on July 12, 1996, in the Dutch town of Wassenaar, near The Hague. The Wassenaar Arrangement is considerably less strict than COCOM, focusing primarily on the transparency of national export control regimes and not granting veto power to individual members over organizational decisions. A Secretariat for administering the agreement is located in Vienna, Austria. Like COCOM, however, it is not a treaty, and therefore has no legally binding aspect to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ry six months member countries exchange information on deliveries of conventional arms to non Wassenaar members that fall under eight broad weapons categories: battle tanks, armoured combat vehicles (ACVs), large-calibre artillery, military aircraft/unmanned aerial vehicles, military and attack helicopters, warships, missiles or missile systems, and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Wassenaar Arrangement has been established in order to contribute to regional and international security and stability, by promoting transparency and greater responsibility in transfers of conventional arms and dual-use goods and technologies, thus preventing destabilising accumulations. Participating States seek, through their national policies, to ensure that transfers of these items do not contribute to the development or enhancement of military capabilities which undermine these goals, and are not diverted to support such capa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ticipating States of the Wassenaar Arran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gentina, Australia, Austria, Belgium, Bulgaria, Canada, Croatia, Czech Republic, Denmark, Estonia, Finland, France, Germany, Greece, Hungary, Ireland, Italy, Japan, Latvia, Lithuania, Luxembourg, Malta, Mexico, Netherlands, New Zealand, Norway, Poland, Portugal, Republic of Korea, Romania, Russian Federation, Slovakia, Slovenia, South Africa, Spain, Sweden, Switzerland, Turkey, Ukraine, United Kingdom and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6FDD-F4E3-48AD-AD85-5E81F99D34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THICAL CARGO: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THICAL CARG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an information clearinghouse, training and outreach project serving the global humanitarian aid, crisis response and peace support communities. They provide tools, training and advice to encourage the adoption of conflict-sensitive logistics guidelines and ethical transportation policies and to support organizations to make better-informed procurement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ject is part of the work of the Stockholm International Peace Research Institute's Countering Illicit Trafficking - Mechanism Assessment Project (CIT-MA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is funded by the Humanitarian Aid department of the European Commission (ECHO) and the Swedish International Development &amp; Cooperation Agency (SIDA) with support from the Swedish Ministry of Foreign Affai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thicalCargo.org provide tools for agencies to support them in the development of conflict-sensitive logistics and Do No Harm policies as well as contract negoti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r Transport and Destabilizing Commodity Flows" Policy Paper shows how existing mechanisms and programmes can be used to tackle destabilizing or illicit commodity ﬂows via air trans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23BD-0CD8-4B1D-AEB9-33129FAF0D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3E992-E2B7-4B84-BD9D-F58D924F9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B6E10-EA6A-4736-9A5E-874C918D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6F31A-79FC-4056-86FF-7ECBCFE0B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27BE7-4192-49F7-9DC6-2FBECC1A2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29430-2C60-4B77-BDF6-E4E4BCFF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BAC9-A590-4D44-AD5E-468D1D37E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D4BA4-378C-4489-986E-2B6A4DA9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065DD-7A1E-4318-AA94-F35CFE1FB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506D0-A192-4847-8486-852ADDA78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DAB6-548F-49FF-8742-4D5851584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837A-F0C8-40B4-922B-50FB340F9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24DC-0DA3-4162-BF89-E73358DA0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84B0-071F-444D-925F-8516313F4C2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istance and Sourc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33089612-0526-41B2-A6F4-B1382303B54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ructor-Led Discussion</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FD8634FC-0F5D-4DDA-B37B-B78805FCBBA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28BBCB7B-9E6C-4063-86B9-9D10DEC545B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753000" y="1371600"/>
            <a:ext cx="4876560" cy="3733920"/>
          </a:xfrm>
          <a:prstGeom prst="rect">
            <a:avLst/>
          </a:prstGeom>
          <a:ln w="0">
            <a:noFill/>
          </a:ln>
        </p:spPr>
      </p:pic>
      <p:pic>
        <p:nvPicPr>
          <p:cNvPr id="56" name="Picture 4" descr=""/>
          <p:cNvPicPr/>
          <p:nvPr/>
        </p:nvPicPr>
        <p:blipFill>
          <a:blip r:embed="rId2"/>
          <a:stretch/>
        </p:blipFill>
        <p:spPr>
          <a:xfrm>
            <a:off x="762120" y="2009880"/>
            <a:ext cx="2462040" cy="2333520"/>
          </a:xfrm>
          <a:prstGeom prst="rect">
            <a:avLst/>
          </a:prstGeom>
          <a:ln w="0">
            <a:noFill/>
          </a:ln>
        </p:spPr>
      </p:pic>
      <p:sp>
        <p:nvSpPr>
          <p:cNvPr id="5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045089EE-5620-48D4-B54D-DC23C58FFBE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Reference Table (FRT)</a:t>
            </a:r>
            <a:endParaRPr b="1" lang="en-US" sz="36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2" descr=""/>
          <p:cNvPicPr/>
          <p:nvPr/>
        </p:nvPicPr>
        <p:blipFill>
          <a:blip r:embed="rId1"/>
          <a:stretch/>
        </p:blipFill>
        <p:spPr>
          <a:xfrm>
            <a:off x="3429000" y="2362320"/>
            <a:ext cx="2573280" cy="2361960"/>
          </a:xfrm>
          <a:prstGeom prst="rect">
            <a:avLst/>
          </a:prstGeom>
          <a:ln w="0">
            <a:noFill/>
          </a:ln>
        </p:spPr>
      </p:pic>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F90B3361-5A4C-44AE-A066-5A54043521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Firearms Tracing Request (IFTR)</a:t>
            </a:r>
            <a:endParaRPr b="1" lang="en-US" sz="36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2" descr=""/>
          <p:cNvPicPr/>
          <p:nvPr/>
        </p:nvPicPr>
        <p:blipFill>
          <a:blip r:embed="rId1"/>
          <a:stretch/>
        </p:blipFill>
        <p:spPr>
          <a:xfrm>
            <a:off x="3429000" y="2362320"/>
            <a:ext cx="2573280" cy="2361960"/>
          </a:xfrm>
          <a:prstGeom prst="rect">
            <a:avLst/>
          </a:prstGeom>
          <a:ln w="0">
            <a:noFill/>
          </a:ln>
        </p:spPr>
      </p:pic>
      <p:sp>
        <p:nvSpPr>
          <p:cNvPr id="6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90ECDBAA-D3FC-4896-95BD-827C78CEC1D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OL Ballistic Identification Network (IBIN)</a:t>
            </a:r>
            <a:endParaRPr b="1" lang="en-US" sz="36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461880" y="1752480"/>
            <a:ext cx="3886200" cy="2976840"/>
          </a:xfrm>
          <a:prstGeom prst="rect">
            <a:avLst/>
          </a:prstGeom>
          <a:ln w="0">
            <a:noFill/>
          </a:ln>
        </p:spPr>
      </p:pic>
      <p:pic>
        <p:nvPicPr>
          <p:cNvPr id="69" name="Picture 3" descr=""/>
          <p:cNvPicPr/>
          <p:nvPr/>
        </p:nvPicPr>
        <p:blipFill>
          <a:blip r:embed="rId2"/>
          <a:stretch/>
        </p:blipFill>
        <p:spPr>
          <a:xfrm>
            <a:off x="4724280" y="3006720"/>
            <a:ext cx="3891240" cy="2986200"/>
          </a:xfrm>
          <a:prstGeom prst="rect">
            <a:avLst/>
          </a:prstGeom>
          <a:ln w="0">
            <a:noFill/>
          </a:ln>
        </p:spPr>
      </p:pic>
      <p:sp>
        <p:nvSpPr>
          <p:cNvPr id="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A980DF43-A25F-4BA3-94A1-AB312B2863A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ted Ballistic Identification System (IBIS)</a:t>
            </a:r>
            <a:endParaRPr b="1" lang="en-US" sz="36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3" name="Picture 3" descr=""/>
          <p:cNvPicPr/>
          <p:nvPr/>
        </p:nvPicPr>
        <p:blipFill>
          <a:blip r:embed="rId1"/>
          <a:stretch/>
        </p:blipFill>
        <p:spPr>
          <a:xfrm>
            <a:off x="685800" y="1903320"/>
            <a:ext cx="3352680" cy="2441520"/>
          </a:xfrm>
          <a:prstGeom prst="rect">
            <a:avLst/>
          </a:prstGeom>
          <a:ln w="0">
            <a:noFill/>
          </a:ln>
        </p:spPr>
      </p:pic>
      <p:pic>
        <p:nvPicPr>
          <p:cNvPr id="74" name="Picture 4" descr=""/>
          <p:cNvPicPr/>
          <p:nvPr/>
        </p:nvPicPr>
        <p:blipFill>
          <a:blip r:embed="rId2"/>
          <a:stretch/>
        </p:blipFill>
        <p:spPr>
          <a:xfrm>
            <a:off x="4419720" y="3124080"/>
            <a:ext cx="4248000" cy="2266920"/>
          </a:xfrm>
          <a:prstGeom prst="rect">
            <a:avLst/>
          </a:prstGeom>
          <a:ln w="0">
            <a:noFill/>
          </a:ln>
        </p:spPr>
      </p:pic>
      <p:sp>
        <p:nvSpPr>
          <p:cNvPr id="7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16EEEA9C-E22F-4385-B44C-4AB38EA94FD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PRI CIT-MAP</a:t>
            </a:r>
            <a:endParaRPr b="1" lang="en-US" sz="36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PRI - Stockholm International Peace Research Institut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IT-MAP - Countering Illicit Trafficking – Mechanism Assessment Projec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Picture 4" descr=""/>
          <p:cNvPicPr/>
          <p:nvPr/>
        </p:nvPicPr>
        <p:blipFill>
          <a:blip r:embed="rId1"/>
          <a:stretch/>
        </p:blipFill>
        <p:spPr>
          <a:xfrm>
            <a:off x="353880" y="3621240"/>
            <a:ext cx="2927520" cy="1865160"/>
          </a:xfrm>
          <a:prstGeom prst="rect">
            <a:avLst/>
          </a:prstGeom>
          <a:ln w="0">
            <a:noFill/>
          </a:ln>
        </p:spPr>
      </p:pic>
      <p:pic>
        <p:nvPicPr>
          <p:cNvPr id="79" name="Picture 5" descr=""/>
          <p:cNvPicPr/>
          <p:nvPr/>
        </p:nvPicPr>
        <p:blipFill>
          <a:blip r:embed="rId2"/>
          <a:stretch/>
        </p:blipFill>
        <p:spPr>
          <a:xfrm>
            <a:off x="3733920" y="4343400"/>
            <a:ext cx="2592360" cy="1717560"/>
          </a:xfrm>
          <a:prstGeom prst="rect">
            <a:avLst/>
          </a:prstGeom>
          <a:ln w="0">
            <a:noFill/>
          </a:ln>
        </p:spPr>
      </p:pic>
      <p:pic>
        <p:nvPicPr>
          <p:cNvPr id="80" name="Picture 3" descr=""/>
          <p:cNvPicPr/>
          <p:nvPr/>
        </p:nvPicPr>
        <p:blipFill>
          <a:blip r:embed="rId3"/>
          <a:stretch/>
        </p:blipFill>
        <p:spPr>
          <a:xfrm>
            <a:off x="5638680" y="3621240"/>
            <a:ext cx="2827440" cy="1879560"/>
          </a:xfrm>
          <a:prstGeom prst="rect">
            <a:avLst/>
          </a:prstGeom>
          <a:ln w="0">
            <a:noFill/>
          </a:ln>
        </p:spPr>
      </p:pic>
      <p:sp>
        <p:nvSpPr>
          <p:cNvPr id="8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7345F619-852C-49AF-876D-D33A46F5096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ssenaar Arrangement</a:t>
            </a:r>
            <a:endParaRPr b="1" lang="en-US" sz="3600" spc="-1" strike="noStrike">
              <a:solidFill>
                <a:srgbClr val="000000"/>
              </a:solidFill>
              <a:latin typeface="Arial"/>
            </a:endParaRPr>
          </a:p>
        </p:txBody>
      </p:sp>
      <p:pic>
        <p:nvPicPr>
          <p:cNvPr id="83" name="Content Placeholder 3" descr=""/>
          <p:cNvPicPr/>
          <p:nvPr/>
        </p:nvPicPr>
        <p:blipFill>
          <a:blip r:embed="rId1"/>
          <a:stretch/>
        </p:blipFill>
        <p:spPr>
          <a:xfrm>
            <a:off x="457200" y="1676520"/>
            <a:ext cx="8229600" cy="1071360"/>
          </a:xfrm>
          <a:prstGeom prst="rect">
            <a:avLst/>
          </a:prstGeom>
          <a:ln w="0">
            <a:noFill/>
          </a:ln>
        </p:spPr>
      </p:pic>
      <p:pic>
        <p:nvPicPr>
          <p:cNvPr id="84" name="Picture 4" descr=""/>
          <p:cNvPicPr/>
          <p:nvPr/>
        </p:nvPicPr>
        <p:blipFill>
          <a:blip r:embed="rId2"/>
          <a:stretch/>
        </p:blipFill>
        <p:spPr>
          <a:xfrm>
            <a:off x="1943280" y="2971800"/>
            <a:ext cx="5333760" cy="2712960"/>
          </a:xfrm>
          <a:prstGeom prst="rect">
            <a:avLst/>
          </a:prstGeom>
          <a:ln w="0">
            <a:noFill/>
          </a:ln>
        </p:spPr>
      </p:pic>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087B248C-3177-4F8E-B103-A012E17EFC0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thical Cargo</a:t>
            </a:r>
            <a:endParaRPr b="1" lang="en-US" sz="3600" spc="-1" strike="noStrike">
              <a:solidFill>
                <a:srgbClr val="000000"/>
              </a:solidFill>
              <a:latin typeface="Arial"/>
            </a:endParaRPr>
          </a:p>
        </p:txBody>
      </p:sp>
      <p:pic>
        <p:nvPicPr>
          <p:cNvPr id="87" name="Content Placeholder 3" descr=""/>
          <p:cNvPicPr/>
          <p:nvPr/>
        </p:nvPicPr>
        <p:blipFill>
          <a:blip r:embed="rId1"/>
          <a:stretch/>
        </p:blipFill>
        <p:spPr>
          <a:xfrm>
            <a:off x="5105520" y="1676520"/>
            <a:ext cx="2400120" cy="3530520"/>
          </a:xfrm>
          <a:prstGeom prst="rect">
            <a:avLst/>
          </a:prstGeom>
          <a:ln w="0">
            <a:noFill/>
          </a:ln>
        </p:spPr>
      </p:pic>
      <p:pic>
        <p:nvPicPr>
          <p:cNvPr id="88" name="Picture 4" descr=""/>
          <p:cNvPicPr/>
          <p:nvPr/>
        </p:nvPicPr>
        <p:blipFill>
          <a:blip r:embed="rId2"/>
          <a:stretch/>
        </p:blipFill>
        <p:spPr>
          <a:xfrm>
            <a:off x="990720" y="2514600"/>
            <a:ext cx="3616200" cy="1676520"/>
          </a:xfrm>
          <a:prstGeom prst="rect">
            <a:avLst/>
          </a:prstGeom>
          <a:ln w="0">
            <a:noFill/>
          </a:ln>
        </p:spPr>
      </p:pic>
      <p:sp>
        <p:nvSpPr>
          <p:cNvPr id="8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7 Slide </a:t>
            </a:r>
            <a:fld id="{4337AF5C-201F-419D-8A3B-43C32ED5C17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3:46:58Z</dcterms:modified>
  <cp:revision>26</cp:revision>
  <dc:subject/>
  <dc:title>Slide 1</dc:title>
</cp:coreProperties>
</file>