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88E9-A951-43BB-BC47-6A9A694345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LEGISLATION - INTRODUCTION: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ERNATIONAL LEGISL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ask of developing effective controls over the international transfer of ammunition is made more difficult by the lack of capacity in some states to put effective controls in place and to enforce them. This is often compounded by a lack of transparency, which is characteristic of much of the international arms trade, and by limited levels of cooperation and harmonization of practices between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ATG provides guidance on the development and implementation of effective and accountable controls over international transfers of ammunition. As such, it addresses national controls on the import, export, transit, transhipment and brokering of ammunition, as well as issues relating to enforcement, international cooperation and public and parliamentary transparenc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03.30:2011 (E) 1</a:t>
            </a:r>
            <a:r>
              <a:rPr b="0" lang="en-GB" sz="1200" spc="-1" strike="noStrike" baseline="30000">
                <a:solidFill>
                  <a:srgbClr val="000000"/>
                </a:solidFill>
                <a:latin typeface="Calibri"/>
              </a:rPr>
              <a:t>st</a:t>
            </a:r>
            <a:r>
              <a:rPr b="0" lang="en-GB" sz="1200" spc="-1" strike="noStrike">
                <a:solidFill>
                  <a:srgbClr val="000000"/>
                </a:solidFill>
                <a:latin typeface="Calibri"/>
              </a:rPr>
              <a:t> Edition  (2011-10-01) provides guidance on the development and implementation of effective and accountable controls over international transfers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E93A-E241-41E6-831E-133C70F752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9 of 22: </a:t>
            </a:r>
            <a:r>
              <a:rPr b="1" lang="en-GB" sz="1200" spc="-1" strike="noStrike" u="sng">
                <a:solidFill>
                  <a:srgbClr val="000000"/>
                </a:solidFill>
                <a:uFillTx/>
                <a:latin typeface="Calibri"/>
              </a:rPr>
              <a:t>ARTICLE 6 - CONFISCATION, SEIZURE &amp; DISPOSAL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out prejudice to article 12 of the Convention, States Parties shall adopt, to the greatest extent possible within their domestic legal systems, such measures as may be necessary to enable </a:t>
            </a:r>
            <a:r>
              <a:rPr b="1" lang="en-GB" sz="1200" spc="-1" strike="noStrike">
                <a:solidFill>
                  <a:srgbClr val="000000"/>
                </a:solidFill>
                <a:latin typeface="Calibri"/>
              </a:rPr>
              <a:t>confiscation </a:t>
            </a:r>
            <a:r>
              <a:rPr b="0" lang="en-GB" sz="1200" spc="-1" strike="noStrike">
                <a:solidFill>
                  <a:srgbClr val="000000"/>
                </a:solidFill>
                <a:latin typeface="Calibri"/>
              </a:rPr>
              <a:t>of firearms, their parts and components and ammunition that have been illicitly manufactured or traffick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s Parties shall adopt, within their domestic legal systems, such measures as may be necessary to prevent illicitly manufactured and trafficked firearms, parts and components and ammunition from falling into the hands of unauthorized persons by </a:t>
            </a:r>
            <a:r>
              <a:rPr b="1" lang="en-GB" sz="1200" spc="-1" strike="noStrike">
                <a:solidFill>
                  <a:srgbClr val="000000"/>
                </a:solidFill>
                <a:latin typeface="Calibri"/>
              </a:rPr>
              <a:t>seizing</a:t>
            </a:r>
            <a:r>
              <a:rPr b="0" lang="en-GB" sz="1200" spc="-1" strike="noStrike">
                <a:solidFill>
                  <a:srgbClr val="000000"/>
                </a:solidFill>
                <a:latin typeface="Calibri"/>
              </a:rPr>
              <a:t> and </a:t>
            </a:r>
            <a:r>
              <a:rPr b="1" lang="en-GB" sz="1200" spc="-1" strike="noStrike">
                <a:solidFill>
                  <a:srgbClr val="000000"/>
                </a:solidFill>
                <a:latin typeface="Calibri"/>
              </a:rPr>
              <a:t>destroying </a:t>
            </a:r>
            <a:r>
              <a:rPr b="0" lang="en-GB" sz="1200" spc="-1" strike="noStrike">
                <a:solidFill>
                  <a:srgbClr val="000000"/>
                </a:solidFill>
                <a:latin typeface="Calibri"/>
              </a:rPr>
              <a:t>such firearms, their parts and components and ammunition unless other disposals has been officially authorised, provided that the firearms have been marked and the methods of </a:t>
            </a:r>
            <a:r>
              <a:rPr b="1" lang="en-GB" sz="1200" spc="-1" strike="noStrike">
                <a:solidFill>
                  <a:srgbClr val="000000"/>
                </a:solidFill>
                <a:latin typeface="Calibri"/>
              </a:rPr>
              <a:t>disposal </a:t>
            </a:r>
            <a:r>
              <a:rPr b="0" lang="en-GB" sz="1200" spc="-1" strike="noStrike">
                <a:solidFill>
                  <a:srgbClr val="000000"/>
                </a:solidFill>
                <a:latin typeface="Calibri"/>
              </a:rPr>
              <a:t>of those firearms and ammunition have been recorded.</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FD70A-0CD1-48B6-A32A-15317A10E7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0 of 22: </a:t>
            </a:r>
            <a:r>
              <a:rPr b="1" lang="en-GB" sz="1200" spc="-1" strike="noStrike" u="sng">
                <a:solidFill>
                  <a:srgbClr val="000000"/>
                </a:solidFill>
                <a:uFillTx/>
                <a:latin typeface="Calibri"/>
              </a:rPr>
              <a:t>ARTICLE 7 - RECORD KEEPING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State Party shall ensure the maintenance for not less than ten years, of information in relation to firearms and where appropriate and feasible their parts and components and ammunition that is necessary to trace and identify those firearms and where appropriate and feasible. Their parts and components and ammunition which are illicitly manufactured or trafficked and to prevent and detect such activities. Such information shall includ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ppropriate markings required by article 8 of this Protocol;</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ases involving international transactions in firearms, their parts and components and ammunition, the insurance and expiration dates of the appropriate licences or authorizations, the country of export, the country of import, the transit countries, where appropriate and the final recipient and the description and quantity of the articles.</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3000-99ED-4970-A0CC-CD8B023C1D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1 of 22: </a:t>
            </a:r>
            <a:r>
              <a:rPr b="1" lang="en-GB" sz="1200" spc="-1" strike="noStrike" u="sng">
                <a:solidFill>
                  <a:srgbClr val="000000"/>
                </a:solidFill>
                <a:uFillTx/>
                <a:latin typeface="Calibri"/>
              </a:rPr>
              <a:t>ARTICLE 8 - MARKING OF FIREARMS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e purpose of identifying and tracing each firearm, States Parties shall:</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t the time of manufacture of each firearm</a:t>
            </a:r>
            <a:r>
              <a:rPr b="0" lang="en-GB" sz="1200" spc="-1" strike="noStrike">
                <a:solidFill>
                  <a:srgbClr val="000000"/>
                </a:solidFill>
                <a:latin typeface="Calibri"/>
              </a:rPr>
              <a:t>, either require unique marking providing the name of the manufacturer, the country or place of manufacture and the serial number, or maintain any alternative unique user-friendly marking with simple geometric symbols in combination  with a numeric and/or alphanumeric code, permitting ready identification by all States of the country of manufacture;</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e appropriate simple marking on each imported firearm</a:t>
            </a:r>
            <a:r>
              <a:rPr b="0" lang="en-GB" sz="1200" spc="-1" strike="noStrike">
                <a:solidFill>
                  <a:srgbClr val="000000"/>
                </a:solidFill>
                <a:latin typeface="Calibri"/>
              </a:rPr>
              <a:t>, permitting identification of the country of import and where possible the year of import and enabling the competent authorities of that country to trace the firearm and a unique marking, if the firearm does not bear such a marking. The requirements of this sub paragraph need not be applied to temporary imports of firearms for verifiable lawful purpose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nsure, at the time of transfer </a:t>
            </a:r>
            <a:r>
              <a:rPr b="0" lang="en-GB" sz="1200" spc="-1" strike="noStrike">
                <a:solidFill>
                  <a:srgbClr val="000000"/>
                </a:solidFill>
                <a:latin typeface="Calibri"/>
              </a:rPr>
              <a:t>of a firearm from government stocks to permanent civilian use, the appropriate unique marking permitting identification by all States Parties of the transferring country.</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Parties shall encourage the firearms manufacturing industry to develop measures against the removal or alteration of markings</a:t>
            </a:r>
            <a:endParaRPr b="0" lang="en-US" sz="1200" spc="-1" strike="noStrike">
              <a:solidFill>
                <a:srgbClr val="000000"/>
              </a:solidFill>
              <a:latin typeface="Calibri"/>
            </a:endParaRPr>
          </a:p>
          <a:p>
            <a:pPr lvl="1" marL="685800" indent="0">
              <a:lnSpc>
                <a:spcPct val="90000"/>
              </a:lnSpc>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0528-627F-4AFF-BB80-B0BA05D1A4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2 of 22: </a:t>
            </a:r>
            <a:r>
              <a:rPr b="1" lang="en-GB" sz="1200" spc="-1" strike="noStrike" u="sng">
                <a:solidFill>
                  <a:srgbClr val="000000"/>
                </a:solidFill>
                <a:uFillTx/>
                <a:latin typeface="Calibri"/>
              </a:rPr>
              <a:t>ARTICLE 9 - DEACTIVATION OF FIREARMS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tate Party that does not recognize a deactivated firearm as a firearm in accordance with its domestic law shall take the necessary measures, including the establishment of specific offences if appropriate, to prevent the illicit reactivation of deactivated firearms, consistent with the following general principles of deactiv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ll essential parts of a deactivated firearm are to be rendered permanently inoperable </a:t>
            </a:r>
            <a:r>
              <a:rPr b="0" lang="en-GB" sz="1200" spc="-1" strike="noStrike">
                <a:solidFill>
                  <a:srgbClr val="000000"/>
                </a:solidFill>
                <a:latin typeface="Calibri"/>
              </a:rPr>
              <a:t>and incapable of removal, replacement or modification in a manner that would permit the firearm to be reactivated in any wa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rrangements are to be made for deactivation measures to be verified, </a:t>
            </a:r>
            <a:r>
              <a:rPr b="0" lang="en-GB" sz="1200" spc="-1" strike="noStrike">
                <a:solidFill>
                  <a:srgbClr val="000000"/>
                </a:solidFill>
                <a:latin typeface="Calibri"/>
              </a:rPr>
              <a:t>where appropriate, by a competent authority to ensure that the modifications made to a firearm render it permanently inoperabl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Verification by a competent authority is to be included </a:t>
            </a:r>
            <a:r>
              <a:rPr b="0" lang="en-GB" sz="1200" spc="-1" strike="noStrike">
                <a:solidFill>
                  <a:srgbClr val="000000"/>
                </a:solidFill>
                <a:latin typeface="Calibri"/>
              </a:rPr>
              <a:t>a certificate or record attesting to the deactivation of the firearm or a clearly visible mark to that effect stamped on the firearm.</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5996-CDBE-423A-BCA4-C43BFAC06F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3 of 22: </a:t>
            </a:r>
            <a:r>
              <a:rPr b="1" lang="en-GB" sz="1200" spc="-1" strike="noStrike" u="sng">
                <a:solidFill>
                  <a:srgbClr val="000000"/>
                </a:solidFill>
                <a:uFillTx/>
                <a:latin typeface="Calibri"/>
              </a:rPr>
              <a:t>ARTICLE 10 - GENERAL REQUIREMENTS FOR EXPORT, IMPORT AND TRANSIT LICENSING OR AUTHORIZATION SYSTEMS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State Party shall establish or maintain  an effective system of export and import licensing or authorization, as well as of measures on international transit, for the transfer of firearms, their parts and components and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fore issuing export licences or authorizations for shipments of firearms, their parts and components and ammunition, each state shall verify:</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at the importing States have issued import licences or authorizations;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at without prejudice to bilateral or multilateral agreements or arrangements favouring landlocked States, the transit States have , at a minimum given notice in writing,  prior to shipment that they have no objection to the transi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xport and import licence or authorization and accompanying documentation together shall contain information that, at a minimum, shall include the place and the date of issuance, the date of expiration, the country of export, the country of import, the final recipient. A description and quantity of the firearms, their parts and components and ammunition and whenever there is transit, the countries of transit. The information contained in the import licence must be provided in advance to the transit Stat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ing State Party shall, upon request inform the exporting State Party of the receipt of the dispatched shipment of firearms, their parts and components or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State Party shall, within available means, take such measures as may be necessary to ensure that licensing or authorization procedures are secure and that the authenticity of licensing or authorization documents can be verified or validate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s Parties may adopt simplified procedures for the temporary import and export and the transit of firearms, their parts and components and ammunition for verifiable lawful purposes such as hunting, sport shooting, evaluation, exhibitions or repair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6852-4CA4-411F-875C-12872FC14B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4 of 22: </a:t>
            </a:r>
            <a:r>
              <a:rPr b="1" lang="en-US" sz="1200" spc="-1" strike="noStrike" u="sng">
                <a:solidFill>
                  <a:srgbClr val="000000"/>
                </a:solidFill>
                <a:uFillTx/>
                <a:latin typeface="Calibri"/>
              </a:rPr>
              <a:t>ARTICLE 11 - SECURITY &amp; PREVENTION MEASURES </a:t>
            </a:r>
            <a:r>
              <a:rPr b="1" lang="en-US"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ffort to detect, prevent and eliminate the theft, loss or diversion of, as well as the illicit manufacturing of and trafficking in, firearms, their parts and components and ammunition, each State Party shall take appropriate meas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 require the security of firearms</a:t>
            </a:r>
            <a:r>
              <a:rPr b="0" lang="en-US" sz="1200" spc="-1" strike="noStrike">
                <a:solidFill>
                  <a:srgbClr val="000000"/>
                </a:solidFill>
                <a:latin typeface="Calibri"/>
              </a:rPr>
              <a:t>, their parts and components and ammunition at the time of manufacture, import, export and transit through its territory; and</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o increase the effectiveness of import, export and transit controls</a:t>
            </a:r>
            <a:r>
              <a:rPr b="0" lang="en-US" sz="1200" spc="-1" strike="noStrike">
                <a:solidFill>
                  <a:srgbClr val="000000"/>
                </a:solidFill>
                <a:latin typeface="Calibri"/>
              </a:rPr>
              <a:t>, including, where appropriate, border controls and of police and customs transborder cooperation.</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A76A-330E-44F5-AD03-193634C18E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5 of 22: </a:t>
            </a:r>
            <a:r>
              <a:rPr b="1" lang="en-GB" sz="1200" spc="-1" strike="noStrike" u="sng">
                <a:solidFill>
                  <a:srgbClr val="000000"/>
                </a:solidFill>
                <a:uFillTx/>
                <a:latin typeface="Calibri"/>
              </a:rPr>
              <a:t>ARTICLE 12 – INFORMATION (a)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out prejudice to articles 27 &amp; 28 of the Conventions, States Parties shall exchange among themselves, consistent with their respective domestic legal and administrative systems, relevant case-specific information on matters such as authorized producers, dealers, importers, exporters and whenever possible, carriers of firearms, their parts and components and ammuni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out prejudice to articles 27 and 28 of the Convention, States Parties shall exchange among themselves, consistent with their respective domestic legal and administrative systems, relevant information on matters such a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rganized criminal groups </a:t>
            </a:r>
            <a:r>
              <a:rPr b="0" lang="en-GB" sz="1200" spc="-1" strike="noStrike">
                <a:solidFill>
                  <a:srgbClr val="000000"/>
                </a:solidFill>
                <a:latin typeface="Calibri"/>
              </a:rPr>
              <a:t>known to take part or suspected of taking part in illicit manufacturing of or trafficking in firearms, their parts and components and ammunition;</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means of concealment </a:t>
            </a:r>
            <a:r>
              <a:rPr b="0" lang="en-GB" sz="1200" spc="-1" strike="noStrike">
                <a:solidFill>
                  <a:srgbClr val="000000"/>
                </a:solidFill>
                <a:latin typeface="Calibri"/>
              </a:rPr>
              <a:t>used in the illicit manufacturing of or trafficking in firearms, their parts and components and ammunition and ways of detecting them;</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ethods and means</a:t>
            </a:r>
            <a:r>
              <a:rPr b="0" lang="en-GB" sz="1200" spc="-1" strike="noStrike">
                <a:solidFill>
                  <a:srgbClr val="000000"/>
                </a:solidFill>
                <a:latin typeface="Calibri"/>
              </a:rPr>
              <a:t>, points of dispatch and destination and routes customarily used by organized criminal groups engaged in illicit trafficking in firearms, their parts and components and ammunition;</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egislative experiences </a:t>
            </a:r>
            <a:r>
              <a:rPr b="0" lang="en-GB" sz="1200" spc="-1" strike="noStrike">
                <a:solidFill>
                  <a:srgbClr val="000000"/>
                </a:solidFill>
                <a:latin typeface="Calibri"/>
              </a:rPr>
              <a:t>and practices and measures to prevent, combat and eradicate the illicit manufacturing of and trafficking in firearms, their parts and components and ammunition.</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B54B-694C-481B-9243-3E6DCE7E5B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6 of 22: </a:t>
            </a:r>
            <a:r>
              <a:rPr b="1" lang="en-GB" sz="1200" spc="-1" strike="noStrike" u="sng">
                <a:solidFill>
                  <a:srgbClr val="000000"/>
                </a:solidFill>
                <a:uFillTx/>
                <a:latin typeface="Calibri"/>
              </a:rPr>
              <a:t>ARTICLE 12 – INFORMATION (b) </a:t>
            </a:r>
            <a:r>
              <a:rPr b="1" lang="en-GB" sz="1200" spc="-1" strike="noStrike">
                <a:solidFill>
                  <a:srgbClr val="000000"/>
                </a:solidFill>
                <a:latin typeface="Calibri"/>
              </a:rPr>
              <a:t>(2 SLIDES, 2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 Parties shall provide to or share with each other, as appropriate, </a:t>
            </a:r>
            <a:r>
              <a:rPr b="0" lang="en-GB" sz="1200" spc="-1" strike="noStrike">
                <a:solidFill>
                  <a:srgbClr val="000000"/>
                </a:solidFill>
                <a:latin typeface="Calibri"/>
              </a:rPr>
              <a:t>relevant scientific and technology information useful to law enforcement authorities in order to enhance each other</a:t>
            </a:r>
            <a:r>
              <a:rPr b="0" lang="ja-JP" sz="1200" spc="-1" strike="noStrike">
                <a:solidFill>
                  <a:srgbClr val="000000"/>
                </a:solidFill>
                <a:latin typeface="Calibri"/>
              </a:rPr>
              <a:t>’</a:t>
            </a:r>
            <a:r>
              <a:rPr b="0" lang="en-GB" sz="1200" spc="-1" strike="noStrike">
                <a:solidFill>
                  <a:srgbClr val="000000"/>
                </a:solidFill>
                <a:latin typeface="Calibri"/>
              </a:rPr>
              <a:t>s  abilities to prevent, detect and investigate the illicit manufacturing of and trafficking in firearms, their parts and components and ammunition and to prosecute the persons involved in those illicit activitie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s Parties shall cooperate in the tracing of firearms, </a:t>
            </a:r>
            <a:r>
              <a:rPr b="0" lang="en-GB" sz="1200" spc="-1" strike="noStrike">
                <a:solidFill>
                  <a:srgbClr val="000000"/>
                </a:solidFill>
                <a:latin typeface="Calibri"/>
              </a:rPr>
              <a:t>their parts and components and ammunition that may have been illicitly manufactured or trafficked. Such cooperation shall include the provision of prompt responses to requests for assistance in tracing such firearms, their parts and components and ammunition, within available mean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ubject to the basic concepts of its legal system or any international agreements, </a:t>
            </a:r>
            <a:r>
              <a:rPr b="0" lang="en-GB" sz="1200" spc="-1" strike="noStrike">
                <a:solidFill>
                  <a:srgbClr val="000000"/>
                </a:solidFill>
                <a:latin typeface="Calibri"/>
              </a:rPr>
              <a:t>each State Party shall guarantee the confidentiality of and comply with any restrictions on the use of information that it receives from another State Party pursuant to this article, including proprietary information pertaining to commercial transactions,  if requested to do so by the State Party providing the information. If such confidentiality cannot be maintained, the State Party that provided the information shall be notified prior to its disclosure.</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0AB0-EDB0-43EE-930D-AD6F712A986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7 of 22: </a:t>
            </a:r>
            <a:r>
              <a:rPr b="1" lang="en-GB" sz="1200" spc="-1" strike="noStrike" u="sng">
                <a:solidFill>
                  <a:srgbClr val="000000"/>
                </a:solidFill>
                <a:uFillTx/>
                <a:latin typeface="Calibri"/>
              </a:rPr>
              <a:t>ARTICLE 13 - COOPERATION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s Parties shall cooperate at the bilateral, regional and international levels </a:t>
            </a:r>
            <a:r>
              <a:rPr b="0" lang="en-GB" sz="1200" spc="-1" strike="noStrike">
                <a:solidFill>
                  <a:srgbClr val="000000"/>
                </a:solidFill>
                <a:latin typeface="Calibri"/>
              </a:rPr>
              <a:t>to prevent, combat and eradicate the illicit manufacturing of and trafficking in firearms, their parts and components and ammun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out prejudice to article 18, paragraph 13, of the convention, each State Party shall identify a </a:t>
            </a:r>
            <a:r>
              <a:rPr b="1" lang="en-GB" sz="1200" spc="-1" strike="noStrike">
                <a:solidFill>
                  <a:srgbClr val="000000"/>
                </a:solidFill>
                <a:latin typeface="Calibri"/>
              </a:rPr>
              <a:t>national</a:t>
            </a:r>
            <a:r>
              <a:rPr b="0" lang="en-GB" sz="1200" spc="-1" strike="noStrike">
                <a:solidFill>
                  <a:srgbClr val="000000"/>
                </a:solidFill>
                <a:latin typeface="Calibri"/>
              </a:rPr>
              <a:t> </a:t>
            </a:r>
            <a:r>
              <a:rPr b="1" lang="en-GB" sz="1200" spc="-1" strike="noStrike">
                <a:solidFill>
                  <a:srgbClr val="000000"/>
                </a:solidFill>
                <a:latin typeface="Calibri"/>
              </a:rPr>
              <a:t>body or a single point of contact </a:t>
            </a:r>
            <a:r>
              <a:rPr b="0" lang="en-GB" sz="1200" spc="-1" strike="noStrike">
                <a:solidFill>
                  <a:srgbClr val="000000"/>
                </a:solidFill>
                <a:latin typeface="Calibri"/>
              </a:rPr>
              <a:t>to act as liaison  between it and other States Parties on matters relating to this Protoc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s Parties shall seek the support and cooperation of manufacturers, </a:t>
            </a:r>
            <a:r>
              <a:rPr b="0" lang="en-GB" sz="1200" spc="-1" strike="noStrike">
                <a:solidFill>
                  <a:srgbClr val="000000"/>
                </a:solidFill>
                <a:latin typeface="Calibri"/>
              </a:rPr>
              <a:t>dealers, importers, exporters, brokers and commercial carriers of firearms, their parts and components and ammunition to prevent and detect the illicit activities referred to in paragraph 1 of this article.</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7770-9A7B-4BCA-81C4-C27FCEC8F5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8 of 22: </a:t>
            </a:r>
            <a:r>
              <a:rPr b="1" lang="en-GB" sz="1200" spc="-1" strike="noStrike" u="sng">
                <a:solidFill>
                  <a:srgbClr val="000000"/>
                </a:solidFill>
                <a:uFillTx/>
                <a:latin typeface="Calibri"/>
              </a:rPr>
              <a:t>ARTICLE 14 - TRAINING &amp; TECHNICLE ASSISTANCE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s Parties shall cooperate with each other and with relevant international organizations, as appropriate, so that States Parties may receive, upon request, the </a:t>
            </a:r>
            <a:r>
              <a:rPr b="1" lang="en-GB" sz="1200" spc="-1" strike="noStrike">
                <a:solidFill>
                  <a:srgbClr val="000000"/>
                </a:solidFill>
                <a:latin typeface="Calibri"/>
              </a:rPr>
              <a:t>training and technical assistance </a:t>
            </a:r>
            <a:r>
              <a:rPr b="0" lang="en-GB" sz="1200" spc="-1" strike="noStrike">
                <a:solidFill>
                  <a:srgbClr val="000000"/>
                </a:solidFill>
                <a:latin typeface="Calibri"/>
              </a:rPr>
              <a:t>necessary to enhance their ability to prevent, combat and eradicate the illicit manufacturing of and trafficking in the firearms, their parts and components and ammunition, including technical, financial and material assistance in those matters identified in articles 29 and 30 of the convention.</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A863-8E97-4B19-A851-40556F0096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22: INTRO SLIDE </a:t>
            </a:r>
            <a:r>
              <a:rPr b="1" lang="en-GB" sz="1200" spc="-1" strike="noStrike" u="sng">
                <a:solidFill>
                  <a:srgbClr val="000000"/>
                </a:solidFill>
                <a:uFillTx/>
                <a:latin typeface="Calibri"/>
              </a:rPr>
              <a:t>(No real time spent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5017-543B-4939-879B-E8F2325EA2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9 of 22: </a:t>
            </a:r>
            <a:r>
              <a:rPr b="1" lang="en-GB" sz="1200" spc="-1" strike="noStrike" u="sng">
                <a:solidFill>
                  <a:srgbClr val="000000"/>
                </a:solidFill>
                <a:uFillTx/>
                <a:latin typeface="Calibri"/>
              </a:rPr>
              <a:t>ARTICLE 15 - BROKERS &amp; BROKERING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 a view to preventing and combating illicit manufacturing of and trafficking in firearms, their parts and components and ammunition, States Parties that have not yet done so shall consider establishing a system for regulating the activities of those engage in brokering. Such a system could include one or more measures such a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ing registration of brokers operating within their territory;</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ing licensing or authorization of brokering</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equiring disclosure on Import and Export Licences or authorizations, </a:t>
            </a:r>
            <a:r>
              <a:rPr b="0" lang="en-GB" sz="1200" spc="-1" strike="noStrike">
                <a:solidFill>
                  <a:srgbClr val="000000"/>
                </a:solidFill>
                <a:latin typeface="Calibri"/>
              </a:rPr>
              <a:t>or accompanying documents, of names and locations of brokers involved in the accompanying documents, of the names and locations of brokers involved in the transac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 Parties that have established a system of authorization regarding brokering as set forth in paragraph 1 of this article are encouraged to includ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formation on brokers and brokering in their exchanges of information under article 12 of this protocol and to retain records regarding brokers an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rokering in accordance with article 7 of this protocol.</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960E-8483-4BE7-9CD1-9825D4077D0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0 of 22: </a:t>
            </a:r>
            <a:r>
              <a:rPr b="1" lang="en-GB" sz="1200" spc="-1" strike="noStrike" u="sng">
                <a:solidFill>
                  <a:srgbClr val="000000"/>
                </a:solidFill>
                <a:uFillTx/>
                <a:latin typeface="Calibri"/>
              </a:rPr>
              <a:t>ARTICLE 16 - SETTLEMENT OF DISPUTES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tates Parties shall endeavour to settle disputes</a:t>
            </a:r>
            <a:r>
              <a:rPr b="0" lang="en-GB" sz="1200" spc="-1" strike="noStrike">
                <a:solidFill>
                  <a:srgbClr val="000000"/>
                </a:solidFill>
                <a:latin typeface="Calibri"/>
              </a:rPr>
              <a:t> concerning the interpretation or application of this Protocol through negoti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ny dispute between two or more States Parties </a:t>
            </a:r>
            <a:r>
              <a:rPr b="0" lang="en-GB" sz="1200" spc="-1" strike="noStrike">
                <a:solidFill>
                  <a:srgbClr val="000000"/>
                </a:solidFill>
                <a:latin typeface="Calibri"/>
              </a:rPr>
              <a:t>concerning the interpretation or application of this protocol that cannot be settled through negotiation within a reasonable time shall at the request of one of those States Parties, be submitted to arbitration. If six months after the date of the request for arbitration, those States Parties are unable to agree on the organization of the arbitration, any one of those States Parties may refer the dispute to the International Court of Justice by request in accordance with the Statute of the Cou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ach State Party may, at the time of signature,</a:t>
            </a:r>
            <a:r>
              <a:rPr b="0" lang="en-GB" sz="1200" spc="-1" strike="noStrike">
                <a:solidFill>
                  <a:srgbClr val="000000"/>
                </a:solidFill>
                <a:latin typeface="Calibri"/>
              </a:rPr>
              <a:t> ratification, acceptance or approval of or accession to this protocol, declare that it does not consider itself bound by paragraph 2 of this article. The other States Parties shall not be bound by paragraph 2 of this article with respect to any State Party that has made such a reserv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ny State Party that has made a reservation in accordance with paragraph 3 </a:t>
            </a:r>
            <a:r>
              <a:rPr b="0" lang="en-GB" sz="1200" spc="-1" strike="noStrike">
                <a:solidFill>
                  <a:srgbClr val="000000"/>
                </a:solidFill>
                <a:latin typeface="Calibri"/>
              </a:rPr>
              <a:t>of this article may at any time withdraw that reservation by notification to the Secretary-General of the United Nations.   </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352B-E563-4488-8486-6CF3DFCC1C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1 of 22: </a:t>
            </a:r>
            <a:r>
              <a:rPr b="1" lang="en-GB" sz="1200" spc="-1" strike="noStrike" u="sng">
                <a:solidFill>
                  <a:srgbClr val="000000"/>
                </a:solidFill>
                <a:uFillTx/>
                <a:latin typeface="Calibri"/>
              </a:rPr>
              <a:t>ARTICLE 17 - SIGNATURE, RATIFICATION, ACCEPTANCE, APPROVAL AND ACCESSION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tocol was opened to all States for signature at United Nations Headquarters in New York from the thirtieth day after its adoption by the General Assembly until 12 December 2002.</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otocol was also open for signature by regional economic integration organisations provided that at least one member State of such organisation provided that at least one member State of such organization has signed this Protocol in accordance with paragraph 1 of this articl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otocol is subject to ratification, acceptance or approval. Instruments of ratification, acceptance or approval shall be deposited with the Secretary-General of the United Nations. A regional economic integration organization may deposit its instrument of ratification, acceptance or approval if at least one of its member States has done likewise. In that instrument of ratification, acceptance or approval, such organization shall declare the extent of its competence with respect to the matters governed by this Protocol. Such organization shall also inform the depositary of any relevant modification in the extent of its compete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tocol is open for accession by any State or any regional economic integration organization of which at least one member State is a Party to this Protocol. Instruments of accession shall be deposited with the Secretary-General of the United Nations. At the time of its accession, a regional economic integration organization shall declare the extent of its competence with respect to matters governed by this Protocol. Such organization shall also inform the depositary of any relevant modification in the extent of its competence.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DEA1-1E96-4B81-A626-C023C42AB5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2 of 22: </a:t>
            </a:r>
            <a:r>
              <a:rPr b="1" lang="en-US" sz="1200" spc="-1" strike="noStrike" u="sng">
                <a:solidFill>
                  <a:srgbClr val="000000"/>
                </a:solidFill>
                <a:uFillTx/>
                <a:latin typeface="Calibri"/>
              </a:rPr>
              <a:t>REMAINING ARTICLES </a:t>
            </a:r>
            <a:r>
              <a:rPr b="1" lang="en-US"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18 Entry into Forc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19 Amendmen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20 Denunciatio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21 Depositar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ove 4 Articles are not covered on this presentation and if additional information is required refer 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United Nations </a:t>
            </a:r>
            <a:r>
              <a:rPr b="1" lang="en-US" sz="1200" spc="-1" strike="noStrike">
                <a:solidFill>
                  <a:srgbClr val="000000"/>
                </a:solidFill>
                <a:latin typeface="Calibri"/>
              </a:rPr>
              <a:t>A/RES/55/255 GENERAL ASSEMBLY </a:t>
            </a:r>
            <a:r>
              <a:rPr b="0" lang="en-US" sz="1200" spc="-1" strike="noStrike">
                <a:solidFill>
                  <a:srgbClr val="000000"/>
                </a:solidFill>
                <a:latin typeface="Calibri"/>
              </a:rPr>
              <a:t>Distr: General 8 June 2001 </a:t>
            </a:r>
            <a:r>
              <a:rPr b="1" lang="en-US" sz="1200" spc="-1" strike="noStrike">
                <a:solidFill>
                  <a:srgbClr val="000000"/>
                </a:solidFill>
                <a:latin typeface="Calibri"/>
              </a:rPr>
              <a:t>Fifty-fifth session </a:t>
            </a:r>
            <a:r>
              <a:rPr b="0" lang="en-US" sz="1200" spc="-1" strike="noStrike">
                <a:solidFill>
                  <a:srgbClr val="000000"/>
                </a:solidFill>
                <a:latin typeface="Calibri"/>
              </a:rPr>
              <a:t>Agenda item 105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FAC5-0B92-4160-B51B-52F63CBCBE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INTERNATIONAL INSTRUMENT TO ENABLE STATES TO IDENTIFY AND TRACE IN A TIMELY AND RELIABLE MANNER ILLICICIT SMALL ARMS AND LIGHT WEAPONS </a:t>
            </a:r>
            <a:r>
              <a:rPr b="1" lang="en-GB" sz="1200" spc="-1" strike="noStrike">
                <a:solidFill>
                  <a:srgbClr val="000000"/>
                </a:solidFill>
                <a:latin typeface="Calibri"/>
              </a:rPr>
              <a:t>(1 SLIDE, 3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ing that in the United Nations Programme of Action to Prevent, Combat and Eradicate the Illicit Trade in Small Arms and Light Weapons in All its Aspects, States identified the tracing of Illicit small arms and light Weapons as a key mechanism for national, regional and/or international efforts to prevent, combat and eradicate illicit small arms and light weapons and committed themselves to strengthening the ability of States to cooperate in identifying and tracing in a timely and reliable manner illicit small arms and light weap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ing also that the tracing of illicit small arms and light weapons, including but not limited to those manufactured to military specifications, may  be required in the context of all forms of crime and conflict situ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ing also that, pursuant to resolution 58/241, this instrument takes into account the national security and legal interests of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vinced of the need for an effective international instrument to enable States to identify and trace, in a timely and reliable manner, illicit small arms and light weap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ressing that all aspects relating to illicit small arms and light weapons should be addressed in a coordinated and comprehensive mann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tructor: ensure students have the handout </a:t>
            </a:r>
            <a:r>
              <a:rPr b="1" lang="ja-JP" sz="1200" spc="-1" strike="noStrike">
                <a:solidFill>
                  <a:srgbClr val="000000"/>
                </a:solidFill>
                <a:latin typeface="Calibri"/>
              </a:rPr>
              <a:t>“</a:t>
            </a:r>
            <a:r>
              <a:rPr b="1" lang="en-GB" sz="1200" spc="-1" strike="noStrike">
                <a:solidFill>
                  <a:srgbClr val="000000"/>
                </a:solidFill>
                <a:latin typeface="Calibri"/>
              </a:rPr>
              <a:t>INTERNATIONAL INSTRUMENT TO ENABLE STATES TO IDENTIFY AND TRACE IN A TIMELY AND RELIABLE MANNER ILLICICIT SMALL ARMS AND LIGHT WEAPONS</a:t>
            </a:r>
            <a:r>
              <a:rPr b="1"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5152-4FD9-4ACD-B653-84CD7BE174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DEFINITIONS </a:t>
            </a:r>
            <a:r>
              <a:rPr b="1" lang="en-GB" sz="1200" spc="-1" strike="noStrike">
                <a:solidFill>
                  <a:srgbClr val="000000"/>
                </a:solidFill>
                <a:latin typeface="Calibri"/>
              </a:rPr>
              <a:t>(1 SLIDE, 4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e purpose of this instrument , small arms and light weapons will mean any man portable lethal weapon that expels or launches, is designed to expel or launch or may be readily converted to expel or launch a shot, bullet or projectile by the action of an explosive, excluding antique small arms and light weapons or their replicas. Antique small arms and light weapons and their replicas will be defined in accordance with domestic law. In no case will antique small arms and light weapons include those manufactured after 1899.</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mall arms:</a:t>
            </a:r>
            <a:r>
              <a:rPr b="0" lang="en-GB" sz="1200" spc="-1" strike="noStrike">
                <a:solidFill>
                  <a:srgbClr val="000000"/>
                </a:solidFill>
                <a:latin typeface="Calibri"/>
              </a:rPr>
              <a:t> are, broadly speaking, weapons designed for individual use. They include, inter alia, revolvers and self loading pistols, rifles and carbines, sub-machine guns, assault rifles and light machine gu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Light Weapons:</a:t>
            </a:r>
            <a:r>
              <a:rPr b="0" lang="en-GB" sz="1200" spc="-1" strike="noStrike">
                <a:solidFill>
                  <a:srgbClr val="000000"/>
                </a:solidFill>
                <a:latin typeface="Calibri"/>
              </a:rPr>
              <a:t> are broadly speaking, weapons designed for use by two or three persons serving as a crew, although some may be carried and used by a single person. They include, inter alia, heavy machine guns, hand held under-barrel and mounted grenade launchers, portable anti-aircraft guns, portable anti-tank guns, recoilless rifles, portable </a:t>
            </a:r>
            <a:r>
              <a:rPr b="0" lang="en-GB" sz="1200" spc="-1" strike="noStrike">
                <a:solidFill>
                  <a:srgbClr val="000000"/>
                </a:solidFill>
                <a:latin typeface="Calibri"/>
              </a:rPr>
              <a:t>	</a:t>
            </a:r>
            <a:r>
              <a:rPr b="0" lang="en-GB" sz="1200" spc="-1" strike="noStrike">
                <a:solidFill>
                  <a:srgbClr val="000000"/>
                </a:solidFill>
                <a:latin typeface="Calibri"/>
              </a:rPr>
              <a:t>launchers of anti-tank  missile and rocket systems, portable launchers of anti-aircraft missile systems and mortars of a calibre of less than 100millimetr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racing: </a:t>
            </a:r>
            <a:r>
              <a:rPr b="0" lang="en-GB" sz="1200" spc="-1" strike="noStrike">
                <a:solidFill>
                  <a:srgbClr val="000000"/>
                </a:solidFill>
                <a:latin typeface="Calibri"/>
              </a:rPr>
              <a:t>For the purpose of this instrument, Tracing is the systematic tracking of illicit small arms and light weapons found or seized on the territory of a State from the point of manufacture or the point of importation through the lines of supply to the point at which they became illicit.</a:t>
            </a:r>
            <a:r>
              <a:rPr b="1"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For the purpose of this instrument, small arms and light weapons are </a:t>
            </a:r>
            <a:r>
              <a:rPr b="1" lang="en-GB" sz="1200" spc="-1" strike="noStrike" u="sng">
                <a:solidFill>
                  <a:srgbClr val="000000"/>
                </a:solidFill>
                <a:uFillTx/>
                <a:latin typeface="Calibri"/>
              </a:rPr>
              <a:t>illicit </a:t>
            </a:r>
            <a:r>
              <a:rPr b="0" lang="en-GB" sz="1200" spc="-1" strike="noStrike" u="sng">
                <a:solidFill>
                  <a:srgbClr val="000000"/>
                </a:solidFill>
                <a:uFillTx/>
                <a:latin typeface="Calibri"/>
              </a:rPr>
              <a:t>if</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considered illicit under the law of the state within whose territorial jurisdiction the small arm or light weapon is found.</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transferred in violation of arms embargos decided by the Security Council in accordance with the Charter of the United Nation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not marked in accordance with the previsions of this instrument</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manufactured or assembled without a licence or authorization from the competent authority of the State where the manufacture or assembly takes place; or</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are transferred without a licence or authorization by a competent national authorit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98FA6-E4D0-4FFE-B5C3-7031842111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MARKING </a:t>
            </a:r>
            <a:r>
              <a:rPr b="1" lang="en-GB" sz="1200" spc="-1" strike="noStrike">
                <a:solidFill>
                  <a:srgbClr val="000000"/>
                </a:solidFill>
                <a:latin typeface="Calibri"/>
              </a:rPr>
              <a:t>(1 SLIDE, 3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oice of methods for marking small arms and light weapons is a national prerogative. States will ensure that, what ever method is used, all marks required under this instrument are on an exposed surface, conspicuous without technical aids or tools, easily recognizable, readable, durable and as far as technically possible, recoverable.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e purpose of identifying and tracing illicit small arms and light weapons, States will:</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time of manufacture of each small arm or light weapon under their jurisdiction or control, either require unique marking providing the name of the manufacturer, the country of manufacture and the serial number or maintain any alternative unique user-friendly marking with simple geometric symbols in combination with a numeric and/or alphanumeric code, permitting ready identification by all States of the country of manufacture; and encourage the marking of such additional information as the year of manufacture, weapon type/model and calibre;</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aking into account that import marking is a requirement for the States parties to the Protocol against the Illicit Manufacturing of and Trafficking in Firearms, Their Parts and Components and Ammunition, supplementing the United Nations Convention against Transnational Organized Crime, require to the extent possible appropriate simple marking on each imported small arm or light weapon, permitting identification of the country of import and where possible the year of import and enabling the competent authorities of that country to trace the small arm or light weapon; and require a unique marking, if the small arm or light weapon does not already bear such a marking. The requirements of this subparagraph need not be applied to temporary imports of small arms and light weapons for verifiable, lawful purposes, nor for the permanent import of museum artefacts;</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nsure, at the time of transfer from government stocks to permanent civilian use of a small arm or light weapon that is not marked in a manner that allows tracing, the appropriate marking permitted identification of the country from whose stocks the transfer of the small arm or light weapon is mad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ates will ensure that all illicit small arms and light weapons that are found on their territory are uniquely marked and recorded or destroyed as soon a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ssible. Pending such marking and recording in accordance with section IV of this instrument, or destruction, these small arms and light weapons will b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curely stored.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5292-B47A-4BCD-B679-6FB80945C2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RECORD KEEPING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oice of methods for record-keeping is a national prerogative. States will ensure that accurate and comprehensive records are established for all marked small arms and light weapons within their territory and maintained in accordance with paragraph 12 in order to enable competent national authorities to trace illicit small arms and light weapons in a timely and reliable manner.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BECD-7E85-4AC9-AB37-380DF17DA0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ERNATIONAL TRACING INSTRUMENT: (5 SLIDES, 1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COOPERATION IN TRACING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rea is not covered in this lesson. The supporting information is provided in the hand out.</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5F51-18C8-4391-93CA-4594CDED7E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RMS TRADE TREATY : (1 SLIDE, 1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RMS TRADE TREATY  (ATT) </a:t>
            </a:r>
            <a:r>
              <a:rPr b="1" lang="en-GB" sz="1200" spc="-1" strike="noStrike">
                <a:solidFill>
                  <a:srgbClr val="000000"/>
                </a:solidFill>
                <a:latin typeface="Calibri"/>
              </a:rPr>
              <a:t>(1 SLIDE, 6 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global trade in conventional weapons – from warships and battle tanks to fighter jets and machine guns – remains poorly regulated. No set of internationally agreed standards exist to ensure that arms are only transferred for appropriate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ny governments have voiced concern about the absence of globally agreed rules for all Countries to guide their decisions on arms transfers. That is why they have started negotiating an Arms Trade Treaty. Preparations to address this issue have been underway since 2006 and will culminate in the Conference on an Arms Trade Treaty in July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2006, the General Assembly requested countries to submit their views on such a treaty. More than 100 countries did. These views were collected in a 2007 report by the Secretary-General on the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2008 a Group of Governmental Experts produced a report on the top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2009 an Open-ended Working Group – open to all States – held two meetings on an arms trade treaty. A total of six sessions of this Group were plan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2009 the General Assembly decided to convene a Conference on the Arms Trade Treaty in 2012 "to elaborate a legally binding instrument on the highest possible common international standards for the transfer of conventional arms". The General Assembly also indicated that the remaining four sessions of the Open-ended Working Group should be considered as sessions of the Preparatory Committee (PrepCom) for this Conference. PrepComs took place in July 2010, February 2011, July 2011 and in February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FBE4-67AE-4955-8ADA-86D98F064C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2:  </a:t>
            </a:r>
            <a:r>
              <a:rPr b="1" lang="en-GB" sz="1200" spc="-1" strike="noStrike" u="sng">
                <a:solidFill>
                  <a:srgbClr val="000000"/>
                </a:solidFill>
                <a:uFillTx/>
                <a:latin typeface="Calibri"/>
              </a:rPr>
              <a:t>55/255. PROTOCOL AGAINST THE ILLICIT MANUFACTURING OF AND TRAFFICKING IN FIREARMS</a:t>
            </a:r>
            <a:r>
              <a:rPr b="1" lang="en-GB" sz="1200" spc="-1" strike="noStrike">
                <a:solidFill>
                  <a:srgbClr val="000000"/>
                </a:solidFill>
                <a:latin typeface="Calibri"/>
              </a:rPr>
              <a:t>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ocument which forms the basis for this part of the lesson 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ited Nations </a:t>
            </a:r>
            <a:r>
              <a:rPr b="1" lang="en-GB" sz="1200" spc="-1" strike="noStrike">
                <a:solidFill>
                  <a:srgbClr val="000000"/>
                </a:solidFill>
                <a:latin typeface="Calibri"/>
              </a:rPr>
              <a:t>A/RES/55/255 GENERAL ASSEMBLY </a:t>
            </a:r>
            <a:r>
              <a:rPr b="0" lang="en-GB" sz="1200" spc="-1" strike="noStrike">
                <a:solidFill>
                  <a:srgbClr val="000000"/>
                </a:solidFill>
                <a:latin typeface="Calibri"/>
              </a:rPr>
              <a:t>Distributed: General 8 June 2001 </a:t>
            </a:r>
            <a:r>
              <a:rPr b="1" lang="en-GB" sz="1200" spc="-1" strike="noStrike">
                <a:solidFill>
                  <a:srgbClr val="000000"/>
                </a:solidFill>
                <a:latin typeface="Calibri"/>
              </a:rPr>
              <a:t>Fifty-fifth session </a:t>
            </a:r>
            <a:r>
              <a:rPr b="0" lang="en-GB" sz="1200" spc="-1" strike="noStrike">
                <a:solidFill>
                  <a:srgbClr val="000000"/>
                </a:solidFill>
                <a:latin typeface="Calibri"/>
              </a:rPr>
              <a:t>Agenda item 105.  The </a:t>
            </a:r>
            <a:r>
              <a:rPr b="1" lang="en-GB" sz="1200" spc="-1" strike="noStrike">
                <a:solidFill>
                  <a:srgbClr val="000000"/>
                </a:solidFill>
                <a:latin typeface="Calibri"/>
              </a:rPr>
              <a:t>Resolution was adopted by the General Assembly </a:t>
            </a:r>
            <a:r>
              <a:rPr b="0" lang="en-GB" sz="1200" spc="-1" strike="noStrike">
                <a:solidFill>
                  <a:srgbClr val="000000"/>
                </a:solidFill>
                <a:latin typeface="Calibri"/>
              </a:rPr>
              <a:t>(without reference to a Main Committee (A/55/383/Add.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Calibri"/>
              </a:rPr>
              <a:t>“</a:t>
            </a:r>
            <a:r>
              <a:rPr b="0" lang="en-GB" sz="1200" spc="-1" strike="noStrike">
                <a:solidFill>
                  <a:srgbClr val="000000"/>
                </a:solidFill>
                <a:latin typeface="Calibri"/>
              </a:rPr>
              <a:t>The States Parties to this Protocol, aware of the urgent need to prevent, combat and eradicate the illicit manufacturing of and trafficking in firearms, their parts and components and ammunition, owing to the harmful effects of those activities on the security of each State, region and the world as a whole, endangering the well-being of peoples, their social and economic development and their right to live in peace.  Convinced, therefore of the necessity for all States to take all appropriate measures to this end, including international cooperation and other measures at the regional and global levels.</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calling General Assembly resolution 53/111 of 9 December 1998, in which the Assembly decided to establish an open-ended intergovernmental ad-hoc committee for the purpose of elaborating a comprehensive international convention against transnational organized crime and of discussing the elaborate of, inter alia, an international instrument combating the illicit manufacturing of and trafficking in firearms, their parts and components and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aring in mind the principle of equal rights and self-destruction of peoples, as enshrined in the Charter of the United Nations and the Declaration on Principles of International Law concerning Friendly Relations and Cooperation among States in accordance with the Charter of the United N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CC98-6991-4C62-9F63-4708824B96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C198-3207-49C4-ABBE-E47FA5321E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22: </a:t>
            </a:r>
            <a:r>
              <a:rPr b="1" lang="en-US" sz="1200" spc="-1" strike="noStrike" u="sng">
                <a:solidFill>
                  <a:srgbClr val="000000"/>
                </a:solidFill>
                <a:uFillTx/>
                <a:latin typeface="Calibri"/>
              </a:rPr>
              <a:t>ARTICLE 1 - RELATION WITH THE UNITED NATIONS CONVENTION AGAINST TRANSNATIONAL ORGANIZED CRIME</a:t>
            </a:r>
            <a:r>
              <a:rPr b="1" lang="en-US" sz="1200" spc="-1" strike="noStrike">
                <a:solidFill>
                  <a:srgbClr val="000000"/>
                </a:solidFill>
                <a:latin typeface="Calibri"/>
              </a:rPr>
              <a:t> (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rotocol supplements the United Nations Convention against Transnational Organized Crime. It shall be interpreted together with the Conventio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visions of the Convention shall apply, mutatis mutandis, to this Protocol unless otherwise provided herei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ffences established in accordance with article 5 of this Protocol shall be regarded as offences established in accordance with the Convention.</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B4A1-F36F-4E53-9B0D-535A19D7E5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22: </a:t>
            </a:r>
            <a:r>
              <a:rPr b="1" lang="en-GB" sz="1200" spc="-1" strike="noStrike" u="sng">
                <a:solidFill>
                  <a:srgbClr val="000000"/>
                </a:solidFill>
                <a:uFillTx/>
                <a:latin typeface="Calibri"/>
              </a:rPr>
              <a:t>ARTICLE 2 - STATEMENT OF PURPOSE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protocol is to promote, facilitate and strengthen cooperation among states Parties in order to prevent, combat and eradicate the illicit manufacturing of and trafficking in firearms, their parts and components and ammunition.</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9FE2-C182-4A08-9694-D0F664A943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22: </a:t>
            </a:r>
            <a:r>
              <a:rPr b="1" lang="en-GB" sz="1200" spc="-1" strike="noStrike" u="sng">
                <a:solidFill>
                  <a:srgbClr val="000000"/>
                </a:solidFill>
                <a:uFillTx/>
                <a:latin typeface="Calibri"/>
              </a:rPr>
              <a:t>ARTICLE 3 - USE OF TERMS FOR THE PUPOSE OF THIS PROTOCOL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FIREARM</a:t>
            </a:r>
            <a:r>
              <a:rPr b="0" lang="en-GB" sz="1200" spc="-1" strike="noStrike">
                <a:solidFill>
                  <a:srgbClr val="000000"/>
                </a:solidFill>
                <a:latin typeface="Calibri"/>
              </a:rPr>
              <a:t>-Shall mean any portable barrelled weapon that expels, is designed to expel or may be readily converted to expel a shot, bullet or projectile by the action of an explosive, excluding antique firearms or their replicas. Antique firearms and their replicas shall be defined in accordance with domestic law. In no case , however shall antique firearms include firearms included firearms manufactured after 1899.</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ARTS &amp; COMPONENTS</a:t>
            </a:r>
            <a:r>
              <a:rPr b="0" lang="en-GB" sz="1200" spc="-1" strike="noStrike">
                <a:solidFill>
                  <a:srgbClr val="000000"/>
                </a:solidFill>
                <a:latin typeface="Calibri"/>
              </a:rPr>
              <a:t>-Shall mean any element or replacement element specifically designed for a firearm and essential to its operation, including a barrel, frame or receiver, slide or cylinder, bolt or breach block and any device designed or adapted to diminish the sound caused by firing a firearm.</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MMUNITION</a:t>
            </a:r>
            <a:r>
              <a:rPr b="0" lang="en-GB" sz="1200" spc="-1" strike="noStrike">
                <a:solidFill>
                  <a:srgbClr val="000000"/>
                </a:solidFill>
                <a:latin typeface="Calibri"/>
              </a:rPr>
              <a:t>-Shall mean the complete round or its components, including cartridge cases, primers, propellant powder, bullets or projectiles, that are used in a firearm. Provided that those components are themselves subject to authorization in the respective State Party.</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LLICIT MANUFACTURING</a:t>
            </a:r>
            <a:r>
              <a:rPr b="0" lang="en-GB" sz="1200" spc="-1" strike="noStrike">
                <a:solidFill>
                  <a:srgbClr val="000000"/>
                </a:solidFill>
                <a:latin typeface="Calibri"/>
              </a:rPr>
              <a:t>-Shall mean the manufacturing or assembly of firearms, their parts and components or ammunition.</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28560" indent="-171360">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From parts and components illicitly trafficked.</a:t>
            </a:r>
            <a:endParaRPr b="0" lang="en-US" sz="1200" spc="-1" strike="noStrike">
              <a:solidFill>
                <a:srgbClr val="000000"/>
              </a:solidFill>
              <a:latin typeface="Calibri"/>
            </a:endParaRPr>
          </a:p>
          <a:p>
            <a:pPr lvl="1" marL="628560" indent="-171360">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Without a licence or authorization from a competent authority of the State Party where the manufacture or assembly takes place; or</a:t>
            </a:r>
            <a:endParaRPr b="0" lang="en-US" sz="1200" spc="-1" strike="noStrike">
              <a:solidFill>
                <a:srgbClr val="000000"/>
              </a:solidFill>
              <a:latin typeface="Calibri"/>
            </a:endParaRPr>
          </a:p>
          <a:p>
            <a:pPr lvl="1" marL="628560" indent="-171360">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Without marking the firearms at the time of manufacture, in accordance with article 8 of this Protocol;</a:t>
            </a:r>
            <a:endParaRPr b="0" lang="en-US" sz="1200" spc="-1" strike="noStrike">
              <a:solidFill>
                <a:srgbClr val="000000"/>
              </a:solidFill>
              <a:latin typeface="Calibri"/>
            </a:endParaRPr>
          </a:p>
          <a:p>
            <a:pPr lvl="1" marL="628560" indent="0">
              <a:lnSpc>
                <a:spcPct val="90000"/>
              </a:lnSpc>
              <a:spcBef>
                <a:spcPts val="4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lvl="1" marL="628560" indent="-171360">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Licensing or authorization of the manufacture of parts and components shall be in accordance with domestic law;</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LLICIT TRAFFICKING</a:t>
            </a:r>
            <a:r>
              <a:rPr b="0" lang="en-GB" sz="1200" spc="-1" strike="noStrike">
                <a:solidFill>
                  <a:srgbClr val="000000"/>
                </a:solidFill>
                <a:latin typeface="Calibri"/>
              </a:rPr>
              <a:t>-Shall mean the import, export, acquisition, sale, delivery, movement or transfer of firearms, their parts and components and ammunition from or across the territory of one state to that of another State Party if any one of the Ste Parties concerned does not authorize it in accordance with the terms of this Protocol or if the firearms are not marked in accordance with article 8 of this Protocol;</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RACING</a:t>
            </a:r>
            <a:r>
              <a:rPr b="0" lang="en-GB" sz="1200" spc="-1" strike="noStrike">
                <a:solidFill>
                  <a:srgbClr val="000000"/>
                </a:solidFill>
                <a:latin typeface="Calibri"/>
              </a:rPr>
              <a:t>-Shall mean the systematic tracking of firearms and where possible their parts and components and ammunition from manufacturer to purchaser for the purpose of assisting the competent authorities of States Parties in detecting, investigating and analysing illicit manufacturing and illicit trafficking.</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4E46-D1E4-4656-B580-E48FCDC4C7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22: </a:t>
            </a:r>
            <a:r>
              <a:rPr b="1" lang="en-GB" sz="1200" spc="-1" strike="noStrike" u="sng">
                <a:solidFill>
                  <a:srgbClr val="000000"/>
                </a:solidFill>
                <a:uFillTx/>
                <a:latin typeface="Calibri"/>
              </a:rPr>
              <a:t>ARTICLE 4 - SCOPE OF APPLICATION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tocol shall apply, except as otherwise stated herein, to the prevention of illicit manufacturing of and trafficking in firearms, their parts and components and ammunition and to the investigation and prosecution of offences established in accordance with article 5 of this Protocol where those offences are transnational in nature and involve an organized criminal grou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tocol shall not apply to state-to state transactions or to state transfers where the application of the Protocol would prejudice the right of a State Party to take action in the interest of national security consistent with the Charter of the united Nations.</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73EA-F566-41F9-A1A1-095476ED34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22: </a:t>
            </a:r>
            <a:r>
              <a:rPr b="1" lang="en-GB" sz="1200" spc="-1" strike="noStrike" u="sng">
                <a:solidFill>
                  <a:srgbClr val="000000"/>
                </a:solidFill>
                <a:uFillTx/>
                <a:latin typeface="Calibri"/>
              </a:rPr>
              <a:t>ARTICLE 5 – CRIMINALIZATION (a)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State Party shall adopt such legislative and other measures as may be necessary to establish as criminal offences the following conduct, when committed intentional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icit manufacturing of firearms, their parts and components and ammunitio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icit trafficking in firearms, their parts and components and ammunitio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12D6-7D40-4C81-9B66-FB56480551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N FIREARMS PROTOCOL: (22 SLIDES, 2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8 of 22: </a:t>
            </a:r>
            <a:r>
              <a:rPr b="1" lang="en-GB" sz="1200" spc="-1" strike="noStrike" u="sng">
                <a:solidFill>
                  <a:srgbClr val="000000"/>
                </a:solidFill>
                <a:uFillTx/>
                <a:latin typeface="Calibri"/>
              </a:rPr>
              <a:t>ARTICLE 5 – CRIMINALIZATION (b) </a:t>
            </a:r>
            <a:r>
              <a:rPr b="1" lang="en-GB" sz="1200" spc="-1" strike="noStrike">
                <a:solidFill>
                  <a:srgbClr val="000000"/>
                </a:solidFill>
                <a:latin typeface="Calibri"/>
              </a:rPr>
              <a:t>(1 SLIDE, 1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ject to the basic concepts of its legal system, attempting to commit or participating as an accomplice in an offence established in accordance with paragraph 1 of this article; 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rganizing, directing, aiding, abetting, facilitating or counselling the commission of an offence established in accordance with paragraph 1 of this articl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6A8B-980F-466D-AC41-EE3E0522BC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42BDF-34CC-4799-8969-20E919BDB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0B7D7-955E-42E8-A172-EAD8737DA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D6471-DDCB-48A9-8984-CA59BBAFE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D530D-3E4C-44D2-875B-A7FF35672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65BA5-9253-4B7E-9787-B21CCADE1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B3406-4E7B-4BCE-828A-B1F8E1CF7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E79E8-3BD0-45C2-8C13-CE32A5423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650BF-F40C-4C9A-9A4C-598BEE7A9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ECE33-C17C-4960-A17D-643F87D64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FBC58-D362-4BA5-9237-30A88E8F2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0F17-8E3D-4EA6-91DF-5A547A4AF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DFC65-C66A-49F9-8B3F-E023FB127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E30C-52A8-498D-9BD4-C66316299D3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56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ational Legislation</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2"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EB6EEB51-9763-49DF-B0BF-3118E727BD7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7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6 - Confiscation Seizure and Dispos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s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iz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al</a:t>
            </a:r>
            <a:endParaRPr b="0" lang="en-US" sz="2400" spc="-1" strike="noStrike">
              <a:solidFill>
                <a:srgbClr val="000000"/>
              </a:solidFill>
              <a:latin typeface="Arial"/>
            </a:endParaRPr>
          </a:p>
        </p:txBody>
      </p:sp>
      <p:sp>
        <p:nvSpPr>
          <p:cNvPr id="80"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8907B96B-A9AE-4692-94C9-E798CBEC9CC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8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7 - Record Kee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ropriate Markings Required by Article 8 of this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ses Involving Transactions in Firearms, their Parts, Components and Ammunition</a:t>
            </a:r>
            <a:endParaRPr b="0" lang="en-US" sz="2400" spc="-1" strike="noStrike">
              <a:solidFill>
                <a:srgbClr val="000000"/>
              </a:solidFill>
              <a:latin typeface="Arial"/>
            </a:endParaRPr>
          </a:p>
        </p:txBody>
      </p:sp>
      <p:sp>
        <p:nvSpPr>
          <p:cNvPr id="83"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F5E1C668-86D6-4B76-8B8F-35A05714BBE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8 - Marking of Firea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Time of Manufacture of each Firea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appropriate simple marking on each Imported Firea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t the Time of Transfer </a:t>
            </a:r>
            <a:endParaRPr b="0" lang="en-US" sz="2400" spc="-1" strike="noStrike">
              <a:solidFill>
                <a:srgbClr val="000000"/>
              </a:solidFill>
              <a:latin typeface="Arial"/>
            </a:endParaRPr>
          </a:p>
        </p:txBody>
      </p:sp>
      <p:sp>
        <p:nvSpPr>
          <p:cNvPr id="86" name="Rectangle 3"/>
          <p:cNvSpPr/>
          <p:nvPr/>
        </p:nvSpPr>
        <p:spPr>
          <a:xfrm>
            <a:off x="76147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2175BE90-FBD4-4F37-99F4-953C8BE696C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8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9 - Deactivation of Firea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ssential Parts of a Deactivated Firearm are to be Rendered Permanently Inoper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ments are to be made for Deactivation Measures to be Verifi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ication by a Competent Authority is to be Included</a:t>
            </a:r>
            <a:endParaRPr b="0" lang="en-US" sz="2400" spc="-1" strike="noStrike">
              <a:solidFill>
                <a:srgbClr val="000000"/>
              </a:solidFill>
              <a:latin typeface="Arial"/>
            </a:endParaRPr>
          </a:p>
        </p:txBody>
      </p:sp>
      <p:sp>
        <p:nvSpPr>
          <p:cNvPr id="89"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39513B80-1EAE-48E9-87CC-96FDA576327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9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0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Requirements for Export, Import and Transit Licensing or Authorization Systems</a:t>
            </a:r>
            <a:endParaRPr b="0" lang="en-US" sz="2400" spc="-1" strike="noStrike">
              <a:solidFill>
                <a:srgbClr val="000000"/>
              </a:solidFill>
              <a:latin typeface="Arial"/>
            </a:endParaRPr>
          </a:p>
        </p:txBody>
      </p:sp>
      <p:sp>
        <p:nvSpPr>
          <p:cNvPr id="92"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89CDEFEA-D7AC-4B33-9279-58E472B8DFD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94"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1 - Security &amp; Prevention Meas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quire the Security of Firear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crease the effectiveness of Import, Export and Transit Controls</a:t>
            </a:r>
            <a:endParaRPr b="0" lang="en-US" sz="2400" spc="-1" strike="noStrike">
              <a:solidFill>
                <a:srgbClr val="000000"/>
              </a:solidFill>
              <a:latin typeface="Arial"/>
            </a:endParaRPr>
          </a:p>
        </p:txBody>
      </p:sp>
      <p:sp>
        <p:nvSpPr>
          <p:cNvPr id="95"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75CD0DF4-4D8D-4984-84CB-BEB435D132E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9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2 –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Parties shall exchange among themselves, relevant information on matters such a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d Criminal Grou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s of Concealmen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and Mea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Experiences  </a:t>
            </a:r>
            <a:endParaRPr b="0" lang="en-US" sz="2400" spc="-1" strike="noStrike">
              <a:solidFill>
                <a:srgbClr val="000000"/>
              </a:solidFill>
              <a:latin typeface="Arial"/>
            </a:endParaRPr>
          </a:p>
        </p:txBody>
      </p:sp>
      <p:sp>
        <p:nvSpPr>
          <p:cNvPr id="98" name="Rectangle 3"/>
          <p:cNvSpPr/>
          <p:nvPr/>
        </p:nvSpPr>
        <p:spPr>
          <a:xfrm>
            <a:off x="764064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CCA50ACE-268D-4B79-ADBF-06BA476ADC3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0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2 –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Parties shall provide to or share with each other, as appropria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Parties shall cooperate in The Tracing of Firear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the basic concepts of its Legal System or any International Agreements </a:t>
            </a:r>
            <a:endParaRPr b="0" lang="en-US" sz="2400" spc="-1" strike="noStrike">
              <a:solidFill>
                <a:srgbClr val="000000"/>
              </a:solidFill>
              <a:latin typeface="Arial"/>
            </a:endParaRPr>
          </a:p>
        </p:txBody>
      </p:sp>
      <p:sp>
        <p:nvSpPr>
          <p:cNvPr id="101"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618D09BC-2466-49E4-B166-2C76C9D9CFA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0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3 – Coope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Parties shall cooperate at the Bilateral, Regional and International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Body or a single Point of Conta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Parties shall seek the support and cooperation of Manufacturers etc</a:t>
            </a:r>
            <a:endParaRPr b="0" lang="en-US" sz="2400" spc="-1" strike="noStrike">
              <a:solidFill>
                <a:srgbClr val="000000"/>
              </a:solidFill>
              <a:latin typeface="Arial"/>
            </a:endParaRPr>
          </a:p>
        </p:txBody>
      </p:sp>
      <p:sp>
        <p:nvSpPr>
          <p:cNvPr id="104"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EB885D6B-BD27-4057-B62B-0D47840E13D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06"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4 – Training and Technical Assistance</a:t>
            </a:r>
            <a:endParaRPr b="0" lang="en-US" sz="2800" spc="-1" strike="noStrike">
              <a:solidFill>
                <a:srgbClr val="000000"/>
              </a:solidFill>
              <a:latin typeface="Arial"/>
            </a:endParaRPr>
          </a:p>
        </p:txBody>
      </p:sp>
      <p:sp>
        <p:nvSpPr>
          <p:cNvPr id="107"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8BE780C1-A766-4761-968C-328245B7435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pic>
        <p:nvPicPr>
          <p:cNvPr id="54" name="Content Placeholder 4" descr=""/>
          <p:cNvPicPr/>
          <p:nvPr/>
        </p:nvPicPr>
        <p:blipFill>
          <a:blip r:embed="rId1"/>
          <a:stretch/>
        </p:blipFill>
        <p:spPr>
          <a:xfrm>
            <a:off x="1523880" y="1447920"/>
            <a:ext cx="6096240" cy="4064040"/>
          </a:xfrm>
          <a:prstGeom prst="rect">
            <a:avLst/>
          </a:prstGeom>
          <a:ln w="0">
            <a:noFill/>
          </a:ln>
        </p:spPr>
      </p:pic>
      <p:sp>
        <p:nvSpPr>
          <p:cNvPr id="55"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AB3A34F5-0619-4D73-9E40-ED153575C8D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09"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5 – Brokers and Broke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Registration of Brokers operating within their terri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Licensing or Authorization of Broke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ing Disclosure on Import and Export Licences or Authorizations</a:t>
            </a:r>
            <a:endParaRPr b="0" lang="en-US" sz="2400" spc="-1" strike="noStrike">
              <a:solidFill>
                <a:srgbClr val="000000"/>
              </a:solidFill>
              <a:latin typeface="Arial"/>
            </a:endParaRPr>
          </a:p>
        </p:txBody>
      </p:sp>
      <p:sp>
        <p:nvSpPr>
          <p:cNvPr id="110"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BFD4F665-6247-4BED-BD1A-2B06872FFC7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12"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6 – Settlement of Dispu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s Parties shall endeavor to settle disput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dispute between two or more States Par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te Party may at the time of sign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tate Party that has made a Reservation</a:t>
            </a:r>
            <a:endParaRPr b="0" lang="en-US" sz="2400" spc="-1" strike="noStrike">
              <a:solidFill>
                <a:srgbClr val="000000"/>
              </a:solidFill>
              <a:latin typeface="Arial"/>
            </a:endParaRPr>
          </a:p>
        </p:txBody>
      </p:sp>
      <p:sp>
        <p:nvSpPr>
          <p:cNvPr id="113"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3CB4507E-6E64-4793-9E58-C09E210E1D3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15"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7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f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on</a:t>
            </a:r>
            <a:endParaRPr b="0" lang="en-US" sz="2400" spc="-1" strike="noStrike">
              <a:solidFill>
                <a:srgbClr val="000000"/>
              </a:solidFill>
              <a:latin typeface="Arial"/>
            </a:endParaRPr>
          </a:p>
        </p:txBody>
      </p:sp>
      <p:sp>
        <p:nvSpPr>
          <p:cNvPr id="116"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6D61AF42-7BE0-44C4-9871-295DDFF5267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11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ing Artic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18 Entry into For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19 Amend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20 Denun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21 Depositary and Languages</a:t>
            </a:r>
            <a:endParaRPr b="0" lang="en-US" sz="2400" spc="-1" strike="noStrike">
              <a:solidFill>
                <a:srgbClr val="000000"/>
              </a:solidFill>
              <a:latin typeface="Arial"/>
            </a:endParaRPr>
          </a:p>
        </p:txBody>
      </p:sp>
      <p:sp>
        <p:nvSpPr>
          <p:cNvPr id="119"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4B0C556C-6ED4-4E70-8633-E4FC1E570AA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21" name="PlaceHolder 2"/>
          <p:cNvSpPr>
            <a:spLocks noGrp="1"/>
          </p:cNvSpPr>
          <p:nvPr>
            <p:ph type="subTitle"/>
          </p:nvPr>
        </p:nvSpPr>
        <p:spPr>
          <a:xfrm>
            <a:off x="990720" y="3657600"/>
            <a:ext cx="723888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International Instrument to enable States to identify and trace in a timely and reliable manner illicit small arms and light weapons</a:t>
            </a:r>
            <a:r>
              <a:rPr b="0" lang="ja-JP" sz="2800" spc="-1" strike="noStrike">
                <a:solidFill>
                  <a:srgbClr val="000000"/>
                </a:solidFill>
                <a:latin typeface="Arial"/>
              </a:rPr>
              <a:t>”</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22"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88CACA57-1F66-4381-94E5-EFD3146B685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24" name=""/>
          <p:cNvSpPr txBox="1"/>
          <p:nvPr/>
        </p:nvSpPr>
        <p:spPr>
          <a:xfrm>
            <a:off x="762120" y="1600200"/>
            <a:ext cx="81532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Ar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Weap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Weapons are illicit under stated circumstances</a:t>
            </a:r>
            <a:endParaRPr b="0" lang="en-US" sz="2400" spc="-1" strike="noStrike">
              <a:solidFill>
                <a:srgbClr val="000000"/>
              </a:solidFill>
              <a:latin typeface="Arial"/>
            </a:endParaRPr>
          </a:p>
        </p:txBody>
      </p:sp>
      <p:sp>
        <p:nvSpPr>
          <p:cNvPr id="125"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9CCD611F-3F1F-48EA-ABE5-DA25C62594E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2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oice of methods for marking Small Arms and Light Weapons is a national prerogative</a:t>
            </a:r>
            <a:endParaRPr b="0" lang="en-US" sz="2400" spc="-1" strike="noStrike">
              <a:solidFill>
                <a:srgbClr val="000000"/>
              </a:solidFill>
              <a:latin typeface="Arial"/>
            </a:endParaRPr>
          </a:p>
        </p:txBody>
      </p:sp>
      <p:sp>
        <p:nvSpPr>
          <p:cNvPr id="128"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4F68A0B6-6E76-498F-AB94-0D0E3DBD86B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30"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Kee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 records for at least 30 ye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records, including records of import and export for at least 20 years</a:t>
            </a:r>
            <a:endParaRPr b="0" lang="en-US" sz="2400" spc="-1" strike="noStrike">
              <a:solidFill>
                <a:srgbClr val="000000"/>
              </a:solidFill>
              <a:latin typeface="Arial"/>
            </a:endParaRPr>
          </a:p>
        </p:txBody>
      </p:sp>
      <p:sp>
        <p:nvSpPr>
          <p:cNvPr id="131"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F4A515E9-980B-40BA-9D2F-09170AA7425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ternational Tracing Instrument</a:t>
            </a:r>
            <a:endParaRPr b="1" lang="en-US" sz="3600" spc="-1" strike="noStrike">
              <a:solidFill>
                <a:srgbClr val="000000"/>
              </a:solidFill>
              <a:latin typeface="Arial"/>
            </a:endParaRPr>
          </a:p>
        </p:txBody>
      </p:sp>
      <p:sp>
        <p:nvSpPr>
          <p:cNvPr id="13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on In Trac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ing Requ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Tracing Request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80C20355-27B8-44D1-9629-396299C545A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rms Trade Treaty (ATT)</a:t>
            </a:r>
            <a:endParaRPr b="1" lang="en-US" sz="36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02 – 27 July 2012,  UN New York</a:t>
            </a:r>
            <a:endParaRPr b="0" lang="en-US" sz="2800" spc="-1" strike="noStrike">
              <a:solidFill>
                <a:srgbClr val="000000"/>
              </a:solidFill>
              <a:latin typeface="Arial"/>
            </a:endParaRPr>
          </a:p>
        </p:txBody>
      </p:sp>
      <p:sp>
        <p:nvSpPr>
          <p:cNvPr id="137"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02310365-A8E2-415A-A9E2-084FE421348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599840"/>
            <a:ext cx="8001000" cy="320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255. Protocol against the Illicit Manufacturing of and trafficking in Firearms</a:t>
            </a:r>
            <a:endParaRPr b="1" lang="en-US" sz="2800" spc="-1" strike="noStrike">
              <a:solidFill>
                <a:srgbClr val="000000"/>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5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0" lang="en-US" sz="3600" spc="-1" strike="noStrike">
              <a:solidFill>
                <a:srgbClr val="000000"/>
              </a:solidFill>
              <a:latin typeface="Arial"/>
            </a:endParaRPr>
          </a:p>
        </p:txBody>
      </p:sp>
      <p:sp>
        <p:nvSpPr>
          <p:cNvPr id="59"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12470B52-6999-4FB5-86E4-862EAD32DD2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Questions</a:t>
            </a:r>
            <a:endParaRPr b="1" lang="en-US" sz="36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140"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BD870116-E437-431D-BC15-D0C7132AF0B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1</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 with the United Nations Convention against Transnational Organized Crime</a:t>
            </a:r>
            <a:endParaRPr b="0" lang="en-US" sz="2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62" name="Rectangle 3"/>
          <p:cNvSpPr/>
          <p:nvPr/>
        </p:nvSpPr>
        <p:spPr>
          <a:xfrm>
            <a:off x="761076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C56BF85D-C51E-407A-8BF7-2389A638011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6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Purpose</a:t>
            </a:r>
            <a:endParaRPr b="0" lang="en-US" sz="2400" spc="-1" strike="noStrike">
              <a:solidFill>
                <a:srgbClr val="000000"/>
              </a:solidFill>
              <a:latin typeface="Arial"/>
            </a:endParaRPr>
          </a:p>
        </p:txBody>
      </p:sp>
      <p:sp>
        <p:nvSpPr>
          <p:cNvPr id="65"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4A1F2298-D8E0-4FC2-8F9D-210D7A7A200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6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3 - Use of Te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ar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s and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 Manufactur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 Traffi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ing</a:t>
            </a:r>
            <a:endParaRPr b="0" lang="en-US" sz="2400" spc="-1" strike="noStrike">
              <a:solidFill>
                <a:srgbClr val="000000"/>
              </a:solidFill>
              <a:latin typeface="Arial"/>
            </a:endParaRPr>
          </a:p>
        </p:txBody>
      </p:sp>
      <p:sp>
        <p:nvSpPr>
          <p:cNvPr id="68"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63A1B0B3-E37A-4F78-8673-D97B4288056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70"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4</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of Application</a:t>
            </a:r>
            <a:endParaRPr b="0" lang="en-US" sz="2400" spc="-1" strike="noStrike">
              <a:solidFill>
                <a:srgbClr val="000000"/>
              </a:solidFill>
              <a:latin typeface="Arial"/>
            </a:endParaRPr>
          </a:p>
        </p:txBody>
      </p:sp>
      <p:sp>
        <p:nvSpPr>
          <p:cNvPr id="71"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8AE555F5-CE1B-4308-91B9-E8AC3F7B134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7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5 – Criminaliz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 Manufacturing of Firear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icit Trafficking in Firear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ifying or Illicitly Obliterating, Removing or Altering the Marking(s) on Firearms Required by Article 8 of this Protocol</a:t>
            </a:r>
            <a:endParaRPr b="0" lang="en-US" sz="2400" spc="-1" strike="noStrike">
              <a:solidFill>
                <a:srgbClr val="000000"/>
              </a:solidFill>
              <a:latin typeface="Arial"/>
            </a:endParaRPr>
          </a:p>
        </p:txBody>
      </p:sp>
      <p:sp>
        <p:nvSpPr>
          <p:cNvPr id="74"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5E883302-4BEB-4232-9814-B08D5D637E0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N Firearms Protocol</a:t>
            </a:r>
            <a:endParaRPr b="1" lang="en-US" sz="3600" spc="-1" strike="noStrike">
              <a:solidFill>
                <a:srgbClr val="000000"/>
              </a:solidFill>
              <a:latin typeface="Arial"/>
            </a:endParaRPr>
          </a:p>
        </p:txBody>
      </p:sp>
      <p:sp>
        <p:nvSpPr>
          <p:cNvPr id="7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cle 5 – Criminaliz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te Party shall adopt such legislative and other measures as may be necessary to establish as criminal offences the following conduc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ing to Commit or Participating as an Accompli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ing, Directing, Aiding, Abetting or Counseling</a:t>
            </a:r>
            <a:endParaRPr b="0" lang="en-US" sz="2400" spc="-1" strike="noStrike">
              <a:solidFill>
                <a:srgbClr val="000000"/>
              </a:solidFill>
              <a:latin typeface="Arial"/>
            </a:endParaRPr>
          </a:p>
        </p:txBody>
      </p:sp>
      <p:sp>
        <p:nvSpPr>
          <p:cNvPr id="77" name="Rectangle 3"/>
          <p:cNvSpPr/>
          <p:nvPr/>
        </p:nvSpPr>
        <p:spPr>
          <a:xfrm>
            <a:off x="7652520" y="6505560"/>
            <a:ext cx="174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02 Slide </a:t>
            </a:r>
            <a:fld id="{4675FDC6-DA11-499F-8BAF-F6F90664A77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18T14:42:48Z</dcterms:modified>
  <cp:revision>235</cp:revision>
  <dc:subject/>
  <dc:title>Slide 1</dc:title>
</cp:coreProperties>
</file>