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CAA1-6CF8-4DDB-B577-18F2E15FE2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3 SLIDES, 1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INTRODUCTION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have seen that one of the most efficient means of protecting the public from the effects of an explosive event is by the use of separation distances.  These ensure that members of the public are always at a tolerably safe distance from the explosives during storage and handl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separation distances frequently extend beyond the boundary of the explosive facil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st experience has shown that without a system of safeguarding the land outside the facility boundary, the civilian population may build dwellings or commercial installations, thereby negating the effective separation dist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is occurs there should only be two options available to the ammunition storage facil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plosive quantity permitted for storage shall be reduced within the facility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creased risk to the civilian  population shall be formally accepted, even if it is above the tolerable risk leve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ither option is undesir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lternative options of: 1) moving the civilian population from the area; or 2) moving the ammunition storage area - are political decisions outside the scope of these guidelin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fore to ensure that explosive facilities are not compromised by civil encroachment of private or public land development within the explosion danger area of the facility, a system of safeguarding should be establish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FBAC-02C2-4FA2-A609-CE7D922008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3 SLIDES, 1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DEFINITION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plosion Danger Area</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explosion danger area</a:t>
            </a:r>
            <a:r>
              <a:rPr b="0" lang="ja-JP" sz="1200" spc="-1" strike="noStrike">
                <a:solidFill>
                  <a:srgbClr val="000000"/>
                </a:solidFill>
                <a:latin typeface="Calibri"/>
              </a:rPr>
              <a:t>’</a:t>
            </a:r>
            <a:r>
              <a:rPr b="0" lang="en-GB" sz="1200" spc="-1" strike="noStrike">
                <a:solidFill>
                  <a:srgbClr val="000000"/>
                </a:solidFill>
                <a:latin typeface="Calibri"/>
              </a:rPr>
              <a:t> refers to the area surrounding an explosive facility determined by the distances any blast or fragments may be expected to travel due to the detonation of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Outside Quantity Distance</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outside quantity distance</a:t>
            </a:r>
            <a:r>
              <a:rPr b="0" lang="ja-JP" sz="1200" spc="-1" strike="noStrike">
                <a:solidFill>
                  <a:srgbClr val="000000"/>
                </a:solidFill>
                <a:latin typeface="Calibri"/>
              </a:rPr>
              <a:t>’</a:t>
            </a:r>
            <a:r>
              <a:rPr b="0" lang="en-GB" sz="1200" spc="-1" strike="noStrike">
                <a:solidFill>
                  <a:srgbClr val="000000"/>
                </a:solidFill>
                <a:latin typeface="Calibri"/>
              </a:rPr>
              <a:t> (OQD) refers to the minimum permissible distance between a potential explosion site (PES) and an exposed site (ES) outside the explosives are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Inhabited Building Distance</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inhabited building distance</a:t>
            </a:r>
            <a:r>
              <a:rPr b="0" lang="ja-JP" sz="1200" spc="-1" strike="noStrike">
                <a:solidFill>
                  <a:srgbClr val="000000"/>
                </a:solidFill>
                <a:latin typeface="Calibri"/>
              </a:rPr>
              <a:t>’</a:t>
            </a:r>
            <a:r>
              <a:rPr b="0" lang="en-GB" sz="1200" spc="-1" strike="noStrike">
                <a:solidFill>
                  <a:srgbClr val="000000"/>
                </a:solidFill>
                <a:latin typeface="Calibri"/>
              </a:rPr>
              <a:t> (IBD) refers to the separation between potential explosive sites (PES) and non-associated exposed sites (ES) requiring a high degree of protection from an accidental explosion.  The IBD is a type of Outside Quantity Distance (OQ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Yellow Line</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yellow line</a:t>
            </a:r>
            <a:r>
              <a:rPr b="0" lang="ja-JP" sz="1200" spc="-1" strike="noStrike">
                <a:solidFill>
                  <a:srgbClr val="000000"/>
                </a:solidFill>
                <a:latin typeface="Calibri"/>
              </a:rPr>
              <a:t>’</a:t>
            </a:r>
            <a:r>
              <a:rPr b="0" lang="en-GB" sz="1200" spc="-1" strike="noStrike">
                <a:solidFill>
                  <a:srgbClr val="000000"/>
                </a:solidFill>
                <a:latin typeface="Calibri"/>
              </a:rPr>
              <a:t> refers to a continuous line drawn on the map or plan of an explosives area which encompasses the explosives area and defines the minimum permissible distance between a potential explosion site and inhabited buildings, caravan sites or assembly places.  Alternatively it may refer to a line at the inhabited building distance within which the construction of new inhabited buildings, caravan sights and public traffic routes are restricted. The area within the Yellow Line is known as the </a:t>
            </a:r>
            <a:r>
              <a:rPr b="0" lang="ja-JP" sz="1200" spc="-1" strike="noStrike">
                <a:solidFill>
                  <a:srgbClr val="000000"/>
                </a:solidFill>
                <a:latin typeface="Calibri"/>
              </a:rPr>
              <a:t>“</a:t>
            </a:r>
            <a:r>
              <a:rPr b="0" lang="en-GB" sz="1200" spc="-1" strike="noStrike">
                <a:solidFill>
                  <a:srgbClr val="000000"/>
                </a:solidFill>
                <a:latin typeface="Calibri"/>
              </a:rPr>
              <a:t>Yellow Zone</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Purple Line</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purple line</a:t>
            </a:r>
            <a:r>
              <a:rPr b="0" lang="ja-JP" sz="1200" spc="-1" strike="noStrike">
                <a:solidFill>
                  <a:srgbClr val="000000"/>
                </a:solidFill>
                <a:latin typeface="Calibri"/>
              </a:rPr>
              <a:t>’</a:t>
            </a:r>
            <a:r>
              <a:rPr b="0" lang="en-GB" sz="1200" spc="-1" strike="noStrike">
                <a:solidFill>
                  <a:srgbClr val="000000"/>
                </a:solidFill>
                <a:latin typeface="Calibri"/>
              </a:rPr>
              <a:t> refers to a continuous line drawn on a map or plan of an explosives storage location, which encompasses the explosives area and defines the minimum permissible distance between a potential explosion site and inhabited buildings which are by definition of vulnerable construction. It is usually at twice the yellow line or normal inhabited building distance determined by blast considerations.  In other words, if the IBD and therefore the yellow line is calculated to be a distance of 400 meters, then the purple line will be out to 800 meters.  Within this area, the construction of new inhabited buildings of curtain-wall construction or high rise buildings is restricted. The area within the Purple Line is known as the </a:t>
            </a:r>
            <a:r>
              <a:rPr b="0" lang="ja-JP" sz="1200" spc="-1" strike="noStrike">
                <a:solidFill>
                  <a:srgbClr val="000000"/>
                </a:solidFill>
                <a:latin typeface="Calibri"/>
              </a:rPr>
              <a:t>“</a:t>
            </a:r>
            <a:r>
              <a:rPr b="0" lang="en-GB" sz="1200" spc="-1" strike="noStrike">
                <a:solidFill>
                  <a:srgbClr val="000000"/>
                </a:solidFill>
                <a:latin typeface="Calibri"/>
              </a:rPr>
              <a:t>Purple Zone</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AA5C-E381-4C12-B5F3-4A1600D4EA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CUTION: (3 SLIDES, 1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3: </a:t>
            </a:r>
            <a:r>
              <a:rPr b="1" lang="en-GB" sz="1200" spc="-1" strike="noStrike" u="sng">
                <a:solidFill>
                  <a:srgbClr val="000000"/>
                </a:solidFill>
                <a:uFillTx/>
                <a:latin typeface="Calibri"/>
              </a:rPr>
              <a:t>DEFINITION - SAFEGUARDING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0" lang="ja-JP" sz="1200" spc="-1" strike="noStrike">
                <a:solidFill>
                  <a:srgbClr val="000000"/>
                </a:solidFill>
                <a:latin typeface="Calibri"/>
              </a:rPr>
              <a:t>‘</a:t>
            </a:r>
            <a:r>
              <a:rPr b="0" lang="en-GB" sz="1200" spc="-1" strike="noStrike">
                <a:solidFill>
                  <a:srgbClr val="000000"/>
                </a:solidFill>
                <a:latin typeface="Calibri"/>
              </a:rPr>
              <a:t>safeguarding</a:t>
            </a:r>
            <a:r>
              <a:rPr b="0" lang="ja-JP" sz="1200" spc="-1" strike="noStrike">
                <a:solidFill>
                  <a:srgbClr val="000000"/>
                </a:solidFill>
                <a:latin typeface="Calibri"/>
              </a:rPr>
              <a:t>’</a:t>
            </a:r>
            <a:r>
              <a:rPr b="0" lang="en-GB" sz="1200" spc="-1" strike="noStrike">
                <a:solidFill>
                  <a:srgbClr val="000000"/>
                </a:solidFill>
                <a:latin typeface="Calibri"/>
              </a:rPr>
              <a:t> refers to a consultative procedure with the appropriate local authority whereby safeguarded areas outside boundary fences are established for each explosives establish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losives Safeguarding maps for each establishment need to be produced.  This should depict a Yellow Line based on the Inhabited Building Distance (IBD) and a Purple Line, usually but not always, based on 2 x IB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pies are provided to the appropriate local authority. The aim is to restrict the construction of any inhabited building, caravan site, or public traffic routes within the yellow line, and to restrict the construction of curtain-wall and high rise buildings with large glazed areas, between the yellow and purple lin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new applications for development within safeguarded areas should be notified to the national technical authority by the appropriate local authority in order that any necessary objections may be lodg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ystem of explosives safeguarding may not be required if the legal owners of the explosives facility also own all the surrounding land out to the appropriate separation distance for vulnerable buildings. In many cases this is unlikely to be the case, and therefore the State should ensure that it maintains a degree of control over the activities that may take place on that land. Certain activities that result in a low density of civilian presence, such as agriculture, should be permitted. Conversely, the building of civilian dwellings should not be permitted within the explosion danger are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C8C9-79A7-463B-AFD0-105AC6B37F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AFEGUARDING SYSTEMS: (1 SLID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SAFEGUARDING SYSTEM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formal system of safeguarding that permits the ammunition storage organisation to influence what activities are permitted within the explosion danger area should be developed and implemen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development and implementation of an explosives safeguarding system will require the following</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evelopment of an appropriate national technical authority.  This shall represent the State on behalf of all owners of explosives facilities nationwide. This authority should be actively involved in the implementation of an explosive safeguarding system.</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evelopment of appropriate legislation that enables the owners of the explosives facility (usually the State) to influence future development within the explosion danger area. The legislation should not allow the owners of the explosive facility to have a statutory right to unilaterally impose restrictions on development, although it may allow an appropriate Minister to impose such restrictions after all consultation has taken plac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evelopment of a consultative process between the national technical authority, local authority responsible for authorising building planning permission, and the owners of the explosives facility.</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evelopment of an appeals process in case planning permission is actually granted for development within the explosion danger area, even despite the safety requirements of the owners of the explosives facility.</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evelopment of appropriate procedures to be followed by all parties prior to any planning permission being granted for development of land within the explosion danger are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5518-DE5B-47E9-975D-200E9A2AC2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XPLOSIVE SAFEGUARDING MAP: (2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 </a:t>
            </a:r>
            <a:r>
              <a:rPr b="1" lang="en-GB" sz="1200" spc="-1" strike="noStrike" u="sng">
                <a:solidFill>
                  <a:srgbClr val="000000"/>
                </a:solidFill>
                <a:uFillTx/>
                <a:latin typeface="Calibri"/>
              </a:rPr>
              <a:t>EXPLOSIVES SAFEGUARDING MAP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SM is likely to be a map, preferably of a scale such as 1:10,000, although 1:2500 is preferable.  Alternatively, an aerial photo (or photos) may be 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Marking our territory</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the map, it is useful to annotate the locations of the PES and other significant sit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ap should also show the perimeter of the land which is owned by the explosive facility.  This is normally marked with a red l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is point, it should be evident on the map where the </a:t>
            </a:r>
            <a:r>
              <a:rPr b="0" lang="ja-JP" sz="1200" spc="-1" strike="noStrike">
                <a:solidFill>
                  <a:srgbClr val="000000"/>
                </a:solidFill>
                <a:latin typeface="Calibri"/>
              </a:rPr>
              <a:t>‘</a:t>
            </a:r>
            <a:r>
              <a:rPr b="0" lang="en-GB" sz="1200" spc="-1" strike="noStrike">
                <a:solidFill>
                  <a:srgbClr val="000000"/>
                </a:solidFill>
                <a:latin typeface="Calibri"/>
              </a:rPr>
              <a:t>actual</a:t>
            </a:r>
            <a:r>
              <a:rPr b="0" lang="ja-JP" sz="1200" spc="-1" strike="noStrike">
                <a:solidFill>
                  <a:srgbClr val="000000"/>
                </a:solidFill>
                <a:latin typeface="Calibri"/>
              </a:rPr>
              <a:t>’</a:t>
            </a:r>
            <a:r>
              <a:rPr b="0" lang="en-GB" sz="1200" spc="-1" strike="noStrike">
                <a:solidFill>
                  <a:srgbClr val="000000"/>
                </a:solidFill>
                <a:latin typeface="Calibri"/>
              </a:rPr>
              <a:t> landmarks and boundaries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Marking the Yellow Zon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xt up, we would look to mark the </a:t>
            </a:r>
            <a:r>
              <a:rPr b="0" lang="ja-JP" sz="1200" spc="-1" strike="noStrike">
                <a:solidFill>
                  <a:srgbClr val="000000"/>
                </a:solidFill>
                <a:latin typeface="Calibri"/>
              </a:rPr>
              <a:t>‘</a:t>
            </a:r>
            <a:r>
              <a:rPr b="0" lang="en-GB" sz="1200" spc="-1" strike="noStrike">
                <a:solidFill>
                  <a:srgbClr val="000000"/>
                </a:solidFill>
                <a:latin typeface="Calibri"/>
              </a:rPr>
              <a:t>yellow line</a:t>
            </a:r>
            <a:r>
              <a:rPr b="0" lang="ja-JP" sz="1200" spc="-1" strike="noStrike">
                <a:solidFill>
                  <a:srgbClr val="000000"/>
                </a:solidFill>
                <a:latin typeface="Calibri"/>
              </a:rPr>
              <a:t>’</a:t>
            </a:r>
            <a:r>
              <a:rPr b="0" lang="en-GB" sz="1200" spc="-1" strike="noStrike">
                <a:solidFill>
                  <a:srgbClr val="000000"/>
                </a:solidFill>
                <a:latin typeface="Calibri"/>
              </a:rPr>
              <a:t>.  Within this yellow line is the yellow zone.  This should go all the way around the explosives facil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_x0001_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Yellow Line distance should be at the Inhabited Building Distance (IBD), see IATG 02.30 "Licensing of explosive facil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_x0001_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safeguarding is approved then no inhabited buildings should be developed within the Yellow Zone without the consultation process being follow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Marking the Purple Zon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urple Zone should be indicated by a Purple Line around the explosives facil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_x0001_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urple Line distance should be at the Vulnerable Building Distance (2 x IBD), again see IATG 02.30 Licensing of explosive facil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_x0001_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safeguarding is approved then no vulnerable buildings should be developed within the Purple Zone without the consultation process being follow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_x0001_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ples of such vulnerable buildings would be high rise buildings, or buildings with curtain walls or glass facad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8B72-70CD-4968-8657-CB88770A9B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XPLOSIVE SAFEGUARDING MAP: (2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 </a:t>
            </a:r>
            <a:r>
              <a:rPr b="1" lang="en-GB" sz="1200" spc="-1" strike="noStrike" u="sng">
                <a:solidFill>
                  <a:srgbClr val="000000"/>
                </a:solidFill>
                <a:uFillTx/>
                <a:latin typeface="Calibri"/>
              </a:rPr>
              <a:t>WORKED EXAMPL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structor:  Identify a map that can be pinned to the wall, and annotate on some notional PES locations, some other pertinent sites, and especially some roads and urban areas, as well as a hospital or similar vulnerable building.  Mark on a notional red line for the site boundary.  Now take the students through the process of identifying the location of the yellow line based on QDs.  Assume the purple line is 2 x IBD and annotate this to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21F1-DFD4-4490-A056-1C40995422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DIRECTIONAL WEAPONS MAP: (1 SLID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DIRECTIONAL WEAPONS MAP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ddition to the Explosives safeguarding Map, there should also be a map which shows the location and orientation of directional weapons, such as missiles with shaped charge warhea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should be shown – as sited – to provide information in a clear form about where directional effects might be encountered if there is an explosive event and these are initiated.  We have already seen that such weapons should be stored with due consideration, such as pointing towards an adequate traverse, or even a natural traverse like a hillsid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FB3C-3712-47FB-9489-FAB2A2BF14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AINTENANCE OF THE SAFEGUARDED AREA: (1 SLIDE, 1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MAINTAINANCE OF THE SAFEGUARDED AREA (1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afeguarding of explosive facilities is crucial to the continued operational effectiveness of a si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hough a statutory system of consultation may ensure that the majority of intended land developments come to the notice of the owners of the explosive facility, the mechanism may not be fool-proof.  For example there may be administrative errors, illegal developments, or procedural failu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plosive Safeguarding Map should be formally reviewed on a quarterly basis.   This should include a physical check of the land within the safeguarded area to ensure that there has been no unauthorised land develop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You should now lead a class discussion into the maintenance of safeguarded areas to maximise student involvement in this subjec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You should get them to explore</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 to physically do the safeguard area checks. (For example, a helicopter recce every three month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to do if an encroachment is discovered. (If an actual (or even potential) encroachment is discovered, it is essential that its full nature is determined quickly, but with the utmost discretion.  This will include commencement of consultation proceedings with the local authority and other required stakeholders.  The parent ministry of the explosives facility should be contacted without delay so that a formal consultative process with the relevant government ministry or local planning authority may be instigated).</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o should actually take action – as in which individual or group.  (No member of the explosive facility staff should take unilateral action by contacting the local authorities, as this may compromise any future legal processe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rders to stop work may only be given by the national technical authority or local authority to personnel working on a building or building si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happens if there is actual development?  (Immediate action within the explosives facility, such as stock relocation, may be necessary to ensure that any risk to members of the public is maintained as tolerable and as low as reasonably practicable. This could affect quantity and separation distances and may not be an option, so suspension of work should be the priority option for the explosives facility to legally pursu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ACB7-A365-48B7-B1C0-5B5EDF4318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D468E-5329-4AC0-BF9E-D8401F5A2A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43C0A-07BB-4B47-9667-7A69B6CDD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6FDCC-0B11-4619-B4AB-77574FC14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5D8B7-82A5-4F09-BBD7-8F1367B0B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80BAD-2210-4616-8FD8-8C23911A2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78D50-DAB0-4BE5-A820-BEC4CE154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B267C-5D3E-4224-BE90-27C3DFCF9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9C7C3-4C17-4EE8-BBD5-AACBD87E1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844FD-8C23-4CAD-8094-C7C09CB30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A2A9B-9697-4AF7-9BD3-D64637BCF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1B8F7-D320-4014-9DDF-BDA1C4688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6BCB7-AC40-4DBB-8ED8-6E9488310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42861-6106-41A4-973B-00BE1F290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7AF41-18AF-49EA-8790-990BC5EB9B7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feguarding of Explosive Facilities</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6 Slide </a:t>
            </a:r>
            <a:fld id="{E6336851-7EB3-4673-AF35-1EFEA463EEC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tions</a:t>
            </a:r>
            <a:endParaRPr b="1" lang="en-US" sz="3600" spc="-1" strike="noStrike">
              <a:solidFill>
                <a:srgbClr val="000000"/>
              </a:solidFill>
              <a:latin typeface="Arial"/>
            </a:endParaRPr>
          </a:p>
        </p:txBody>
      </p:sp>
      <p:sp>
        <p:nvSpPr>
          <p:cNvPr id="54"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sion Danger Area</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side Quantity Dista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abited Building Dista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llow Lin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le Line</a:t>
            </a:r>
            <a:endParaRPr b="0" lang="en-US" sz="2800" spc="-1" strike="noStrike">
              <a:solidFill>
                <a:srgbClr val="000000"/>
              </a:solidFill>
              <a:latin typeface="Arial"/>
            </a:endParaRPr>
          </a:p>
        </p:txBody>
      </p:sp>
      <p:sp>
        <p:nvSpPr>
          <p:cNvPr id="5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6 Slide </a:t>
            </a:r>
            <a:fld id="{41F5C1AF-882B-45CE-B963-10BDC227AE4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tion - Safeguarding</a:t>
            </a:r>
            <a:endParaRPr b="1" lang="en-US" sz="3600" spc="-1" strike="noStrike">
              <a:solidFill>
                <a:srgbClr val="000000"/>
              </a:solidFill>
              <a:latin typeface="Arial"/>
            </a:endParaRPr>
          </a:p>
        </p:txBody>
      </p:sp>
      <p:sp>
        <p:nvSpPr>
          <p:cNvPr id="5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ltative process - involving local authoriti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a Safeguarding Ma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llow Line (IB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le Line (twice the IBD)</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 restrict construction of inhabited buildings</a:t>
            </a:r>
            <a:endParaRPr b="0" lang="en-US" sz="2800" spc="-1" strike="noStrike">
              <a:solidFill>
                <a:srgbClr val="000000"/>
              </a:solidFill>
              <a:latin typeface="Arial"/>
            </a:endParaRPr>
          </a:p>
        </p:txBody>
      </p:sp>
      <p:sp>
        <p:nvSpPr>
          <p:cNvPr id="58"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6 Slide </a:t>
            </a:r>
            <a:fld id="{767DC79D-30F6-4DFA-A968-ACB16B09171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feguarding Systems</a:t>
            </a:r>
            <a:endParaRPr b="1" lang="en-US" sz="3600" spc="-1" strike="noStrike">
              <a:solidFill>
                <a:srgbClr val="000000"/>
              </a:solidFill>
              <a:latin typeface="Arial"/>
            </a:endParaRPr>
          </a:p>
        </p:txBody>
      </p:sp>
      <p:sp>
        <p:nvSpPr>
          <p:cNvPr id="60"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Requirement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ational Technical Author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ltation pro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ppeals pro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permission procedures</a:t>
            </a:r>
            <a:endParaRPr b="0" lang="en-US" sz="2400" spc="-1" strike="noStrike">
              <a:solidFill>
                <a:srgbClr val="000000"/>
              </a:solidFill>
              <a:latin typeface="Arial"/>
            </a:endParaRPr>
          </a:p>
        </p:txBody>
      </p:sp>
      <p:sp>
        <p:nvSpPr>
          <p:cNvPr id="61"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6 Slide </a:t>
            </a:r>
            <a:fld id="{7CE3FF7C-F0ED-4A18-B0D4-62C66D482F7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losives Safeguarding Map (ESM)</a:t>
            </a:r>
            <a:endParaRPr b="1" lang="en-US" sz="3600" spc="-1" strike="noStrike">
              <a:solidFill>
                <a:srgbClr val="000000"/>
              </a:solidFill>
              <a:latin typeface="Arial"/>
            </a:endParaRPr>
          </a:p>
        </p:txBody>
      </p:sp>
      <p:sp>
        <p:nvSpPr>
          <p:cNvPr id="63"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6 Slide </a:t>
            </a:r>
            <a:fld id="{4A0D3C65-558A-413F-985B-2633BC39092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4" name="Picture 5" descr=""/>
          <p:cNvPicPr/>
          <p:nvPr/>
        </p:nvPicPr>
        <p:blipFill>
          <a:blip r:embed="rId1"/>
          <a:stretch/>
        </p:blipFill>
        <p:spPr>
          <a:xfrm>
            <a:off x="2133720" y="1824120"/>
            <a:ext cx="5155920" cy="3863880"/>
          </a:xfrm>
          <a:prstGeom prst="rect">
            <a:avLst/>
          </a:prstGeom>
          <a:ln w="0">
            <a:noFill/>
          </a:ln>
        </p:spPr>
      </p:pic>
      <p:sp>
        <p:nvSpPr>
          <p:cNvPr id="65" name="Oval 40"/>
          <p:cNvSpPr/>
          <p:nvPr/>
        </p:nvSpPr>
        <p:spPr>
          <a:xfrm>
            <a:off x="2838600" y="2352600"/>
            <a:ext cx="3416040" cy="2306880"/>
          </a:xfrm>
          <a:prstGeom prst="ellipse">
            <a:avLst/>
          </a:prstGeom>
          <a:noFill/>
          <a:ln w="255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Oval 41"/>
          <p:cNvSpPr/>
          <p:nvPr/>
        </p:nvSpPr>
        <p:spPr>
          <a:xfrm>
            <a:off x="2374920" y="2035080"/>
            <a:ext cx="4343400" cy="3500640"/>
          </a:xfrm>
          <a:prstGeom prst="ellipse">
            <a:avLst/>
          </a:prstGeom>
          <a:noFill/>
          <a:ln w="25560">
            <a:solidFill>
              <a:srgbClr val="7030a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Down Arrow 10"/>
          <p:cNvSpPr/>
          <p:nvPr/>
        </p:nvSpPr>
        <p:spPr>
          <a:xfrm rot="18878400">
            <a:off x="3017880" y="2063160"/>
            <a:ext cx="268200" cy="1256040"/>
          </a:xfrm>
          <a:prstGeom prst="downArrow">
            <a:avLst>
              <a:gd name="adj1" fmla="val 50000"/>
              <a:gd name="adj2" fmla="val 50041"/>
            </a:avLst>
          </a:prstGeom>
          <a:solidFill>
            <a:srgbClr val="00206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TextBox 9"/>
          <p:cNvSpPr/>
          <p:nvPr/>
        </p:nvSpPr>
        <p:spPr>
          <a:xfrm>
            <a:off x="2133720" y="2014560"/>
            <a:ext cx="1676160" cy="337320"/>
          </a:xfrm>
          <a:prstGeom prst="rect">
            <a:avLst/>
          </a:prstGeom>
          <a:solidFill>
            <a:srgbClr val="00206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Site boundary</a:t>
            </a:r>
            <a:endParaRPr b="0" lang="en-US" sz="1600" spc="-1" strike="noStrike">
              <a:solidFill>
                <a:srgbClr val="000000"/>
              </a:solidFill>
              <a:latin typeface="Arial"/>
            </a:endParaRPr>
          </a:p>
        </p:txBody>
      </p:sp>
      <p:sp>
        <p:nvSpPr>
          <p:cNvPr id="69" name="TextBox 11"/>
          <p:cNvSpPr/>
          <p:nvPr/>
        </p:nvSpPr>
        <p:spPr>
          <a:xfrm>
            <a:off x="5257800" y="1785960"/>
            <a:ext cx="2031840" cy="368280"/>
          </a:xfrm>
          <a:prstGeom prst="rect">
            <a:avLst/>
          </a:prstGeom>
          <a:solidFill>
            <a:srgbClr val="00206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Safeguard Map</a:t>
            </a:r>
            <a:endParaRPr b="0" lang="en-US" sz="1800" spc="-1" strike="noStrike">
              <a:solidFill>
                <a:srgbClr val="000000"/>
              </a:solidFill>
              <a:latin typeface="Arial"/>
            </a:endParaRPr>
          </a:p>
        </p:txBody>
      </p:sp>
      <p:sp>
        <p:nvSpPr>
          <p:cNvPr id="70" name="Rectangle 23"/>
          <p:cNvSpPr/>
          <p:nvPr/>
        </p:nvSpPr>
        <p:spPr>
          <a:xfrm rot="2835000">
            <a:off x="2792160" y="4503600"/>
            <a:ext cx="297000" cy="31248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TextBox 12"/>
          <p:cNvSpPr/>
          <p:nvPr/>
        </p:nvSpPr>
        <p:spPr>
          <a:xfrm>
            <a:off x="2133720" y="4724280"/>
            <a:ext cx="1676160" cy="824040"/>
          </a:xfrm>
          <a:prstGeom prst="rect">
            <a:avLst/>
          </a:prstGeom>
          <a:solidFill>
            <a:srgbClr val="00206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Vulnerable Building distance</a:t>
            </a:r>
            <a:endParaRPr b="0" lang="en-US" sz="1600" spc="-1" strike="noStrike">
              <a:solidFill>
                <a:srgbClr val="000000"/>
              </a:solidFill>
              <a:latin typeface="Arial"/>
            </a:endParaRPr>
          </a:p>
        </p:txBody>
      </p:sp>
      <p:sp>
        <p:nvSpPr>
          <p:cNvPr id="72" name="TextBox 13"/>
          <p:cNvSpPr/>
          <p:nvPr/>
        </p:nvSpPr>
        <p:spPr>
          <a:xfrm>
            <a:off x="5638680" y="3429000"/>
            <a:ext cx="1650960" cy="824040"/>
          </a:xfrm>
          <a:prstGeom prst="rect">
            <a:avLst/>
          </a:prstGeom>
          <a:solidFill>
            <a:srgbClr val="00206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Inhabited Building Distance</a:t>
            </a:r>
            <a:endParaRPr b="0" lang="en-US" sz="1600" spc="-1" strike="noStrike">
              <a:solidFill>
                <a:srgbClr val="000000"/>
              </a:solidFill>
              <a:latin typeface="Arial"/>
            </a:endParaRPr>
          </a:p>
        </p:txBody>
      </p:sp>
      <p:cxnSp>
        <p:nvCxnSpPr>
          <p:cNvPr id="73" name="Straight Arrow Connector 15"/>
          <p:cNvCxnSpPr>
            <a:stCxn id="71" idx="0"/>
          </p:cNvCxnSpPr>
          <p:nvPr/>
        </p:nvCxnSpPr>
        <p:spPr>
          <a:xfrm flipH="1" flipV="1">
            <a:off x="2514240" y="4444560"/>
            <a:ext cx="457920" cy="280080"/>
          </a:xfrm>
          <a:prstGeom prst="straightConnector1">
            <a:avLst/>
          </a:prstGeom>
          <a:ln w="47520">
            <a:solidFill>
              <a:srgbClr val="002060"/>
            </a:solidFill>
            <a:miter/>
            <a:tailEnd len="med" type="triangle" w="med"/>
          </a:ln>
        </p:spPr>
      </p:cxnSp>
      <p:cxnSp>
        <p:nvCxnSpPr>
          <p:cNvPr id="74" name="Straight Arrow Connector 24"/>
          <p:cNvCxnSpPr/>
          <p:nvPr/>
        </p:nvCxnSpPr>
        <p:spPr>
          <a:xfrm flipH="1" flipV="1">
            <a:off x="5562000" y="2590560"/>
            <a:ext cx="788040" cy="838800"/>
          </a:xfrm>
          <a:prstGeom prst="straightConnector1">
            <a:avLst/>
          </a:prstGeom>
          <a:ln w="47520">
            <a:solidFill>
              <a:srgbClr val="002060"/>
            </a:solidFill>
            <a:miter/>
            <a:tailEnd len="med" type="triangle" w="med"/>
          </a:ln>
        </p:spPr>
      </p:cxnSp>
      <p:sp>
        <p:nvSpPr>
          <p:cNvPr id="75" name="Rectangle 44"/>
          <p:cNvSpPr/>
          <p:nvPr/>
        </p:nvSpPr>
        <p:spPr>
          <a:xfrm>
            <a:off x="2133720" y="1785960"/>
            <a:ext cx="5155920" cy="4005360"/>
          </a:xfrm>
          <a:prstGeom prst="rect">
            <a:avLst/>
          </a:prstGeom>
          <a:noFill/>
          <a:ln w="2232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losives Safeguarding Map (ESM)</a:t>
            </a:r>
            <a:endParaRPr b="1" lang="en-US" sz="3600" spc="-1" strike="noStrike">
              <a:solidFill>
                <a:srgbClr val="000000"/>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d Example</a:t>
            </a:r>
            <a:endParaRPr b="0" lang="en-US" sz="2800" spc="-1" strike="noStrike">
              <a:solidFill>
                <a:srgbClr val="000000"/>
              </a:solidFill>
              <a:latin typeface="Arial"/>
            </a:endParaRPr>
          </a:p>
        </p:txBody>
      </p:sp>
      <p:sp>
        <p:nvSpPr>
          <p:cNvPr id="78"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6 Slide </a:t>
            </a:r>
            <a:fld id="{B7E190A9-7451-4B00-9793-5B3750A4186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rectional Weapons Map</a:t>
            </a:r>
            <a:endParaRPr b="1" lang="en-US" sz="3600" spc="-1" strike="noStrike">
              <a:solidFill>
                <a:srgbClr val="000000"/>
              </a:solidFill>
              <a:latin typeface="Arial"/>
            </a:endParaRPr>
          </a:p>
        </p:txBody>
      </p:sp>
      <p:sp>
        <p:nvSpPr>
          <p:cNvPr id="80"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p to show location and orientation of weapons with directional eff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shaped charge warheads. </a:t>
            </a:r>
            <a:endParaRPr b="0" lang="en-US" sz="2400" spc="-1" strike="noStrike">
              <a:solidFill>
                <a:srgbClr val="000000"/>
              </a:solidFill>
              <a:latin typeface="Arial"/>
            </a:endParaRPr>
          </a:p>
        </p:txBody>
      </p:sp>
      <p:sp>
        <p:nvSpPr>
          <p:cNvPr id="81"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6 Slide </a:t>
            </a:r>
            <a:fld id="{19A10917-ABF8-4672-B102-297A8A6B0C0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intenance of Safeguarded Area</a:t>
            </a:r>
            <a:endParaRPr b="1" lang="en-US" sz="3600" spc="-1" strike="noStrike">
              <a:solidFill>
                <a:srgbClr val="000000"/>
              </a:solidFill>
              <a:latin typeface="Arial"/>
            </a:endParaRPr>
          </a:p>
        </p:txBody>
      </p:sp>
      <p:pic>
        <p:nvPicPr>
          <p:cNvPr id="83" name="Content Placeholder 3" descr=""/>
          <p:cNvPicPr/>
          <p:nvPr/>
        </p:nvPicPr>
        <p:blipFill>
          <a:blip r:embed="rId1"/>
          <a:stretch/>
        </p:blipFill>
        <p:spPr>
          <a:xfrm>
            <a:off x="914400" y="1600200"/>
            <a:ext cx="3962520" cy="2971800"/>
          </a:xfrm>
          <a:prstGeom prst="rect">
            <a:avLst/>
          </a:prstGeom>
          <a:ln w="0">
            <a:noFill/>
          </a:ln>
        </p:spPr>
      </p:pic>
      <p:graphicFrame>
        <p:nvGraphicFramePr>
          <p:cNvPr id="84" name=""/>
          <p:cNvGraphicFramePr/>
          <p:nvPr/>
        </p:nvGraphicFramePr>
        <p:xfrm>
          <a:off x="5181480" y="1752480"/>
          <a:ext cx="3124440" cy="2560680"/>
        </p:xfrm>
        <a:graphic>
          <a:graphicData uri="http://schemas.openxmlformats.org/drawingml/2006/table">
            <a:tbl>
              <a:tblPr/>
              <a:tblGrid>
                <a:gridCol w="1562400"/>
                <a:gridCol w="1562040"/>
              </a:tblGrid>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Januar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afeguard che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pril</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afeguard che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Jul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afeguard che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ctober</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afeguard che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
        <p:nvSpPr>
          <p:cNvPr id="8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6 Slide </a:t>
            </a:r>
            <a:fld id="{ED81E32D-E451-4ADC-B1CF-150F1AA1F27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86" name="Rectangle 2" descr=""/>
          <p:cNvPicPr/>
          <p:nvPr/>
        </p:nvPicPr>
        <p:blipFill>
          <a:blip r:embed="rId2"/>
          <a:stretch/>
        </p:blipFill>
        <p:spPr>
          <a:xfrm>
            <a:off x="5546880" y="1663560"/>
            <a:ext cx="1371600" cy="951120"/>
          </a:xfrm>
          <a:prstGeom prst="rect">
            <a:avLst/>
          </a:prstGeom>
          <a:ln w="0">
            <a:noFill/>
          </a:ln>
        </p:spPr>
      </p:pic>
      <p:pic>
        <p:nvPicPr>
          <p:cNvPr id="87" name="Rectangle 13" descr=""/>
          <p:cNvPicPr/>
          <p:nvPr/>
        </p:nvPicPr>
        <p:blipFill>
          <a:blip r:embed="rId3"/>
          <a:stretch/>
        </p:blipFill>
        <p:spPr>
          <a:xfrm>
            <a:off x="5638680" y="2182680"/>
            <a:ext cx="1371600" cy="951120"/>
          </a:xfrm>
          <a:prstGeom prst="rect">
            <a:avLst/>
          </a:prstGeom>
          <a:ln w="0">
            <a:noFill/>
          </a:ln>
        </p:spPr>
      </p:pic>
      <p:pic>
        <p:nvPicPr>
          <p:cNvPr id="88" name="Rectangle 14" descr=""/>
          <p:cNvPicPr/>
          <p:nvPr/>
        </p:nvPicPr>
        <p:blipFill>
          <a:blip r:embed="rId4"/>
          <a:stretch/>
        </p:blipFill>
        <p:spPr>
          <a:xfrm>
            <a:off x="5638680" y="2743200"/>
            <a:ext cx="1371600" cy="944640"/>
          </a:xfrm>
          <a:prstGeom prst="rect">
            <a:avLst/>
          </a:prstGeom>
          <a:ln w="0">
            <a:noFill/>
          </a:ln>
        </p:spPr>
      </p:pic>
      <p:pic>
        <p:nvPicPr>
          <p:cNvPr id="89" name="Rectangle 15" descr=""/>
          <p:cNvPicPr/>
          <p:nvPr/>
        </p:nvPicPr>
        <p:blipFill>
          <a:blip r:embed="rId5"/>
          <a:stretch/>
        </p:blipFill>
        <p:spPr>
          <a:xfrm>
            <a:off x="5450040" y="3505320"/>
            <a:ext cx="1749240" cy="109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6 Slide </a:t>
            </a:r>
            <a:fld id="{D6B6D8AF-DEAC-4FBA-8E2D-A354EE34DA3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6-08T12:35:06Z</dcterms:modified>
  <cp:revision>41</cp:revision>
  <dc:subject/>
  <dc:title>Slide 1</dc:title>
</cp:coreProperties>
</file>