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19D2C-2710-4F81-9A74-E14B6603465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RODUCTION: (3 SLIDES, 10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3: </a:t>
            </a:r>
            <a:r>
              <a:rPr b="1" lang="en-GB" sz="1200" spc="-1" strike="noStrike" u="sng">
                <a:solidFill>
                  <a:srgbClr val="000000"/>
                </a:solidFill>
                <a:uFillTx/>
                <a:latin typeface="Calibri"/>
              </a:rPr>
              <a:t>INTRODUCTION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will now do an exercise which will practice you in the calculation and application of Quantity Distanc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ession will take 45 minut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 will take 5 minutes to brief you and to provide some backgroun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will then have 5 minutes to read over the information and gain an understanding of the scenario.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will then take 10 minutes to do the first part of the exercise, which is calculating the QD for ESH number 4 in relation to HD 1.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will then take 5 minutes to review the answers and draw some conclusion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will then have 10 minutes to do the second part of the exercise, which is to calculate the QDs for all HDs, for ESH number 1.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will then take 10 minutes to review the answers and to discuss any points arising, including questions that you may hav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will need to use the handouts, including the QD tables and the ELL Matrix.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will be doing these calculations manually.  That means that you will not use any computer programs.  You may of course use your calculators and your fingers and thumbs to do the necessary sum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may use scrap paper to do your working out if you so wish.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EFE86-0BBC-4D3C-8CE2-F29B42AEB3A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RODUCTION: (3 SLIDES, 10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3: </a:t>
            </a:r>
            <a:r>
              <a:rPr b="1" lang="en-GB" sz="1200" spc="-1" strike="noStrike" u="sng">
                <a:solidFill>
                  <a:srgbClr val="000000"/>
                </a:solidFill>
                <a:uFillTx/>
                <a:latin typeface="Calibri"/>
              </a:rPr>
              <a:t>BACKGROUND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are the nominated officer responsible for the ammunition storage on a UN deployment to foreign country.  This deployment is a peace-keeping operation to provide a permissive environment for political reform.  The country has had a recent history of armed violence from criminal elements and also a rebel faction in the north of the country.  There is estimated to be a high quantity of small arms and light weapons in the hands of the civilian population due to illegal smuggling from the neighbouring country.  There are not thought to be any armoured vehicles in rebel hand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ndigenous armed forces are of average capability, they are essentially a lightly mechanised infantry force with some supporting elements.  They are useful for security activiti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military infrastructure and organisation is based on a generic European model.  This includes the legacy of several ammunition depots which are located across the country.  These were built to a high standard approximately 50 years ago.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have been offered one of these explosive facilities by the national government.  It is empty so you are free to use it as you wish.  The facility is close to the coast in a remote, rural area surrounded by forest.  The fabric of the buildings, roads and related infrastructure is actually quite good.  There are omissions like a distinct lack of fire extinguishers and hazard signs, however you will look at fixing this problem once you have decided which ammunition buildings to use.  You will also need to do some cleaning and preparation to get the site read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UN force is deploying with armoured personnel carriers and light support vehicles (trucks and jeeps).   This means a number of 7.62mm machine guns (1 per vehicle for protec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oops are equipped with 5.56mm and 7.62mm assault rifles, plus 9mm pistols as a personal protection weapon in case their rifle fails. The each also carry a few HE anti-personnel grenad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addition, there are a number of ammunition natures for use by the troops for protection and signalling.  These include smoke grenades, handheld mini-flares for signalling, handheld parachute illumination flares, and tripflar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last type of ammunition to mention is demolition charges for the Explosive Ordnance Disposal Teams.  There is a significant UXO problem in the countr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details of this ammunition stock on the manifest are in your exercise handou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ammunition will be delivered direct to the depot by truck. The truck convoys will come with its own forklift truck.  It will be packed onto standard 1 tonne palle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ach pallet is to be classed as one Unit of Spa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 is no forklift truck which is dedicated to the depot.  You can only be guaranteed hand palletisers/pallet trucks.  You may therefore only place the pallets as one single layer.  You may not stack pallets on top of each othe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Force Commander has ordered you that, if at all possible, each type of ammunition should be divided into two – ie split across two separate storage sites within the explosive facility, to offer some degree of protection from accident, sabotage or even enemy action.  The exception to this is the EOD stores which should all go into one ESH, if possible, at the request of the EOD team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 is no dedicated demolition ground, however the EOD team commander has said he should be able to dispose of stores for you safely, so you should try to keep him ‘on sid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or the reasons of protection and security, you are only to use the available ESH.  You are not to use stacks in the open (eg on hard standi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r task for this exercise, therefore, is to start calculating the options for ammunition storage, and then identify a workable allocation of ammunition stocks to the available sit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Force Commander has ordered that you must abide by the requirements of the IATG document set, particularly regarding the Quantity Distances in IATG 02:20.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60E90-589A-4D1A-B131-8B24C911BFB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RODUCTION: (3 SLIDES, 10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3 of 3: </a:t>
            </a:r>
            <a:r>
              <a:rPr b="1" lang="en-GB" sz="1200" spc="-1" strike="noStrike" u="sng">
                <a:solidFill>
                  <a:srgbClr val="000000"/>
                </a:solidFill>
                <a:uFillTx/>
                <a:latin typeface="Calibri"/>
              </a:rPr>
              <a:t>TIPS (6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very quickly list these points in 1 minute, do not go into detai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Here are a few tips to get you start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dentify how many Units of Space for each type of ammunition are required.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ivide these figures in two as the stocks need to split for protection.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dentify the NEQ per Unit of Space for each ammunition type.</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nly 1 layer of pallets – no stacking.</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nsider how many Units of Space there at which ESH.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dentify the correct Pictogram, especially for the earth-covered igloo based on the type of headwall and doors.  The wording in the text is as per the tables).</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alculate the permissible QD for each HD, for each ESH as required.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ake sure you use the right tables for each HD.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Use the ELL Matrix for this purpose to record your findings.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nsider mixing rules can you mix HCCs.</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llocate stock to ESH.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lso, note that you also need to consider the truck marshalling/loading area as an explosive site (an open stack).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You should also check that they have picked up the subtle difference between a light structure, and a shed made of basic cladding which is effectively an open stack.  Point out that the shaded box  pictogram is a light structure, whereas an open stack/shed is the un-shaded box.  They may also find it useful to add a column to the template table –for the site office/guardroom).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Tell the students to take 5 minutes to review the scenario and the associated Annex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After the students have had 4 to 5 minutes to review the scenario, click the slide to start Part 1 of the exercis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24F2E-96C2-45F8-9A06-A9BC5435B4B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EXERCISE: (1 SLIDES, 1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PART 1 (1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Pose these questions students verbally, and get them to reply verbally with their thoughts.  </a:t>
            </a:r>
            <a:r>
              <a:rPr b="0" lang="en-GB" sz="1200" spc="-1" strike="noStrike" u="sng">
                <a:solidFill>
                  <a:srgbClr val="000000"/>
                </a:solidFill>
                <a:uFillTx/>
                <a:latin typeface="Calibri"/>
              </a:rPr>
              <a:t>This should only take a minute or two</a:t>
            </a:r>
            <a:r>
              <a:rPr b="0" lang="en-GB" sz="1200" spc="-1" strike="noStrike">
                <a:solidFill>
                  <a:srgbClr val="000000"/>
                </a:solidFill>
                <a:latin typeface="Calibri"/>
              </a:rPr>
              <a:t>.  This is to set the scene and to prime the students to think about the exercise, and also to get them to think about the overall ‘safety culture’ rather than just launching them into a ‘tick box exercis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Q1.  Which ammunition natures do you think pose the highest explosive risk?  (</a:t>
            </a:r>
            <a:r>
              <a:rPr b="1" lang="en-GB" sz="1200" spc="-1" strike="noStrike">
                <a:solidFill>
                  <a:srgbClr val="000000"/>
                </a:solidFill>
                <a:latin typeface="Calibri"/>
              </a:rPr>
              <a:t>Answer</a:t>
            </a:r>
            <a:r>
              <a:rPr b="0" lang="en-GB" sz="1200" spc="-1" strike="noStrike">
                <a:solidFill>
                  <a:srgbClr val="000000"/>
                </a:solidFill>
                <a:latin typeface="Calibri"/>
              </a:rPr>
              <a:t>:  Probably the HD 1.1 demolition stor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Q2.  Which ESH do you think provides the most protection for such stores? (</a:t>
            </a:r>
            <a:r>
              <a:rPr b="1" lang="en-GB" sz="1200" spc="-1" strike="noStrike">
                <a:solidFill>
                  <a:srgbClr val="000000"/>
                </a:solidFill>
                <a:latin typeface="Calibri"/>
              </a:rPr>
              <a:t>Answer</a:t>
            </a:r>
            <a:r>
              <a:rPr b="0" lang="en-GB" sz="1200" spc="-1" strike="noStrike">
                <a:solidFill>
                  <a:srgbClr val="000000"/>
                </a:solidFill>
                <a:latin typeface="Calibri"/>
              </a:rPr>
              <a:t>: Probably the igloo, ESH 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Q3.  Which type of ESH might be second best for storing HD 1.1?  (</a:t>
            </a:r>
            <a:r>
              <a:rPr b="1" lang="en-GB" sz="1200" spc="-1" strike="noStrike">
                <a:solidFill>
                  <a:srgbClr val="000000"/>
                </a:solidFill>
                <a:latin typeface="Calibri"/>
              </a:rPr>
              <a:t>Answer</a:t>
            </a:r>
            <a:r>
              <a:rPr b="0" lang="en-GB" sz="1200" spc="-1" strike="noStrike">
                <a:solidFill>
                  <a:srgbClr val="000000"/>
                </a:solidFill>
                <a:latin typeface="Calibri"/>
              </a:rPr>
              <a:t>: Probably the reinforced heavy structures.  Particularly the ESH 4, as although this hasn’t got a barricaded door, the angle of orientation of the building suggests there are no significant threats from an other sit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Q4.  Which ESH seems most secure from a security perspective?  Why might this be relevant to the 1.1 demolition stores? (</a:t>
            </a:r>
            <a:r>
              <a:rPr b="1" lang="en-GB" sz="1200" spc="-1" strike="noStrike">
                <a:solidFill>
                  <a:srgbClr val="000000"/>
                </a:solidFill>
                <a:latin typeface="Calibri"/>
              </a:rPr>
              <a:t>Answer</a:t>
            </a:r>
            <a:r>
              <a:rPr b="0" lang="en-GB" sz="1200" spc="-1" strike="noStrike">
                <a:solidFill>
                  <a:srgbClr val="000000"/>
                </a:solidFill>
                <a:latin typeface="Calibri"/>
              </a:rPr>
              <a:t>: The igloo, ESH 1, has an intruder alarm and CCTV system, so  this may well be most secure, although it is at the farthest end of the camp. Security would be important for this kind of store as they would be attractive to criminals and rebel forces who may be able to use them to make Improvised Explosive Devices, for examp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After a minute or two doing these verbal questions, commence the activity below):</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o satisfy their (notional) curiosity they decide to check the scope for using ESH 4 for HD 1.1 demolition stores, which as we know are to be stored in a single ESH is possible at the request of the EOD team.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aunch the students on the Part 1 calculation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y have 10 minutes to calculate the Quantity Distances for ESH 4, ONLY for Hazard Division 1.1.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y will probably find it easiest to use a blank template ELL Matrix from their handou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At the end of the 10 minutes, take a few minutes (but no more than 5 minutes) to review their answers with them.  </a:t>
            </a:r>
            <a:r>
              <a:rPr b="1" lang="en-GB" sz="1200" spc="-1" strike="noStrike">
                <a:solidFill>
                  <a:srgbClr val="000000"/>
                </a:solidFill>
                <a:latin typeface="Calibri"/>
              </a:rPr>
              <a:t>The key factor is</a:t>
            </a:r>
            <a:r>
              <a:rPr b="0" lang="en-GB" sz="1200" spc="-1" strike="noStrike">
                <a:solidFill>
                  <a:srgbClr val="000000"/>
                </a:solidFill>
                <a:latin typeface="Calibri"/>
              </a:rPr>
              <a:t>: Because of the proximity to the site office (which is under 270m away), this ESH cannot be used for Hazard Division 1.1, as the separation distance is to low so the required Quantity Distance cannot be me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45308-89F7-4DC3-B251-A874962591C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EXERCISE: (1 SLIDES, 20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PART 2 (20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You will now give the students another 10 minutes to do the calculations for Part 2 of the exercis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have identified that ESH 4 cannot be used for the HD 1.1.  You want to try to get it all into a single ESH for the EOD team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now decide to look properly at ESH 1, which was effectively your first choice anyway from gut feeling and intui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will now take 10 minutes to calculate the QDs for ESH 1, using another blank ELL matrix.  You need to calculate the QDs for all Hazard Divisions (ie not just 1.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After their 10 minutes calculation time, or very slightly longer if the students only need an extra minute or so to complete their work, take the remaining 10 minutes of the session to review the students’ answers with them in a group.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dentify correct answers and explain why they are correct.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dentify whether or not the full stock of HD 1.1 stores in the manifest can be stored in ESH 1 (in terms of NEQ/QD, and also Units of Space) (</a:t>
            </a:r>
            <a:r>
              <a:rPr b="1" lang="en-GB" sz="1200" spc="-1" strike="noStrike">
                <a:solidFill>
                  <a:srgbClr val="000000"/>
                </a:solidFill>
                <a:latin typeface="Calibri"/>
              </a:rPr>
              <a:t>Answer</a:t>
            </a:r>
            <a:r>
              <a:rPr b="0" lang="en-GB" sz="1200" spc="-1" strike="noStrike">
                <a:solidFill>
                  <a:srgbClr val="000000"/>
                </a:solidFill>
                <a:latin typeface="Calibri"/>
              </a:rPr>
              <a:t>: Yes, as the ESH has a 1.1 NEQ maximum limit of 6,000kg, and there is only 596.85 kg of HD 1.1 on the manifest.  There are 11 available UOS in the ESH, and there are currently 7 pallets/UOS on the manifest.   This is useful as it may permit aggregation with other stores – in this scenario it won’t if the detonators are stored with the demolition charges, as this is aggregated to Compatibility Group F, according to the Mixing Rules, which require segregation from other possible stocks, unless Compatibility Group ‘S’ (as in the 1.4S ammunition) is collocated in this ESH.  Alternatively, it offers significant extra capacity of HD 1.1 if the Equipment Table is ever increased, eg if an increased number of troops and/or tasks leads to an increase in the amount of ammunition and explosives that the deployed force requires).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amine wrong answers further.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nsure students fully grasp the principle of manual QD calculations by the end of the less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F04AA-0909-4083-B8F7-F77376B9200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Conclude the exercise session.  Students need to have completed the full calculation of all HDs for ESH 1, or at least to hav grasped how to do it and to have a note of the permitted maximum NEQs for this ES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A97FD-EFD1-4FD7-AEB2-DFA233C5E5A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76C387-7782-414F-9F3C-4D7C446EB1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D79F7-20A0-46B6-9791-645F7C4FC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1D76CE-0676-461B-8FB6-392081D2EB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F2A4FB-1481-4410-9B75-E4FEC6295C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FC4D0-9259-4F19-AEE2-A6B6657B4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7B620-97AC-4618-BCB2-D4052589F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ACC7D-3B49-4F82-A0B3-CD89EB5DC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F47DC-F950-4CDE-95E1-3B25E07DC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0B52F-7D3E-4705-87A7-73C787355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FA025-8CD1-40E3-BAD7-9B968FC8D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4B1A0-D8ED-4277-B549-C27CF99BF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442BA-F8E4-45AE-9EBA-98D0B3787D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UN-LOGO-blue"/>
          <p:cNvPicPr/>
          <p:nvPr/>
        </p:nvPicPr>
        <p:blipFill>
          <a:blip r:embed="rId2">
            <a:lum bright="70000" contrast="-70000"/>
          </a:blip>
          <a:stretch/>
        </p:blipFill>
        <p:spPr>
          <a:xfrm>
            <a:off x="3886200" y="1752480"/>
            <a:ext cx="5410080" cy="5410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62BBF-D6D4-4B5C-963B-2A160AE2E01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Picture 9" descr="UNSaferGuardLogo"/>
          <p:cNvPicPr/>
          <p:nvPr/>
        </p:nvPicPr>
        <p:blipFill>
          <a:blip r:embed="rId3"/>
          <a:stretch/>
        </p:blipFill>
        <p:spPr>
          <a:xfrm>
            <a:off x="152280" y="5867280"/>
            <a:ext cx="3353040" cy="586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Quantity Distance Exercise</a:t>
            </a:r>
            <a:endParaRPr b="1" lang="en-US" sz="36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5 minute Test Exercise</a:t>
            </a:r>
            <a:endParaRPr b="0" lang="en-US" sz="2800" spc="-1" strike="noStrike">
              <a:solidFill>
                <a:srgbClr val="000000"/>
              </a:solidFill>
              <a:latin typeface="Arial"/>
            </a:endParaRPr>
          </a:p>
        </p:txBody>
      </p:sp>
      <p:sp>
        <p:nvSpPr>
          <p:cNvPr id="52"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05 Slide </a:t>
            </a:r>
            <a:fld id="{907661C9-7A53-4E74-A526-2AE7BC168051}"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Background</a:t>
            </a:r>
            <a:endParaRPr b="1" lang="en-US" sz="36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55" name="Picture 3" descr=""/>
          <p:cNvPicPr/>
          <p:nvPr/>
        </p:nvPicPr>
        <p:blipFill>
          <a:blip r:embed="rId1"/>
          <a:stretch/>
        </p:blipFill>
        <p:spPr>
          <a:xfrm>
            <a:off x="3387600" y="1606680"/>
            <a:ext cx="2513160" cy="1885680"/>
          </a:xfrm>
          <a:prstGeom prst="rect">
            <a:avLst/>
          </a:prstGeom>
          <a:ln w="0">
            <a:noFill/>
          </a:ln>
        </p:spPr>
      </p:pic>
      <p:pic>
        <p:nvPicPr>
          <p:cNvPr id="56" name="Picture 4" descr=""/>
          <p:cNvPicPr/>
          <p:nvPr/>
        </p:nvPicPr>
        <p:blipFill>
          <a:blip r:embed="rId2"/>
          <a:stretch/>
        </p:blipFill>
        <p:spPr>
          <a:xfrm>
            <a:off x="304920" y="1604880"/>
            <a:ext cx="2828880" cy="1886040"/>
          </a:xfrm>
          <a:prstGeom prst="rect">
            <a:avLst/>
          </a:prstGeom>
          <a:ln w="0">
            <a:noFill/>
          </a:ln>
        </p:spPr>
      </p:pic>
      <p:pic>
        <p:nvPicPr>
          <p:cNvPr id="57" name="Picture 5" descr=""/>
          <p:cNvPicPr/>
          <p:nvPr/>
        </p:nvPicPr>
        <p:blipFill>
          <a:blip r:embed="rId3"/>
          <a:stretch/>
        </p:blipFill>
        <p:spPr>
          <a:xfrm>
            <a:off x="6095880" y="1604880"/>
            <a:ext cx="2828880" cy="1886040"/>
          </a:xfrm>
          <a:prstGeom prst="rect">
            <a:avLst/>
          </a:prstGeom>
          <a:ln w="0">
            <a:noFill/>
          </a:ln>
        </p:spPr>
      </p:pic>
      <p:pic>
        <p:nvPicPr>
          <p:cNvPr id="58" name="Picture 6" descr=""/>
          <p:cNvPicPr/>
          <p:nvPr/>
        </p:nvPicPr>
        <p:blipFill>
          <a:blip r:embed="rId4"/>
          <a:stretch/>
        </p:blipFill>
        <p:spPr>
          <a:xfrm>
            <a:off x="1211400" y="3676680"/>
            <a:ext cx="3438360" cy="2057400"/>
          </a:xfrm>
          <a:prstGeom prst="rect">
            <a:avLst/>
          </a:prstGeom>
          <a:ln w="0">
            <a:noFill/>
          </a:ln>
        </p:spPr>
      </p:pic>
      <p:pic>
        <p:nvPicPr>
          <p:cNvPr id="59" name="Picture 7" descr=""/>
          <p:cNvPicPr/>
          <p:nvPr/>
        </p:nvPicPr>
        <p:blipFill>
          <a:blip r:embed="rId5"/>
          <a:stretch/>
        </p:blipFill>
        <p:spPr>
          <a:xfrm>
            <a:off x="5105520" y="3676680"/>
            <a:ext cx="2819160" cy="2057400"/>
          </a:xfrm>
          <a:prstGeom prst="rect">
            <a:avLst/>
          </a:prstGeom>
          <a:ln w="0">
            <a:noFill/>
          </a:ln>
        </p:spPr>
      </p:pic>
      <p:sp>
        <p:nvSpPr>
          <p:cNvPr id="60"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05 Slide </a:t>
            </a:r>
            <a:fld id="{34914944-710A-40C0-B71B-732BD90B8131}"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ips</a:t>
            </a:r>
            <a:endParaRPr b="1" lang="en-US" sz="3600" spc="-1" strike="noStrike">
              <a:solidFill>
                <a:srgbClr val="000000"/>
              </a:solidFill>
              <a:latin typeface="Arial"/>
            </a:endParaRPr>
          </a:p>
        </p:txBody>
      </p:sp>
      <p:sp>
        <p:nvSpPr>
          <p:cNvPr id="62" name=""/>
          <p:cNvSpPr txBox="1"/>
          <p:nvPr/>
        </p:nvSpPr>
        <p:spPr>
          <a:xfrm>
            <a:off x="457200" y="129528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its of Space per ammunition type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lit stocks in two for protection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Q per Unit of Spac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ly 1 layer of pallets – no stacking</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 how many Units of Space there at which ESH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 the correct pictograms (igloo headwalls/doors!)</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culate QD for each HD for each ESH (correct table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the ELL Matrix to record finding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 mixing rules and aggregation to mix HCCs</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ocate stock to ESH</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05 Slide </a:t>
            </a:r>
            <a:fld id="{5EAC0BC0-1F7A-414E-8DEA-19782E51F11F}"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art 1</a:t>
            </a:r>
            <a:endParaRPr b="1" lang="en-US" sz="3600" spc="-1" strike="noStrike">
              <a:solidFill>
                <a:srgbClr val="000000"/>
              </a:solidFill>
              <a:latin typeface="Arial"/>
            </a:endParaRPr>
          </a:p>
        </p:txBody>
      </p:sp>
      <p:sp>
        <p:nvSpPr>
          <p:cNvPr id="65" name=""/>
          <p:cNvSpPr txBox="1"/>
          <p:nvPr/>
        </p:nvSpPr>
        <p:spPr>
          <a:xfrm>
            <a:off x="533520" y="129528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afety Cul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tions for storing HD 1.1 Demolition stores</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satisfy your curiosity, you first decide to check the possibility of using ESH 4</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culate QDs for </a:t>
            </a:r>
            <a:r>
              <a:rPr b="0" lang="en-GB" sz="2400" spc="-1" strike="noStrike" u="sng">
                <a:solidFill>
                  <a:srgbClr val="000000"/>
                </a:solidFill>
                <a:uFillTx/>
                <a:latin typeface="Arial"/>
              </a:rPr>
              <a:t>ESH 4</a:t>
            </a:r>
            <a:r>
              <a:rPr b="0" lang="en-GB" sz="2400" spc="-1" strike="noStrike">
                <a:solidFill>
                  <a:srgbClr val="000000"/>
                </a:solidFill>
                <a:latin typeface="Arial"/>
              </a:rPr>
              <a:t> – </a:t>
            </a:r>
            <a:r>
              <a:rPr b="0" lang="en-GB" sz="2400" spc="-1" strike="noStrike" u="sng">
                <a:solidFill>
                  <a:srgbClr val="000000"/>
                </a:solidFill>
                <a:uFillTx/>
                <a:latin typeface="Arial"/>
              </a:rPr>
              <a:t>HD 1.1 only</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10 minutes for this work</a:t>
            </a:r>
            <a:endParaRPr b="0" lang="en-US" sz="2400" spc="-1" strike="noStrike">
              <a:solidFill>
                <a:srgbClr val="000000"/>
              </a:solidFill>
              <a:latin typeface="Arial"/>
            </a:endParaRPr>
          </a:p>
        </p:txBody>
      </p:sp>
      <p:sp>
        <p:nvSpPr>
          <p:cNvPr id="66"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05 Slide </a:t>
            </a:r>
            <a:fld id="{72566F94-A715-41A7-B601-C4E80C3A37D4}"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art 2</a:t>
            </a:r>
            <a:endParaRPr b="1" lang="en-US" sz="3600" spc="-1" strike="noStrike">
              <a:solidFill>
                <a:srgbClr val="000000"/>
              </a:solidFill>
              <a:latin typeface="Arial"/>
            </a:endParaRPr>
          </a:p>
        </p:txBody>
      </p:sp>
      <p:sp>
        <p:nvSpPr>
          <p:cNvPr id="68" name=""/>
          <p:cNvSpPr txBox="1"/>
          <p:nvPr/>
        </p:nvSpPr>
        <p:spPr>
          <a:xfrm>
            <a:off x="533520" y="129528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H 1 (earth covered)</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 orientations of an igloo to consider as a PES:</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culate for </a:t>
            </a:r>
            <a:r>
              <a:rPr b="1" lang="en-GB" sz="2400" spc="-1" strike="noStrike" u="sng">
                <a:solidFill>
                  <a:srgbClr val="000000"/>
                </a:solidFill>
                <a:uFillTx/>
                <a:latin typeface="Arial"/>
              </a:rPr>
              <a:t>all</a:t>
            </a:r>
            <a:r>
              <a:rPr b="0" lang="en-GB" sz="2400" spc="-1" strike="noStrike">
                <a:solidFill>
                  <a:srgbClr val="000000"/>
                </a:solidFill>
                <a:latin typeface="Arial"/>
              </a:rPr>
              <a:t> Hazard Divisions</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10 minutes for this work</a:t>
            </a:r>
            <a:endParaRPr b="0" lang="en-US" sz="2400" spc="-1" strike="noStrike">
              <a:solidFill>
                <a:srgbClr val="000000"/>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Picture 6" descr=""/>
          <p:cNvPicPr/>
          <p:nvPr/>
        </p:nvPicPr>
        <p:blipFill>
          <a:blip r:embed="rId1"/>
          <a:stretch/>
        </p:blipFill>
        <p:spPr>
          <a:xfrm>
            <a:off x="914400" y="2871720"/>
            <a:ext cx="2228760" cy="981000"/>
          </a:xfrm>
          <a:prstGeom prst="rect">
            <a:avLst/>
          </a:prstGeom>
          <a:ln w="0">
            <a:noFill/>
          </a:ln>
        </p:spPr>
      </p:pic>
      <p:pic>
        <p:nvPicPr>
          <p:cNvPr id="70" name="Picture 7" descr=""/>
          <p:cNvPicPr/>
          <p:nvPr/>
        </p:nvPicPr>
        <p:blipFill>
          <a:blip r:embed="rId2"/>
          <a:stretch/>
        </p:blipFill>
        <p:spPr>
          <a:xfrm>
            <a:off x="5819760" y="2871720"/>
            <a:ext cx="2228760" cy="981000"/>
          </a:xfrm>
          <a:prstGeom prst="rect">
            <a:avLst/>
          </a:prstGeom>
          <a:ln w="0">
            <a:noFill/>
          </a:ln>
        </p:spPr>
      </p:pic>
      <p:pic>
        <p:nvPicPr>
          <p:cNvPr id="71" name="Picture 8" descr=""/>
          <p:cNvPicPr/>
          <p:nvPr/>
        </p:nvPicPr>
        <p:blipFill>
          <a:blip r:embed="rId3"/>
          <a:stretch/>
        </p:blipFill>
        <p:spPr>
          <a:xfrm>
            <a:off x="3857760" y="3005280"/>
            <a:ext cx="1428480" cy="847440"/>
          </a:xfrm>
          <a:prstGeom prst="rect">
            <a:avLst/>
          </a:prstGeom>
          <a:ln w="0">
            <a:noFill/>
          </a:ln>
        </p:spPr>
      </p:pic>
      <p:sp>
        <p:nvSpPr>
          <p:cNvPr id="72" name="TextBox 9"/>
          <p:cNvSpPr/>
          <p:nvPr/>
        </p:nvSpPr>
        <p:spPr>
          <a:xfrm>
            <a:off x="3695760" y="3876840"/>
            <a:ext cx="1752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e side</a:t>
            </a:r>
            <a:endParaRPr b="0" lang="en-US" sz="1800" spc="-1" strike="noStrike">
              <a:solidFill>
                <a:srgbClr val="000000"/>
              </a:solidFill>
              <a:latin typeface="Arial"/>
            </a:endParaRPr>
          </a:p>
        </p:txBody>
      </p:sp>
      <p:sp>
        <p:nvSpPr>
          <p:cNvPr id="73" name="TextBox 10"/>
          <p:cNvSpPr/>
          <p:nvPr/>
        </p:nvSpPr>
        <p:spPr>
          <a:xfrm>
            <a:off x="1152360" y="3876840"/>
            <a:ext cx="1752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e front</a:t>
            </a:r>
            <a:endParaRPr b="0" lang="en-US" sz="1800" spc="-1" strike="noStrike">
              <a:solidFill>
                <a:srgbClr val="000000"/>
              </a:solidFill>
              <a:latin typeface="Arial"/>
            </a:endParaRPr>
          </a:p>
        </p:txBody>
      </p:sp>
      <p:sp>
        <p:nvSpPr>
          <p:cNvPr id="74" name="TextBox 11"/>
          <p:cNvSpPr/>
          <p:nvPr/>
        </p:nvSpPr>
        <p:spPr>
          <a:xfrm>
            <a:off x="6053040" y="3876840"/>
            <a:ext cx="1752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e back</a:t>
            </a:r>
            <a:endParaRPr b="0" lang="en-US" sz="1800" spc="-1" strike="noStrike">
              <a:solidFill>
                <a:srgbClr val="000000"/>
              </a:solidFill>
              <a:latin typeface="Arial"/>
            </a:endParaRPr>
          </a:p>
        </p:txBody>
      </p:sp>
      <p:sp>
        <p:nvSpPr>
          <p:cNvPr id="75"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05 Slide </a:t>
            </a:r>
            <a:fld id="{602A1201-B5CE-4FBB-A291-1B57A3F4773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218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End of Exercise</a:t>
            </a:r>
            <a:endParaRPr b="1" lang="en-US" sz="3600" spc="-1" strike="noStrike">
              <a:solidFill>
                <a:srgbClr val="000000"/>
              </a:solidFill>
              <a:latin typeface="Arial"/>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78"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05 Slide </a:t>
            </a:r>
            <a:fld id="{755C08C0-C8A8-4073-9444-9CE136E665F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8T16:56:50Z</dcterms:created>
  <dc:creator>United Nations</dc:creator>
  <dc:description/>
  <dc:language>en-US</dc:language>
  <cp:lastModifiedBy>RMH</cp:lastModifiedBy>
  <dcterms:modified xsi:type="dcterms:W3CDTF">2012-06-03T17:46:20Z</dcterms:modified>
  <cp:revision>52</cp:revision>
  <dc:subject/>
  <dc:title>Slide 1</dc:title>
</cp:coreProperties>
</file>