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9A15-2C67-408C-810C-175A473D78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IATG SOFTWARE:  (1 slide, 1 min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now look at the IATG software package. This IATG software supplements to IATG documentation set.  It assists us in conducting our work particularly where QDs and ELLs are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3E2E-026D-4CFA-8AE4-2FBB75F87C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For 39 minutes - familiarise students with the IATG software, particularly including QD and ELL, as well as explosion consequence analy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F7BD-47C5-4E25-9CFD-289BEB71AF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allow 5 minutes for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re are few or no questions, take the opportunity to test their attention and understanding by asking about the difference between high and low explosives, effect of containing an explosive, the explosive train and parts thereof, the shockwave and impulse. </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3C9A-B4C4-4836-A55C-D65B11F50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76DBE-A719-4D4A-91B3-FB7AEE7F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6492-6018-4D14-AC6D-49C946A6C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BECE8-A87B-485D-801C-C1ACF2610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8F1E8-4DC2-4C2F-9716-B8362F03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5365-EF7E-4045-A3CE-6FC818245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3A53-1315-4C9E-85EF-E4DC5525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26BBB-A4F0-4B84-9148-778199880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4A2CF-6EE2-4956-98DE-4D29230CD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AEC5F-35C4-4C87-95D5-EACDCF8AB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117C-4A52-42F8-A387-B93961BB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6ACCE-BA41-4715-A538-7D4F81F4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03B5-32D8-410C-8DA4-D821205243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8876-B2A5-435F-B462-D441F98827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UN-LOGO-blue"/>
          <p:cNvPicPr/>
          <p:nvPr/>
        </p:nvPicPr>
        <p:blipFill>
          <a:blip r:embed="rId2">
            <a:lum bright="70000" contrast="-70000"/>
          </a:blip>
          <a:stretch/>
        </p:blipFill>
        <p:spPr>
          <a:xfrm>
            <a:off x="3886200" y="1752480"/>
            <a:ext cx="5410080" cy="5410440"/>
          </a:xfrm>
          <a:prstGeom prst="rect">
            <a:avLst/>
          </a:prstGeom>
          <a:ln w="0">
            <a:noFill/>
          </a:ln>
        </p:spPr>
      </p:pic>
      <p:pic>
        <p:nvPicPr>
          <p:cNvPr id="44" name="Picture 9" descr="UNSaferGuardLogo"/>
          <p:cNvPicPr/>
          <p:nvPr/>
        </p:nvPicPr>
        <p:blipFill>
          <a:blip r:embed="rId3"/>
          <a:stretch/>
        </p:blipFill>
        <p:spPr>
          <a:xfrm>
            <a:off x="152280" y="5867280"/>
            <a:ext cx="3353040" cy="5860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IATG Software</a:t>
            </a:r>
            <a:endParaRPr b="1" lang="en-US" sz="36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4A20BB77-5215-4289-9660-E63CB20668F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ATG Software</a:t>
            </a:r>
            <a:endParaRPr b="1" lang="en-US" sz="3600" spc="-1" strike="noStrike">
              <a:solidFill>
                <a:srgbClr val="000000"/>
              </a:solidFill>
              <a:latin typeface="Arial"/>
            </a:endParaRPr>
          </a:p>
        </p:txBody>
      </p:sp>
      <p:pic>
        <p:nvPicPr>
          <p:cNvPr id="94" name="Content Placeholder 3" descr=""/>
          <p:cNvPicPr/>
          <p:nvPr/>
        </p:nvPicPr>
        <p:blipFill>
          <a:blip r:embed="rId1"/>
          <a:stretch/>
        </p:blipFill>
        <p:spPr>
          <a:xfrm>
            <a:off x="1447920" y="1905120"/>
            <a:ext cx="6181560" cy="1114200"/>
          </a:xfrm>
          <a:prstGeom prst="rect">
            <a:avLst/>
          </a:prstGeom>
          <a:ln w="0">
            <a:noFill/>
          </a:ln>
        </p:spPr>
      </p:pic>
      <p:pic>
        <p:nvPicPr>
          <p:cNvPr id="95" name="Picture 2" descr=""/>
          <p:cNvPicPr/>
          <p:nvPr/>
        </p:nvPicPr>
        <p:blipFill>
          <a:blip r:embed="rId2"/>
          <a:stretch/>
        </p:blipFill>
        <p:spPr>
          <a:xfrm>
            <a:off x="2371680" y="3471840"/>
            <a:ext cx="4400640" cy="866880"/>
          </a:xfrm>
          <a:prstGeom prst="rect">
            <a:avLst/>
          </a:prstGeom>
          <a:ln w="0">
            <a:noFill/>
          </a:ln>
        </p:spPr>
      </p:pic>
      <p:sp>
        <p:nvSpPr>
          <p:cNvPr id="9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1B6F145C-BAF8-41C7-905A-A36A1BDE222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4"/>
          <p:cNvSpPr/>
          <p:nvPr/>
        </p:nvSpPr>
        <p:spPr>
          <a:xfrm>
            <a:off x="185760" y="5738760"/>
            <a:ext cx="388620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9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15 Slide </a:t>
            </a:r>
            <a:fld id="{35D67A65-06F4-4E52-A3C3-72FDCD5FDF6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5:58:25Z</dcterms:modified>
  <cp:revision>9</cp:revision>
  <dc:subject/>
  <dc:title>Slide 1</dc:title>
</cp:coreProperties>
</file>