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DB69-5CF5-4F08-ABFD-E1B26ABAF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MMUNITION PROCESSING (I&amp;RI): (1 SLIDE, 1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LIDE 1 of 1: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INTRODUCTION (1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aw in the last lesson that a written work instruction for a specific task is called and Inspection and Repair Instruction, or I&amp;R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a complex document at first sight, particularly where it states the step-by-step instructions for the actual process to be comple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will now look at an I&amp;RI example.  This is taken from IATG 07:10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nstructo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: You now need to hand out the copies of Annex D to IATG 07:10, which is an example I&amp;RI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E01A-403A-435E-9804-43A5D6097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AMMUNITION PROCESSING (I&amp;RI): (1 SLIDE, 40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LIDE 1 of 1: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ALK THROUGH OF I&amp;RI (40 m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Instructo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: Take the students through the form, making explanations as you go through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FC53-2F8F-45B5-91C8-2937061359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e there any questions? 1 slide,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A657-F707-455D-B656-00F2737E40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761-EB19-422F-AA05-35117034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19C-4642-4BA1-9705-BB2CFDFB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13E-7705-4DD5-9FC3-B30961A8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C113-51DF-48EC-85C3-BCD12122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9E5-0995-4F78-8758-C22E9919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BC2-9FE3-4A53-BC23-E78C5D5B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683-8E93-4E21-93FA-8AB718BC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B48-3EE5-47B3-A147-C519D440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2C9-4040-4042-822F-B8F7390B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EC2-850C-43B9-9121-139E08DD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854-36EC-4114-B4AA-84FCF498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CB9-A3B7-4C7F-AEAB-42CBE0E3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UN-LOGO-blue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86200" y="1752480"/>
            <a:ext cx="5410080" cy="541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2312-08F6-45FF-A58D-151B3F01A5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UNSaferGuardLogo"/>
          <p:cNvPicPr/>
          <p:nvPr/>
        </p:nvPicPr>
        <p:blipFill>
          <a:blip r:embed="rId3"/>
          <a:stretch/>
        </p:blipFill>
        <p:spPr>
          <a:xfrm>
            <a:off x="152280" y="5867280"/>
            <a:ext cx="3353040" cy="58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mmunition Processing (I&amp;R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7696080" y="6400800"/>
            <a:ext cx="13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14 Slide </a:t>
            </a:r>
            <a:fld id="{2AB75578-BC54-4135-8F95-34914786EC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mmunition Processing (I&amp;RI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Through of Example I&amp;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14 Slide </a:t>
            </a:r>
            <a:fld id="{133EDBDA-8913-46F9-BBE6-C80F0F55B38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7696080" y="6400800"/>
            <a:ext cx="13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14 Slide </a:t>
            </a:r>
            <a:fld id="{7E319918-E782-41D6-92D8-21A82FA490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6:56:50Z</dcterms:created>
  <dc:creator>United Nations</dc:creator>
  <dc:description/>
  <dc:language>en-US</dc:language>
  <cp:lastModifiedBy>RMH</cp:lastModifiedBy>
  <dcterms:modified xsi:type="dcterms:W3CDTF">2012-06-03T15:00:54Z</dcterms:modified>
  <cp:revision>7</cp:revision>
  <dc:subject/>
  <dc:title>Slide 1</dc:title>
</cp:coreProperties>
</file>