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7ADA-6955-461F-B2D8-9418C1074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MMUNITION PROCESSING (I&amp;RI): (1 SLIDE, 1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LIDE 1 of 1: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INTRODUCTION (1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aw in the last lesson that a written work instruction for a specific task is called and Inspection and Repair Instruction, or I&amp;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a complex document at first sight, particularly where it states the step-by-step instructions for the actual process to be comple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will now look at an I&amp;RI example.  This is taken from IATG 07:10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nstructo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: You now need to hand out the copies of Annex D to IATG 07:10, which is an example I&amp;RI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88B9-02A3-42EE-8AE2-F7FEC4B13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MMUNITION PROCESSING (I&amp;RI): (1 SLIDE, 40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LIDE 1 of 1: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ALK THROUGH OF I&amp;RI (40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nstructo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: Take the students through the form, making explanations as you go through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0A38-F150-44D2-95CD-C0AB53FF1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e there any questions? 1 slide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AC9F-6ADD-4907-AB02-CEFEDB82A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AD2-08F7-4857-B5E8-E2EA3F17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393-D773-442F-B0A9-71F9E09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B5B-5A3A-482F-9EA4-23270890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6B6-3306-41B7-BE47-CA8F2A82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E2D-E902-4BB9-B7BD-4D4DAA78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ECF-9682-46BB-9815-897A9C1E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D48-186C-4A7B-92A5-FCDAA90F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3D7-260D-4198-A24F-A137396F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A58-6681-4F5C-A2CC-446A67EA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D6D-0AAC-447A-8A1A-C4035DEA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EE4-3221-4249-BF95-99FA2877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FA2-1269-42CA-9913-E51AAF21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N-LOGO-blu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86200" y="1752480"/>
            <a:ext cx="5410080" cy="541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7F77-181C-4243-9EDC-F9C2B3B26D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NSaferGuardLogo"/>
          <p:cNvPicPr/>
          <p:nvPr/>
        </p:nvPicPr>
        <p:blipFill>
          <a:blip r:embed="rId3"/>
          <a:stretch/>
        </p:blipFill>
        <p:spPr>
          <a:xfrm>
            <a:off x="152280" y="5867280"/>
            <a:ext cx="3353040" cy="58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mmunition Processing (I&amp;R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7696080" y="6400800"/>
            <a:ext cx="13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14 Slide </a:t>
            </a:r>
            <a:fld id="{501D9B8F-D76E-41E1-B7E8-77CA49CA02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mmunition Processing (I&amp;R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Through of Example I&amp;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14 Slide </a:t>
            </a:r>
            <a:fld id="{212789D5-C04B-44F5-BEE7-1C4AEC84252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696080" y="6400800"/>
            <a:ext cx="13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14 Slide </a:t>
            </a:r>
            <a:fld id="{26925976-C65D-4A63-ADF8-E6A13046402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6:56:50Z</dcterms:created>
  <dc:creator>United Nations</dc:creator>
  <dc:description/>
  <dc:language>en-US</dc:language>
  <cp:lastModifiedBy>RMH</cp:lastModifiedBy>
  <dcterms:modified xsi:type="dcterms:W3CDTF">2012-06-03T15:00:54Z</dcterms:modified>
  <cp:revision>7</cp:revision>
  <dc:subject/>
  <dc:title>Slide 1</dc:title>
</cp:coreProperties>
</file>