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D441-45EE-44E4-822B-306BC80FD0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RISK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should be seen as a fundamental preventative measure to support safe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re complete the knowledge is on the risk presented by the ammunition and explosives, the better the decisions can be regarding the likelihood and the consequences of an explosive 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explosive event</a:t>
            </a:r>
            <a:r>
              <a:rPr b="0" lang="ja-JP" sz="1200" spc="-1" strike="noStrike">
                <a:solidFill>
                  <a:srgbClr val="000000"/>
                </a:solidFill>
                <a:latin typeface="Calibri"/>
              </a:rPr>
              <a:t>’</a:t>
            </a:r>
            <a:r>
              <a:rPr b="0" lang="en-GB" sz="1200" spc="-1" strike="noStrike">
                <a:solidFill>
                  <a:srgbClr val="000000"/>
                </a:solidFill>
                <a:latin typeface="Calibri"/>
              </a:rPr>
              <a:t> refers to an unexpected and undesired initiation of an explosive substance or article within an ammunition depot leading to significant or catastrophic consequ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02C3-FFA9-4538-A3AF-E9C11A690E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DIAGRA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somewhat confusing group of terms, so lets look at how the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is made 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tart with hazard identification (sometimes called Hazard ID, or Haz I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lso estimate the risk posed by the hazar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gether, these are </a:t>
            </a:r>
            <a:r>
              <a:rPr b="0" lang="ja-JP" sz="1200" spc="-1" strike="noStrike">
                <a:solidFill>
                  <a:srgbClr val="000000"/>
                </a:solidFill>
                <a:latin typeface="Calibri"/>
              </a:rPr>
              <a:t>‘</a:t>
            </a:r>
            <a:r>
              <a:rPr b="0" lang="en-GB" sz="1200" spc="-1" strike="noStrike">
                <a:solidFill>
                  <a:srgbClr val="000000"/>
                </a:solidFill>
                <a:latin typeface="Calibri"/>
              </a:rPr>
              <a:t>risk analysi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look at this risk analysis and try to determine if the risks are </a:t>
            </a:r>
            <a:r>
              <a:rPr b="0" lang="ja-JP" sz="1200" spc="-1" strike="noStrike">
                <a:solidFill>
                  <a:srgbClr val="000000"/>
                </a:solidFill>
                <a:latin typeface="Calibri"/>
              </a:rPr>
              <a:t>‘</a:t>
            </a:r>
            <a:r>
              <a:rPr b="0" lang="en-GB" sz="1200" spc="-1" strike="noStrike">
                <a:solidFill>
                  <a:srgbClr val="000000"/>
                </a:solidFill>
                <a:latin typeface="Calibri"/>
              </a:rPr>
              <a:t>as low as reasonably possibl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  So the risk assessment is the activity of looking at all of the hazards that we have identified and considering if they are indeed ALARP, and if not then by how much are they in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look at what extra risk mitigation measures could be put in place practicably, in order to reach an ALARP st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tually we will get to the point where we know all of the risks are indeed ALARP.  A this point, the head of establishment, or whoever else is responsible for bearing the risk, accepts the risk.  This may, for example, be in  a meeting for which the Minutes are formally recorded and filed to form an audit trail.  The document detailing this risk process may also be personally signed by the person bearing th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s and the mitigation measures then need to be communicated widely, and communication needs to be 2-way to ensure that these mitigation measures are physically put in place, and that stakeholders understand the risk both before and after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hole, complete process from initial theoretical hazard identification through risk assessment and acceptance and implementation of mitigation measures and a full communication process forms the top-level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B883-EEF7-4E59-B9ED-06EB0DD031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7:  (no real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Header slide only, no time required on this slide. Move on to the next group of sl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55EB-4251-47AA-9785-E07CC9DFCD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7: </a:t>
            </a:r>
            <a:r>
              <a:rPr b="1" lang="en-GB" sz="1200" spc="-1" strike="noStrike" u="sng">
                <a:solidFill>
                  <a:srgbClr val="000000"/>
                </a:solidFill>
                <a:uFillTx/>
                <a:latin typeface="Calibri"/>
              </a:rPr>
              <a:t>HAZARD IDENTIFICATION AND ANALYSI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 and analysis is a reasonably simple process for the risk management process that supports conventional ammunition sto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hazards are defined as a potential source of harm, then the hazard from, for example, individual explosive storehouses (ESH) will depend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 hazard classification, physical condition and chemical stability of the ammunition contained within that E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rmally each ESH is considered to be an individual Potential Explosion Site (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if there is a risk of practically instantaneous propagation due to inadequate distances between the ESH, then they may have to be treated as one single PES.  In this case, the explosive quantities of each affected ESH may need to be aggregated to represent a sing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the initial task is simply to determine what Potential Explosion Sites exist, and for each determine what is inside them.  the distances between each type of ESH, and how they are constructed are also important, so a site plan will probably be necessary at this 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C0A6-61F3-4344-9ECF-1A73B3D2A9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RISK ESTIMATION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is defined as a combination of the probability of occurrence of harm and the severity of that harm, then for explosive events in ammunition storage areas the estimation of risk should establish and/or est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a:t>
            </a:r>
            <a:r>
              <a:rPr b="0" lang="en-GB" sz="1200" spc="-1" strike="noStrike">
                <a:solidFill>
                  <a:srgbClr val="000000"/>
                </a:solidFill>
                <a:latin typeface="Calibri"/>
              </a:rPr>
              <a:t>	</a:t>
            </a:r>
            <a:r>
              <a:rPr b="0" lang="en-GB" sz="1200" spc="-1" strike="noStrike">
                <a:solidFill>
                  <a:srgbClr val="000000"/>
                </a:solidFill>
                <a:latin typeface="Calibri"/>
              </a:rPr>
              <a:t>The 'consequence analysis' which inclu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physical effects of such an explo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number of casualties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levels of damage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Note that the IATG software includes an </a:t>
            </a:r>
            <a:r>
              <a:rPr b="0" lang="ja-JP" sz="1200" spc="-1" strike="noStrike">
                <a:solidFill>
                  <a:srgbClr val="000000"/>
                </a:solidFill>
                <a:latin typeface="Calibri"/>
              </a:rPr>
              <a:t>‘</a:t>
            </a:r>
            <a:r>
              <a:rPr b="0" lang="en-GB" sz="1200" spc="-1" strike="noStrike">
                <a:solidFill>
                  <a:srgbClr val="000000"/>
                </a:solidFill>
                <a:latin typeface="Calibri"/>
              </a:rPr>
              <a:t>automated</a:t>
            </a:r>
            <a:r>
              <a:rPr b="0" lang="ja-JP" sz="1200" spc="-1" strike="noStrike">
                <a:solidFill>
                  <a:srgbClr val="000000"/>
                </a:solidFill>
                <a:latin typeface="Calibri"/>
              </a:rPr>
              <a:t>’</a:t>
            </a:r>
            <a:r>
              <a:rPr b="0" lang="en-GB" sz="1200" spc="-1" strike="noStrike">
                <a:solidFill>
                  <a:srgbClr val="000000"/>
                </a:solidFill>
                <a:latin typeface="Calibri"/>
              </a:rPr>
              <a:t> Explosion Consequence Analysis, or "ECA" which just requires the input of basic readi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vailable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a:t>
            </a:r>
            <a:r>
              <a:rPr b="0" lang="en-GB" sz="1200" spc="-1" strike="noStrike">
                <a:solidFill>
                  <a:srgbClr val="000000"/>
                </a:solidFill>
                <a:latin typeface="Calibri"/>
              </a:rPr>
              <a:t>	</a:t>
            </a:r>
            <a:r>
              <a:rPr b="0" lang="en-GB" sz="1200" spc="-1" strike="noStrike">
                <a:solidFill>
                  <a:srgbClr val="000000"/>
                </a:solidFill>
                <a:latin typeface="Calibri"/>
              </a:rPr>
              <a:t>The probability of an unplanned and undesirable explosive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sider these further, but very brief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hysical effects of such an explosion</a:t>
            </a:r>
            <a:r>
              <a:rPr b="0" lang="en-GB" sz="1200" spc="-1" strike="noStrike">
                <a:solidFill>
                  <a:srgbClr val="000000"/>
                </a:solidFill>
                <a:latin typeface="Calibri"/>
              </a:rPr>
              <a:t>:  The physical effects of an undesirable explosive event within an ammunition depot can be estimated by using the appropriate equation contained with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lang="en-GB" sz="1200" spc="-1" strike="noStrike">
                <a:solidFill>
                  <a:srgbClr val="000000"/>
                </a:solidFill>
                <a:latin typeface="Calibri"/>
              </a:rPr>
              <a:t>. This can be used to determine the blast over-pressure and impulse at the distance from a potential explosion site to an exposed site from a known explosive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number of casualties to be expected</a:t>
            </a:r>
            <a:r>
              <a:rPr b="0" lang="en-GB" sz="1200" spc="-1" strike="noStrike">
                <a:solidFill>
                  <a:srgbClr val="000000"/>
                </a:solidFill>
                <a:latin typeface="Calibri"/>
              </a:rPr>
              <a:t>:  For fatalities and injuries to humans, the threshold blast over-pressures have been established by experimentation.  34,5kPa is required for onset of hearing damage, 207kPa for lung damage and 690kPa for fatality.  Therefore if the population density is known within the appropriate ranges, an estimate of the total number of fatalities and casualties can then be der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levels of damage to be expected</a:t>
            </a:r>
            <a:r>
              <a:rPr b="0" lang="en-GB" sz="1200" spc="-1" strike="noStrike">
                <a:solidFill>
                  <a:srgbClr val="000000"/>
                </a:solidFill>
                <a:latin typeface="Calibri"/>
              </a:rPr>
              <a:t>: As with damage to people, the effects of blast on buildings within and outside the perimeter of the ammunition dep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n be estimated.  More on this topic is again covered 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robability of an unplanned and undesirable explosive event</a:t>
            </a:r>
            <a:r>
              <a:rPr b="0" lang="en-GB" sz="1200" spc="-1" strike="noStrike">
                <a:solidFill>
                  <a:srgbClr val="000000"/>
                </a:solidFill>
                <a:latin typeface="Calibri"/>
              </a:rPr>
              <a:t>:  Data on the number of annual ammunition depot accidents is available.  A stockpile management organisation should be aware of previous similar events in their region; this will assist the organisation in assessing frequency, and hence probability.  Alternatively, Logic or fault tree approaches are often used depending upon the complexity of and number of proposed scenar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ing to an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D044-08F4-4968-8E33-5A0F4F5228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7: </a:t>
            </a:r>
            <a:r>
              <a:rPr b="1" lang="en-GB" sz="1200" spc="-1" strike="noStrike" u="sng">
                <a:solidFill>
                  <a:srgbClr val="000000"/>
                </a:solidFill>
                <a:uFillTx/>
                <a:latin typeface="Calibri"/>
              </a:rPr>
              <a:t>RISK AND ALARP EVALUA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m of risk evaluation is to compare the estimated effects, in terms of human fatalities and injuries, financial costs and political impact of an explosive event against what is tolerable in socie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assessed as tolerable then no remedial action should be required, although it should also be considered if that risk is As Low as Reasonably Practicable (ALAR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societies may consider a method of assessing the estimated 'individual risk of fatality' against other risks of fatality such as road traffic accident fatalities or from industrial processes, for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not assessed as being tolerable then appropriate remedial action should be taken in order to reduce th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46D1-D7B9-42A6-952E-C4103501AA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5 of 7: </a:t>
            </a:r>
            <a:r>
              <a:rPr b="1" lang="en-US" sz="1200" spc="-1" strike="noStrike" u="sng">
                <a:solidFill>
                  <a:srgbClr val="000000"/>
                </a:solidFill>
                <a:uFillTx/>
                <a:latin typeface="Calibri"/>
              </a:rPr>
              <a:t>RISK RE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reduce the estimated risk from an unplanned or undesirable explosive event at an ammunition storage area, one or a combination of the following actions can be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duction of ammunition stock levels within the explosive storage area until appropriate predicted blast over-pressure levels are reached at the exposed site (This is a LEVEL 1 activity in the risk reduction hierarch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e in the separation distance between the potential explosion site and the exposed site until tolerable blast over-pressure levels are reached at the exposed site (LEVEL 2).</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rovements in the physical infrastructure of ammunition storage to achieve tolerable estimated blast over-pressure levels at the exposed site (LEVEL 2 and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gation of effective ammunition surveillance and proof systems to identify ammunition and propellant that has deteriorated to a dangerous condition (see IATG 07.20 Surveillance and proof) (LEVEL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osure of the ammunition depot and the transfer of stocks to an ammunition depot with spare capacity (LEVEL 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bable impact of the estimated risk to the local community is formally accepted at the appropriate political level (LEVEL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A00E-5A34-443D-AADF-4D18095A49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RISK COMMUNIC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rs should identify people, organisations and even pressure groups who have some form of interest in the risk and activities at the site, and classify these as </a:t>
            </a:r>
            <a:r>
              <a:rPr b="0" lang="ja-JP" sz="1200" spc="-1" strike="noStrike">
                <a:solidFill>
                  <a:srgbClr val="000000"/>
                </a:solidFill>
                <a:latin typeface="Calibri"/>
              </a:rPr>
              <a:t>‘</a:t>
            </a:r>
            <a:r>
              <a:rPr b="0" lang="en-GB" sz="1200" spc="-1" strike="noStrike">
                <a:solidFill>
                  <a:srgbClr val="000000"/>
                </a:solidFill>
                <a:latin typeface="Calibri"/>
              </a:rPr>
              <a:t>stakeholder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the process of exchange of information and opinion on risk, and this works both w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an integral and ongoing part of the risk management process, and ideally all stakeholder groups should be involved from the start. Risk communication makes stakeholders aware of the results of the risk assessment, the logic behind the risk analysis process, and the remedial measures taken to ensure a level of tolerab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D2E2-C8AD-4B0B-AC32-4C449018A5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RISK ACCEPTA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 criteria will result from three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perceptions of societal risk and hence the detailed specification of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tential economical cost and losses due to an undesired explosive event (which wi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Explosive ordnance disposal remedi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Reconstruction costs (for public and civilian building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jury compens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mmunition replacement cos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 supporting Cost Benefit Analysis (CBA) may be required before the risk may be formally accepted as it could impact on tolerable risk and </a:t>
            </a:r>
            <a:r>
              <a:rPr b="0" lang="en-GB" sz="1200" spc="-1" strike="noStrike">
                <a:solidFill>
                  <a:srgbClr val="000000"/>
                </a:solidFill>
                <a:latin typeface="Calibri"/>
              </a:rPr>
              <a:t>	</a:t>
            </a:r>
            <a:r>
              <a:rPr b="0" lang="en-GB" sz="1200" spc="-1" strike="noStrike">
                <a:solidFill>
                  <a:srgbClr val="000000"/>
                </a:solidFill>
                <a:latin typeface="Calibri"/>
              </a:rPr>
              <a:t>hence require a reiteration of the risk assessment proces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Environmental impac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clud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been achieved, and if necessary supported by CBA, then that risk and the residual risk should be formally accepted by the appropriate authority within a conventional ammunition stockpile management organisation. In terms of ammunition storage this should usually take the form of issuing Explosive Licences for the ammunition storag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not been achieved, and where resources are not being made available to achieve tolerable risk in the short term, then the residual risk should be formally accepted in writing by the entity responsible for the allocation of resources to the stockpile management organis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ould the resource allocation entity refuse to formally accept the risk in writing, then the issue should be referred to the next level of government for reconciliation of the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63F9-AE79-4DB2-BABA-77DB389061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5DDD-DB0E-4369-89B4-076867EA09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CEPT OF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HE CONCEPT OF SAFETY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ever industry or sphere we are in, there will never be any such thing as something that is 'totally safe'.  There will always be some element of risk, even if we have done everything that seems within our power to prevent any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left after our efforts to make things 'safer' is the residual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risk?  Risk is defined as </a:t>
            </a:r>
            <a:r>
              <a:rPr b="0" lang="ja-JP" sz="1200" spc="-1" strike="noStrike">
                <a:solidFill>
                  <a:srgbClr val="000000"/>
                </a:solidFill>
                <a:latin typeface="Calibri"/>
              </a:rPr>
              <a:t>“</a:t>
            </a:r>
            <a:r>
              <a:rPr b="0" lang="en-GB" sz="1200" spc="-1" strike="noStrike">
                <a:solidFill>
                  <a:srgbClr val="000000"/>
                </a:solidFill>
                <a:latin typeface="Calibri"/>
              </a:rPr>
              <a:t>Risk = Likelihood x Conseque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ant thing is to get this residual risk to an 'acceptable' level.  Of course, the logical question here is what is acceptable. IATG states that acceptable, in this context, is 'tolerabl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olerable risk is defined as "The risk that is accepted in a given context based on the current values of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leads us to the definition of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Within IATG, the term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refers to the reduction of risk to a tolerable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to 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ontext of conventional ammunition stockpile management, the enabling processes of storage, handling, destruction, etc, can never be absolutely safe; they can only be relatively safe. This is an inevitable fact of life, which does not mean that all efforts to ensure safety are not being made. It just means that it cannot be proved, with 100% confidence, that absolute safety is being achie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ment systems recommended in IATG, and used within the IATG software, aim to be as close to that 100% ideal confidence level as is realistically possible, whilst allowing stockpile management organisations to determine what is the tolerable risk that they are prepared to accept in their particular enviro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ques covered, or referred to, in IATG 02:10 should be applied in order to manage the risks of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116B-2D92-4D12-9E55-69C1AFF48C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RODUCTION TO THE RISK MANAGEMENT PROCES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is a complex process which we simply cannot cover in full in this lesson.  You will not become a safety management practitioner by sitting here for the next 45 minutes.  However, the aim is really to introduce you to the concepts of risk management so that you have a basic awareness and appreciation of this huge topic for when you study more detailed, specific processes later in the course.  The IATG provide more detail on the generic risk management process and you should study this and refer to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member though that we are trying to achieve real improvements in safety </a:t>
            </a:r>
            <a:r>
              <a:rPr b="0" lang="ja-JP" sz="1200" spc="-1" strike="noStrike">
                <a:solidFill>
                  <a:srgbClr val="000000"/>
                </a:solidFill>
                <a:latin typeface="Calibri"/>
              </a:rPr>
              <a:t>‘</a:t>
            </a:r>
            <a:r>
              <a:rPr b="0" lang="en-GB" sz="1200" spc="-1" strike="noStrike">
                <a:solidFill>
                  <a:srgbClr val="000000"/>
                </a:solidFill>
                <a:latin typeface="Calibri"/>
              </a:rPr>
              <a:t>on the ground</a:t>
            </a:r>
            <a:r>
              <a:rPr b="0" lang="ja-JP" sz="1200" spc="-1" strike="noStrike">
                <a:solidFill>
                  <a:srgbClr val="000000"/>
                </a:solidFill>
                <a:latin typeface="Calibri"/>
              </a:rPr>
              <a:t>’</a:t>
            </a:r>
            <a:r>
              <a:rPr b="0" lang="en-GB" sz="1200" spc="-1" strike="noStrike">
                <a:solidFill>
                  <a:srgbClr val="000000"/>
                </a:solidFill>
                <a:latin typeface="Calibri"/>
              </a:rPr>
              <a:t>, rather than just going through a number of paperwork processes because the instructions say that we have to.  There is no point in doing procedural </a:t>
            </a:r>
            <a:r>
              <a:rPr b="0" lang="ja-JP" sz="1200" spc="-1" strike="noStrike">
                <a:solidFill>
                  <a:srgbClr val="000000"/>
                </a:solidFill>
                <a:latin typeface="Calibri"/>
              </a:rPr>
              <a:t>‘</a:t>
            </a:r>
            <a:r>
              <a:rPr b="0" lang="en-GB" sz="1200" spc="-1" strike="noStrike">
                <a:solidFill>
                  <a:srgbClr val="000000"/>
                </a:solidFill>
                <a:latin typeface="Calibri"/>
              </a:rPr>
              <a:t>tick box exercises</a:t>
            </a:r>
            <a:r>
              <a:rPr b="0" lang="ja-JP" sz="1200" spc="-1" strike="noStrike">
                <a:solidFill>
                  <a:srgbClr val="000000"/>
                </a:solidFill>
                <a:latin typeface="Calibri"/>
              </a:rPr>
              <a:t>’</a:t>
            </a:r>
            <a:r>
              <a:rPr b="0" lang="en-GB" sz="1200" spc="-1" strike="noStrike">
                <a:solidFill>
                  <a:srgbClr val="000000"/>
                </a:solidFill>
                <a:latin typeface="Calibri"/>
              </a:rPr>
              <a:t>.  You must actually think about this and be alert and aware of safety, and look to achieve real safety.  The processes in the IATG are tools to allow us to improve safety.  But you, and your colleagues and others, must ensure that you are safe in your work and activities. In essence there needs to be a sound environment – a culture – within the organisation that treats people fairly, even if they have made mistakes.  There needs to be a fair, honest reporting culture.  Indeed, this is all part of a higher level </a:t>
            </a:r>
            <a:r>
              <a:rPr b="0" lang="ja-JP" sz="1200" spc="-1" strike="noStrike">
                <a:solidFill>
                  <a:srgbClr val="000000"/>
                </a:solidFill>
                <a:latin typeface="Calibri"/>
              </a:rPr>
              <a:t>“</a:t>
            </a:r>
            <a:r>
              <a:rPr b="0" lang="en-GB" sz="1200" spc="-1" strike="noStrike">
                <a:solidFill>
                  <a:srgbClr val="000000"/>
                </a:solidFill>
                <a:latin typeface="Calibri"/>
              </a:rPr>
              <a:t>Safety Culture</a:t>
            </a:r>
            <a:r>
              <a:rPr b="0" lang="ja-JP" sz="1200" spc="-1" strike="noStrike">
                <a:solidFill>
                  <a:srgbClr val="000000"/>
                </a:solidFill>
                <a:latin typeface="Calibri"/>
              </a:rPr>
              <a:t>”</a:t>
            </a:r>
            <a:r>
              <a:rPr b="0" lang="en-GB" sz="1200" spc="-1" strike="noStrike">
                <a:solidFill>
                  <a:srgbClr val="000000"/>
                </a:solidFill>
                <a:latin typeface="Calibri"/>
              </a:rPr>
              <a:t> which must be seen as desirable and is worth creat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A1FA-863F-433C-9EF2-5FD8C42D6A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HE RISK MANAGEMENT PROCES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he term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refers to the complete risk-based decision-making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d ALARP evaluation.  Note here that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is a commonly used abbreviation in safety management and it stands for </a:t>
            </a:r>
            <a:r>
              <a:rPr b="0" lang="ja-JP" sz="1200" spc="-1" strike="noStrike">
                <a:solidFill>
                  <a:srgbClr val="000000"/>
                </a:solidFill>
                <a:latin typeface="Calibri"/>
              </a:rPr>
              <a:t>‘</a:t>
            </a:r>
            <a:r>
              <a:rPr b="0" lang="en-GB" sz="1200" spc="-1" strike="noStrike">
                <a:solidFill>
                  <a:srgbClr val="000000"/>
                </a:solidFill>
                <a:latin typeface="Calibri"/>
              </a:rPr>
              <a:t>As Low As Reasonably Practicable</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how these interact with each shortl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5984-6907-4FBA-9389-9CB374A59E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THE RISK MANAGEMENT PROC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our risk management, we need to define we deem to be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offers detail on deriving acceptable levels of risk in terms of probability (or likelihood) for different groups of peopl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determined at the highest levels that military members of staff who work in the ammunition depot must not be subjected to an accident, for which there is a probability of more than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13DF-C200-465A-A4C5-BA2397D49E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 </a:t>
            </a:r>
            <a:r>
              <a:rPr b="0" lang="en-GB" sz="1200" spc="-1" strike="noStrike">
                <a:solidFill>
                  <a:srgbClr val="000000"/>
                </a:solidFill>
                <a:latin typeface="Calibri"/>
              </a:rPr>
              <a:t>text on the slide appears on the click of a mouse, so </a:t>
            </a:r>
            <a:r>
              <a:rPr b="1" lang="en-GB" sz="1200" spc="-1" strike="noStrike">
                <a:solidFill>
                  <a:srgbClr val="000000"/>
                </a:solidFill>
                <a:latin typeface="Calibri"/>
              </a:rPr>
              <a:t>click</a:t>
            </a:r>
            <a:r>
              <a:rPr b="0" lang="en-GB" sz="1200" spc="-1" strike="noStrike">
                <a:solidFill>
                  <a:srgbClr val="000000"/>
                </a:solidFill>
                <a:latin typeface="Calibri"/>
              </a:rPr>
              <a:t> mouse when instructed in the text below.  Note that the final action on this slide needs 2 clicks to turn it over to the next part of the slide sequ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n the screen we have a hypothetical example, which could be for any particular hazar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Note here that one in a million is written mathematically as 1 x 10</a:t>
            </a:r>
            <a:r>
              <a:rPr b="0" lang="en-GB" sz="1200" spc="-1" strike="noStrike" baseline="30000">
                <a:solidFill>
                  <a:srgbClr val="000000"/>
                </a:solidFill>
                <a:latin typeface="Calibri"/>
              </a:rPr>
              <a:t>-6</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probability of an event happening – which his considered to be acceptable by the </a:t>
            </a:r>
            <a:r>
              <a:rPr b="0" lang="ja-JP" sz="1200" spc="-1" strike="noStrike">
                <a:solidFill>
                  <a:srgbClr val="000000"/>
                </a:solidFill>
                <a:latin typeface="Calibri"/>
              </a:rPr>
              <a:t>‘</a:t>
            </a:r>
            <a:r>
              <a:rPr b="0" lang="en-GB" sz="1200" spc="-1" strike="noStrike">
                <a:solidFill>
                  <a:srgbClr val="000000"/>
                </a:solidFill>
                <a:latin typeface="Calibri"/>
              </a:rPr>
              <a:t>powers that be</a:t>
            </a:r>
            <a:r>
              <a:rPr b="0" lang="ja-JP" sz="1200" spc="-1" strike="noStrike">
                <a:solidFill>
                  <a:srgbClr val="000000"/>
                </a:solidFill>
                <a:latin typeface="Calibri"/>
              </a:rPr>
              <a:t>’</a:t>
            </a:r>
            <a:r>
              <a:rPr b="0" lang="en-GB" sz="1200" spc="-1" strike="noStrike">
                <a:solidFill>
                  <a:srgbClr val="000000"/>
                </a:solidFill>
                <a:latin typeface="Calibri"/>
              </a:rPr>
              <a:t> – i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However having done the risk and ALARP evaluation we decide that the actual risk at the moment of that occurring is one in a thousand.  This is much more likely than we w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So we come up with some mitigation measures, and these reduce the probability right down, to the point where it becomes one in a million chance of that risk occurr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The mitigated risk now become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until slide turns 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3934-1C26-43E6-804A-4C96378C63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xt on the slide appears on the click of a mouse, so click mouse when instructed in the text be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Based on this, the mitigated risk is now tolerable because it meets the pre-determined targ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f, for some reason, the mitigation measures failed or were removed, the probability would increase and this risk would no longer remain as tolerable.  Action would be required to reinstall th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t>
            </a:r>
            <a:r>
              <a:rPr b="0" lang="ja-JP" sz="1200" spc="-1" strike="noStrike">
                <a:solidFill>
                  <a:srgbClr val="000000"/>
                </a:solidFill>
                <a:latin typeface="Calibri"/>
              </a:rPr>
              <a:t>‘</a:t>
            </a:r>
            <a:r>
              <a:rPr b="0" lang="en-GB" sz="1200" spc="-1" strike="noStrike">
                <a:solidFill>
                  <a:srgbClr val="000000"/>
                </a:solidFill>
                <a:latin typeface="Calibri"/>
              </a:rPr>
              <a:t>real life</a:t>
            </a:r>
            <a:r>
              <a:rPr b="0" lang="ja-JP" sz="1200" spc="-1" strike="noStrike">
                <a:solidFill>
                  <a:srgbClr val="000000"/>
                </a:solidFill>
                <a:latin typeface="Calibri"/>
              </a:rPr>
              <a:t>’</a:t>
            </a:r>
            <a:r>
              <a:rPr b="0" lang="en-GB" sz="1200" spc="-1" strike="noStrike">
                <a:solidFill>
                  <a:srgbClr val="000000"/>
                </a:solidFill>
                <a:latin typeface="Calibri"/>
              </a:rPr>
              <a:t> then for us, we could be talking about the risk of death to a depot worker because of ammunition pallets that are too highly stacked.  Lets say in our depots that they are usually stacked 5 pallets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tack topples over, the worker would be ki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target for keeping the worker from dying is a probability (or a </a:t>
            </a:r>
            <a:r>
              <a:rPr b="0" lang="ja-JP" sz="1200" spc="-1" strike="noStrike">
                <a:solidFill>
                  <a:srgbClr val="000000"/>
                </a:solidFill>
                <a:latin typeface="Calibri"/>
              </a:rPr>
              <a:t>‘</a:t>
            </a:r>
            <a:r>
              <a:rPr b="0" lang="en-GB" sz="1200" spc="-1" strike="noStrike">
                <a:solidFill>
                  <a:srgbClr val="000000"/>
                </a:solidFill>
                <a:latin typeface="Calibri"/>
              </a:rPr>
              <a:t>chance</a:t>
            </a:r>
            <a:r>
              <a:rPr b="0" lang="ja-JP" sz="1200" spc="-1" strike="noStrike">
                <a:solidFill>
                  <a:srgbClr val="000000"/>
                </a:solidFill>
                <a:latin typeface="Calibri"/>
              </a:rPr>
              <a:t>’</a:t>
            </a:r>
            <a:r>
              <a:rPr b="0" lang="en-GB" sz="1200" spc="-1" strike="noStrike">
                <a:solidFill>
                  <a:srgbClr val="000000"/>
                </a:solidFill>
                <a:latin typeface="Calibri"/>
              </a:rPr>
              <a:t>) of 1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lets say that we find out, through research of health and safety data about warehouses, that the risk of pallets falling over when they are stacked 5 high is 1 in a thousand.  This is too high a risk for our work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find out through researching the same data that the risk of a stack toppling over is only 1 in a million if they are stacked 3 hi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e implement a regulation that forbids the stacking of pallets over 3 high.  This is a reasonably achievable, practical mitigation measure.  We communicate this new regulation to the depot foremen, and we ensure that they understand this and they make sure that pallets are only stacked 3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therefore comes down to 1 in a million, which meets our pre-determined target and is therefore considered to be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C61C-5067-401F-977E-107CDDFADB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QUALITATIVE RISK ASSESSMENTS: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QUALITATIVE v QUANTATITIVE RISK ASSESS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ifferenc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descrip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s use measurable or calculable dat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relatively easy to remember: Quantitative assessment uses actual quantities – ie figures. Qualitative assessment is a quality jud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litative Risk Assessmen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by far the most widely used approach to risk analysis in many circumstances. Probability data is not required as an estimate of potential loss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should be rarely used during conventional ammunition storage risk assessment processes in terms of explosive safety distances and the like, as there are a range of scientifically accepted and proven techniques available to allow for a more quantitative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may be used though for specific processes that support ammunition management where little quantitative data is available.  For example there is little quantitative data for tasks such as ammunition processing tasks. In this kind of case, qualitative assessment may be the only workable way of assessing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ative Risk Assess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 (QRA) is a powerful tool for the investigation and reduction of risk. It should be used to estimate the approximate probability of an accidental explosion during ammunition storage and then estimate the fatalities, injuries, damage and other losses from such an explosion (referred to as the consequ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enables professional judgement to be applied as to whether or not the risk meets the ALARP principal. It is used in the IATG sof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RA provides an advantage over more subjective methods in that a more complete set of available information is used to quantify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as a parameter. This allows for consistency and repeatability from decision to decision, (for example when comparing the hazard presented by each explosive storehouse within an ammunition depo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mary limitation of some of the techniques used within QRA (for explosives) is a degree of inherent uncertainty in the calculations.  This is often due to the wide range of variab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ertheless, accuracy in the absolute or overall sense can be discussed within </a:t>
            </a:r>
            <a:r>
              <a:rPr b="0" lang="ja-JP" sz="1200" spc="-1" strike="noStrike">
                <a:solidFill>
                  <a:srgbClr val="000000"/>
                </a:solidFill>
                <a:latin typeface="Calibri"/>
              </a:rPr>
              <a:t>‘</a:t>
            </a:r>
            <a:r>
              <a:rPr b="0" lang="en-GB" sz="1200" spc="-1" strike="noStrike">
                <a:solidFill>
                  <a:srgbClr val="000000"/>
                </a:solidFill>
                <a:latin typeface="Calibri"/>
              </a:rPr>
              <a:t>orders of magnitude</a:t>
            </a:r>
            <a:r>
              <a:rPr b="0" lang="ja-JP" sz="1200" spc="-1" strike="noStrike">
                <a:solidFill>
                  <a:srgbClr val="000000"/>
                </a:solidFill>
                <a:latin typeface="Calibri"/>
              </a:rPr>
              <a:t>’</a:t>
            </a:r>
            <a:r>
              <a:rPr b="0" lang="en-GB" sz="1200" spc="-1" strike="noStrike">
                <a:solidFill>
                  <a:srgbClr val="000000"/>
                </a:solidFill>
                <a:latin typeface="Calibri"/>
              </a:rPr>
              <a:t> (factors of 10) and still allow for appropriate decision-ma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delity, that is the extent to which the QRA model is likely to be in comparison to a real life event, may be quite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lative options can be compared with a degree of confid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B587-66CE-4E1D-8DA9-C54BC3AD44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RISK MANAGEMENT COMPONENT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efresh your memories, the various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d ALARP evalua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645B-C5C4-4113-B38B-4D4047C666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D9E1E-833B-463C-ADF8-FC1ACD240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AC43-4EE1-47C3-A9A0-1B7200E99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05B84-C677-43D9-AB22-2DE517E01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67D9D-AA1B-4C7D-BD51-E42DD98E3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4CAAD-8ADF-4DE4-9E02-3644215A6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DC051-8030-423D-AE8E-079B7B96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51F4-DF8E-431A-9BF9-4743B7AE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DE06-85B2-4110-9426-32208CF1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06C1-A27A-493C-A944-7D232DBD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B194-A9BD-41D3-A834-75E5ABB38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D6EE-0225-4450-BA73-695B4B57B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2119-1BC6-486A-8153-EDCD50283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CF31-2D43-4694-91B2-FB575FB7D8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Risk Management</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0257481-6790-402C-8297-867B86CDC9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8"/>
          <p:cNvSpPr/>
          <p:nvPr/>
        </p:nvSpPr>
        <p:spPr>
          <a:xfrm>
            <a:off x="76320" y="457200"/>
            <a:ext cx="8839080" cy="5486400"/>
          </a:xfrm>
          <a:prstGeom prst="rect">
            <a:avLst/>
          </a:prstGeom>
          <a:solidFill>
            <a:srgbClr val="f52b2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ounded Rectangle 11"/>
          <p:cNvSpPr/>
          <p:nvPr/>
        </p:nvSpPr>
        <p:spPr>
          <a:xfrm>
            <a:off x="152280" y="2209680"/>
            <a:ext cx="5410440" cy="365760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7"/>
          <p:cNvSpPr/>
          <p:nvPr/>
        </p:nvSpPr>
        <p:spPr>
          <a:xfrm>
            <a:off x="243000" y="3581280"/>
            <a:ext cx="3809880" cy="2229120"/>
          </a:xfrm>
          <a:prstGeom prst="ellipse">
            <a:avLst/>
          </a:prstGeom>
          <a:solidFill>
            <a:srgbClr val="fe500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txBox="1"/>
          <p:nvPr/>
        </p:nvSpPr>
        <p:spPr>
          <a:xfrm>
            <a:off x="38088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Oval 3"/>
          <p:cNvSpPr/>
          <p:nvPr/>
        </p:nvSpPr>
        <p:spPr>
          <a:xfrm>
            <a:off x="577800" y="3922560"/>
            <a:ext cx="1905120" cy="83844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zard Identification</a:t>
            </a:r>
            <a:endParaRPr b="0" lang="en-US" sz="1600" spc="-1" strike="noStrike">
              <a:solidFill>
                <a:srgbClr val="000000"/>
              </a:solidFill>
              <a:latin typeface="Arial"/>
            </a:endParaRPr>
          </a:p>
        </p:txBody>
      </p:sp>
      <p:sp>
        <p:nvSpPr>
          <p:cNvPr id="88" name="Oval 5"/>
          <p:cNvSpPr/>
          <p:nvPr/>
        </p:nvSpPr>
        <p:spPr>
          <a:xfrm>
            <a:off x="533520" y="4648320"/>
            <a:ext cx="1904760" cy="8380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Estimation</a:t>
            </a:r>
            <a:endParaRPr b="0" lang="en-US" sz="1600" spc="-1" strike="noStrike">
              <a:solidFill>
                <a:srgbClr val="000000"/>
              </a:solidFill>
              <a:latin typeface="Arial"/>
            </a:endParaRPr>
          </a:p>
        </p:txBody>
      </p:sp>
      <p:sp>
        <p:nvSpPr>
          <p:cNvPr id="89" name="TextBox 8"/>
          <p:cNvSpPr/>
          <p:nvPr/>
        </p:nvSpPr>
        <p:spPr>
          <a:xfrm>
            <a:off x="2695680" y="43243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Analysis</a:t>
            </a:r>
            <a:endParaRPr b="0" lang="en-US" sz="1800" spc="-1" strike="noStrike">
              <a:solidFill>
                <a:srgbClr val="000000"/>
              </a:solidFill>
              <a:latin typeface="Arial"/>
            </a:endParaRPr>
          </a:p>
        </p:txBody>
      </p:sp>
      <p:sp>
        <p:nvSpPr>
          <p:cNvPr id="90" name="Right Brace 9"/>
          <p:cNvSpPr/>
          <p:nvPr/>
        </p:nvSpPr>
        <p:spPr>
          <a:xfrm>
            <a:off x="2438280" y="3922560"/>
            <a:ext cx="381240" cy="1487520"/>
          </a:xfrm>
          <a:custGeom>
            <a:avLst/>
            <a:gdLst>
              <a:gd name="textAreaLeft" fmla="*/ 0 w 381240"/>
              <a:gd name="textAreaRight" fmla="*/ 137520 w 381240"/>
              <a:gd name="textAreaTop" fmla="*/ 9720 h 1487520"/>
              <a:gd name="textAreaBottom" fmla="*/ 1477800 h 1487520"/>
            </a:gdLst>
            <a:ahLst/>
            <a:rect l="textAreaLeft" t="textAreaTop" r="textAreaRight" b="textAreaBottom"/>
            <a:pathLst>
              <a:path w="21600" h="21600">
                <a:moveTo>
                  <a:pt x="0" y="0"/>
                </a:moveTo>
                <a:cubicBezTo>
                  <a:pt x="5400" y="0"/>
                  <a:pt x="10800" y="231"/>
                  <a:pt x="10800" y="461"/>
                </a:cubicBezTo>
                <a:lnTo>
                  <a:pt x="10800" y="10339"/>
                </a:lnTo>
                <a:cubicBezTo>
                  <a:pt x="10800" y="10570"/>
                  <a:pt x="16200" y="10800"/>
                  <a:pt x="21600" y="10800"/>
                </a:cubicBezTo>
                <a:cubicBezTo>
                  <a:pt x="16200" y="10800"/>
                  <a:pt x="10800" y="11031"/>
                  <a:pt x="10800" y="11261"/>
                </a:cubicBezTo>
                <a:lnTo>
                  <a:pt x="10800" y="21139"/>
                </a:lnTo>
                <a:cubicBezTo>
                  <a:pt x="10800" y="21370"/>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0"/>
          <p:cNvSpPr/>
          <p:nvPr/>
        </p:nvSpPr>
        <p:spPr>
          <a:xfrm>
            <a:off x="428760" y="2306520"/>
            <a:ext cx="3838320" cy="1173240"/>
          </a:xfrm>
          <a:prstGeom prst="ellipse">
            <a:avLst/>
          </a:prstGeom>
          <a:solidFill>
            <a:srgbClr val="c898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d ALARP evaluation</a:t>
            </a:r>
            <a:endParaRPr b="0" lang="en-US" sz="1800" spc="-1" strike="noStrike">
              <a:solidFill>
                <a:srgbClr val="000000"/>
              </a:solidFill>
              <a:latin typeface="Arial"/>
            </a:endParaRPr>
          </a:p>
        </p:txBody>
      </p:sp>
      <p:sp>
        <p:nvSpPr>
          <p:cNvPr id="92" name="TextBox 12"/>
          <p:cNvSpPr/>
          <p:nvPr/>
        </p:nvSpPr>
        <p:spPr>
          <a:xfrm>
            <a:off x="3914640" y="33847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GB" sz="1800" spc="-1" strike="noStrike">
                <a:solidFill>
                  <a:srgbClr val="000000"/>
                </a:solidFill>
                <a:latin typeface="Arial"/>
              </a:rPr>
              <a:t>Risk Assessmen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93" name="Rounded Rectangle 13"/>
          <p:cNvSpPr/>
          <p:nvPr/>
        </p:nvSpPr>
        <p:spPr>
          <a:xfrm>
            <a:off x="304920" y="1693800"/>
            <a:ext cx="5410080" cy="40968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a:t>
            </a:r>
            <a:endParaRPr b="0" lang="en-US" sz="1800" spc="-1" strike="noStrike">
              <a:solidFill>
                <a:srgbClr val="000000"/>
              </a:solidFill>
              <a:latin typeface="Arial"/>
            </a:endParaRPr>
          </a:p>
        </p:txBody>
      </p:sp>
      <p:sp>
        <p:nvSpPr>
          <p:cNvPr id="94" name="Rounded Rectangle 14"/>
          <p:cNvSpPr/>
          <p:nvPr/>
        </p:nvSpPr>
        <p:spPr>
          <a:xfrm>
            <a:off x="304920" y="1168560"/>
            <a:ext cx="5410080" cy="409320"/>
          </a:xfrm>
          <a:prstGeom prst="roundRect">
            <a:avLst>
              <a:gd name="adj" fmla="val 16667"/>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cceptance</a:t>
            </a:r>
            <a:endParaRPr b="0" lang="en-US" sz="1800" spc="-1" strike="noStrike">
              <a:solidFill>
                <a:srgbClr val="000000"/>
              </a:solidFill>
              <a:latin typeface="Arial"/>
            </a:endParaRPr>
          </a:p>
        </p:txBody>
      </p:sp>
      <p:sp>
        <p:nvSpPr>
          <p:cNvPr id="95" name="Rounded Rectangle 15"/>
          <p:cNvSpPr/>
          <p:nvPr/>
        </p:nvSpPr>
        <p:spPr>
          <a:xfrm>
            <a:off x="304920" y="627120"/>
            <a:ext cx="5410080" cy="409680"/>
          </a:xfrm>
          <a:prstGeom prst="roundRect">
            <a:avLst>
              <a:gd name="adj" fmla="val 16667"/>
            </a:avLst>
          </a:prstGeom>
          <a:solidFill>
            <a:srgbClr val="8f8997"/>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ommunication</a:t>
            </a:r>
            <a:endParaRPr b="0" lang="en-US" sz="1800" spc="-1" strike="noStrike">
              <a:solidFill>
                <a:srgbClr val="000000"/>
              </a:solidFill>
              <a:latin typeface="Arial"/>
            </a:endParaRPr>
          </a:p>
        </p:txBody>
      </p:sp>
      <p:sp>
        <p:nvSpPr>
          <p:cNvPr id="96" name="TextBox 19"/>
          <p:cNvSpPr/>
          <p:nvPr/>
        </p:nvSpPr>
        <p:spPr>
          <a:xfrm>
            <a:off x="6629400" y="284652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sk Management</a:t>
            </a:r>
            <a:endParaRPr b="0" lang="en-US" sz="2000" spc="-1" strike="noStrike">
              <a:solidFill>
                <a:srgbClr val="000000"/>
              </a:solidFill>
              <a:latin typeface="Arial"/>
            </a:endParaRPr>
          </a:p>
        </p:txBody>
      </p:sp>
      <p:sp>
        <p:nvSpPr>
          <p:cNvPr id="97" name="Right Brace 20"/>
          <p:cNvSpPr/>
          <p:nvPr/>
        </p:nvSpPr>
        <p:spPr>
          <a:xfrm>
            <a:off x="5791320" y="627120"/>
            <a:ext cx="838080" cy="5183280"/>
          </a:xfrm>
          <a:custGeom>
            <a:avLst/>
            <a:gdLst>
              <a:gd name="textAreaLeft" fmla="*/ 0 w 838080"/>
              <a:gd name="textAreaRight" fmla="*/ 302760 w 838080"/>
              <a:gd name="textAreaTop" fmla="*/ 21600 h 5183280"/>
              <a:gd name="textAreaBottom" fmla="*/ 5161680 h 518328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414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0F11C11-601C-4E6D-9F95-953C9B0F54B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Techniques</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7DAA1F2-60BB-44C1-A1B9-9E7BAE2A423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zard Identification and Analysis</a:t>
            </a:r>
            <a:endParaRPr b="1" lang="en-US" sz="3600" spc="-1" strike="noStrike">
              <a:solidFill>
                <a:srgbClr val="000000"/>
              </a:solidFill>
              <a:latin typeface="Arial"/>
            </a:endParaRPr>
          </a:p>
        </p:txBody>
      </p:sp>
      <p:sp>
        <p:nvSpPr>
          <p:cNvPr id="103"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xplosive Storehouses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tential Explosion Sites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ESH 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close ES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o be stored in each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ucture types and distances</a:t>
            </a:r>
            <a:endParaRPr b="0" lang="en-US" sz="2800" spc="-1" strike="noStrike">
              <a:solidFill>
                <a:srgbClr val="000000"/>
              </a:solidFill>
              <a:latin typeface="Arial"/>
            </a:endParaRPr>
          </a:p>
        </p:txBody>
      </p:sp>
      <p:sp>
        <p:nvSpPr>
          <p:cNvPr id="10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2B70E05-CB52-414E-A64D-EDFC3FA574E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Estimation</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x Consequ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analysi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hysical effects of such an explo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umber of casualties to be expect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400" spc="-1" strike="noStrike">
                <a:solidFill>
                  <a:srgbClr val="000000"/>
                </a:solidFill>
                <a:latin typeface="Arial"/>
              </a:rPr>
              <a:t>levels of damage to be expected</a:t>
            </a:r>
            <a:endParaRPr b="0" lang="en-US" sz="2400" spc="-1" strike="noStrike">
              <a:solidFill>
                <a:srgbClr val="000000"/>
              </a:solidFill>
              <a:latin typeface="Arial"/>
            </a:endParaRPr>
          </a:p>
        </p:txBody>
      </p:sp>
      <p:sp>
        <p:nvSpPr>
          <p:cNvPr id="1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C43A9BB-6143-47DE-BCE3-4AF38B2A610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nd ALARP Evaluation</a:t>
            </a:r>
            <a:endParaRPr b="1" lang="en-US" sz="36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fat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inju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what is tolerable in society</a:t>
            </a:r>
            <a:endParaRPr b="0" lang="en-US" sz="2800" spc="-1" strike="noStrike">
              <a:solidFill>
                <a:srgbClr val="000000"/>
              </a:solidFill>
              <a:latin typeface="Arial"/>
            </a:endParaRPr>
          </a:p>
        </p:txBody>
      </p:sp>
      <p:sp>
        <p:nvSpPr>
          <p:cNvPr id="110" name="TextBox 5"/>
          <p:cNvSpPr/>
          <p:nvPr/>
        </p:nvSpPr>
        <p:spPr>
          <a:xfrm>
            <a:off x="380880" y="4826160"/>
            <a:ext cx="8305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f tolerable and ALARP, further action may not be necessary</a:t>
            </a:r>
            <a:endParaRPr b="0" lang="en-US" sz="2200" spc="-1" strike="noStrike">
              <a:solidFill>
                <a:srgbClr val="000000"/>
              </a:solidFill>
              <a:latin typeface="Arial"/>
            </a:endParaRPr>
          </a:p>
        </p:txBody>
      </p:sp>
      <p:sp>
        <p:nvSpPr>
          <p:cNvPr id="11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2F87FF7-F2C6-47C7-95AE-73C2CBC84E9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Reduction</a:t>
            </a:r>
            <a:endParaRPr b="1" lang="en-US" sz="3600" spc="-1" strike="noStrike">
              <a:solidFill>
                <a:srgbClr val="000000"/>
              </a:solidFill>
              <a:latin typeface="Arial"/>
            </a:endParaRPr>
          </a:p>
        </p:txBody>
      </p:sp>
      <p:sp>
        <p:nvSpPr>
          <p:cNvPr id="113" name=""/>
          <p:cNvSpPr txBox="1"/>
          <p:nvPr/>
        </p:nvSpPr>
        <p:spPr>
          <a:xfrm>
            <a:off x="380520" y="1600200"/>
            <a:ext cx="853452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stock levels in the area/buildin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paration distan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hysical infra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proof program for ammun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depot and transfer stocks to anothe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accept the risk to the local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739E0ED-00A1-44FB-94BC-882EBF5AAE7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Communication</a:t>
            </a:r>
            <a:endParaRPr b="1"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Ukraine Depot 5"/>
          <p:cNvPicPr/>
          <p:nvPr/>
        </p:nvPicPr>
        <p:blipFill>
          <a:blip r:embed="rId1"/>
          <a:stretch/>
        </p:blipFill>
        <p:spPr>
          <a:xfrm>
            <a:off x="4038480" y="2819520"/>
            <a:ext cx="4273560" cy="2906640"/>
          </a:xfrm>
          <a:prstGeom prst="rect">
            <a:avLst/>
          </a:prstGeom>
          <a:ln w="25560">
            <a:solidFill>
              <a:srgbClr val="ffffff"/>
            </a:solidFill>
            <a:miter/>
          </a:ln>
        </p:spPr>
      </p:pic>
      <p:pic>
        <p:nvPicPr>
          <p:cNvPr id="118" name="Picture 4" descr="Ukraine Depot 1"/>
          <p:cNvPicPr/>
          <p:nvPr/>
        </p:nvPicPr>
        <p:blipFill>
          <a:blip r:embed="rId2"/>
          <a:stretch/>
        </p:blipFill>
        <p:spPr>
          <a:xfrm>
            <a:off x="838080" y="1461960"/>
            <a:ext cx="3800520" cy="2843280"/>
          </a:xfrm>
          <a:prstGeom prst="rect">
            <a:avLst/>
          </a:prstGeom>
          <a:ln w="25560">
            <a:solidFill>
              <a:srgbClr val="ffffff"/>
            </a:solidFill>
            <a:miter/>
          </a:ln>
        </p:spPr>
      </p:pic>
      <p:sp>
        <p:nvSpPr>
          <p:cNvPr id="11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35381CE-2A08-4ACD-A46C-84997A7D55E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cceptance</a:t>
            </a:r>
            <a:endParaRPr b="1" lang="en-US" sz="3600" spc="-1" strike="noStrike">
              <a:solidFill>
                <a:srgbClr val="000000"/>
              </a:solidFill>
              <a:latin typeface="Arial"/>
            </a:endParaRPr>
          </a:p>
        </p:txBody>
      </p:sp>
      <p:sp>
        <p:nvSpPr>
          <p:cNvPr id="12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 of societ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risk form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an appropriate explosive lic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isk is intolerable, formally accept the residu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escalate the matter up government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66A6F876-8D37-49B8-873A-A8F00D618C0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76371D45-13B5-458B-9711-4CA080DADA2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cept of Safety</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Safety</a:t>
            </a:r>
            <a:r>
              <a:rPr b="0" lang="ja-JP" sz="2800" spc="-1" strike="noStrike">
                <a:solidFill>
                  <a:srgbClr val="000000"/>
                </a:solidFill>
                <a:latin typeface="Arial"/>
              </a:rPr>
              <a:t>’</a:t>
            </a:r>
            <a:r>
              <a:rPr b="0" lang="en-GB" sz="2800" spc="-1" strike="noStrike">
                <a:solidFill>
                  <a:srgbClr val="000000"/>
                </a:solidFill>
                <a:latin typeface="Arial"/>
              </a:rPr>
              <a:t> refers to the reduction of risk to a tolerable lev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 Likelihood x Consequ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Tolerable risk</a:t>
            </a:r>
            <a:r>
              <a:rPr b="0" lang="ja-JP" sz="2800" spc="-1" strike="noStrike">
                <a:solidFill>
                  <a:srgbClr val="000000"/>
                </a:solidFill>
                <a:latin typeface="Arial"/>
              </a:rPr>
              <a:t>’</a:t>
            </a:r>
            <a:r>
              <a:rPr b="0" lang="en-GB" sz="2800" spc="-1" strike="noStrike">
                <a:solidFill>
                  <a:srgbClr val="000000"/>
                </a:solidFill>
                <a:latin typeface="Arial"/>
              </a:rPr>
              <a:t> refers to the risk that is accepted in a given context based on the current values of society</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879D2D7-A51A-467B-94FF-CE64148C38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Risk Management Proces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a huge, wide ranging top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provides more detai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processes, look to create a safety culture as well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Box 3"/>
          <p:cNvSpPr/>
          <p:nvPr/>
        </p:nvSpPr>
        <p:spPr>
          <a:xfrm>
            <a:off x="3124080" y="3581280"/>
            <a:ext cx="4038840" cy="2288520"/>
          </a:xfrm>
          <a:prstGeom prst="rect">
            <a:avLst/>
          </a:prstGeom>
          <a:noFill/>
          <a:ln w="0">
            <a:noFill/>
          </a:ln>
        </p:spPr>
        <p:style>
          <a:lnRef idx="0"/>
          <a:fillRef idx="0"/>
          <a:effectRef idx="0"/>
          <a:fontRef idx="minor"/>
        </p:style>
        <p:txBody>
          <a:bodyPr lIns="90000" rIns="90000" tIns="46800" bIns="46800" anchor="t">
            <a:spAutoFit/>
          </a:bodyPr>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Reporting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Just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Flexible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Learning Culture </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Questioning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46A305DF-D732-4814-A189-4DDB2F03DD6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Risk management</a:t>
            </a:r>
            <a:r>
              <a:rPr b="0" lang="ja-JP" sz="2800" spc="-1" strike="noStrike">
                <a:solidFill>
                  <a:srgbClr val="000000"/>
                </a:solidFill>
                <a:latin typeface="Arial"/>
              </a:rPr>
              <a:t>’</a:t>
            </a:r>
            <a:r>
              <a:rPr b="0" lang="en-GB" sz="2800" spc="-1" strike="noStrike">
                <a:solidFill>
                  <a:srgbClr val="000000"/>
                </a:solidFill>
                <a:latin typeface="Arial"/>
              </a:rPr>
              <a:t> refers to the complete risk-based decision-making process and com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d ALARP eval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5029200" y="3962520"/>
            <a:ext cx="396252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ACA186A-E4BE-4AE9-AD32-4B535049530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D63D70AA-8754-4C24-A4D9-650C6921A4A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pt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6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3BAB460-339E-4EC2-9A90-D5DCC8AD7C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ler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72" name="Freeform 4"/>
          <p:cNvSpPr/>
          <p:nvPr/>
        </p:nvSpPr>
        <p:spPr>
          <a:xfrm>
            <a:off x="5891040" y="2584440"/>
            <a:ext cx="833760" cy="2295360"/>
          </a:xfrm>
          <a:custGeom>
            <a:avLst/>
            <a:gdLst/>
            <a:ahLst/>
            <a:rect l="l" t="t" r="r" b="b"/>
            <a:pathLst>
              <a:path w="833511" h="2296632">
                <a:moveTo>
                  <a:pt x="0" y="0"/>
                </a:moveTo>
                <a:cubicBezTo>
                  <a:pt x="171893" y="108098"/>
                  <a:pt x="343787" y="216196"/>
                  <a:pt x="467833" y="361507"/>
                </a:cubicBezTo>
                <a:cubicBezTo>
                  <a:pt x="591880" y="506819"/>
                  <a:pt x="684028" y="691116"/>
                  <a:pt x="744279" y="871869"/>
                </a:cubicBezTo>
                <a:cubicBezTo>
                  <a:pt x="804530" y="1052622"/>
                  <a:pt x="818707" y="1256414"/>
                  <a:pt x="829340" y="1446028"/>
                </a:cubicBezTo>
                <a:cubicBezTo>
                  <a:pt x="839973" y="1635642"/>
                  <a:pt x="829340" y="1867786"/>
                  <a:pt x="808075" y="2009553"/>
                </a:cubicBezTo>
                <a:cubicBezTo>
                  <a:pt x="786810" y="2151320"/>
                  <a:pt x="744279" y="2223976"/>
                  <a:pt x="701749" y="2296632"/>
                </a:cubicBezTo>
              </a:path>
            </a:pathLst>
          </a:custGeom>
          <a:noFill/>
          <a:ln w="44280">
            <a:solidFill>
              <a:srgbClr val="c00000"/>
            </a:solidFill>
            <a:round/>
            <a:headEnd len="med" type="triangle" w="me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TextBox 5"/>
          <p:cNvSpPr/>
          <p:nvPr/>
        </p:nvSpPr>
        <p:spPr>
          <a:xfrm>
            <a:off x="2286000" y="3316320"/>
            <a:ext cx="424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ets the tolerability requirement</a:t>
            </a: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A6826F5-C1D9-480D-B356-46DDC62FAF2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0">
                                  <p:stCondLst>
                                    <p:cond delay="0"/>
                                  </p:stCondLst>
                                  <p:childTnLst>
                                    <p:animEffect filter="fade" transition="out">
                                      <p:cBhvr additive="repl">
                                        <p:cTn id="24" dur="500"/>
                                        <p:tgtEl>
                                          <p:spTgt spid="71">
                                            <p:txEl>
                                              <p:pRg st="4" end="4"/>
                                            </p:txEl>
                                          </p:spTgt>
                                        </p:tgtEl>
                                      </p:cBhvr>
                                    </p:animEffect>
                                    <p:set>
                                      <p:cBhvr>
                                        <p:cTn id="25" dur="1" fill="hold">
                                          <p:stCondLst>
                                            <p:cond delay="499"/>
                                          </p:stCondLst>
                                        </p:cTn>
                                        <p:tgtEl>
                                          <p:spTgt spid="71">
                                            <p:txEl>
                                              <p:pRg st="4" end="4"/>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71">
                                            <p:txEl>
                                              <p:pRg st="6" end="6"/>
                                            </p:txEl>
                                          </p:spTgt>
                                        </p:tgtEl>
                                      </p:cBhvr>
                                    </p:animEffect>
                                    <p:set>
                                      <p:cBhvr>
                                        <p:cTn id="28" dur="1" fill="hold">
                                          <p:stCondLst>
                                            <p:cond delay="499"/>
                                          </p:stCondLst>
                                        </p:cTn>
                                        <p:tgtEl>
                                          <p:spTgt spid="71">
                                            <p:txEl>
                                              <p:pRg st="6" end="6"/>
                                            </p:txEl>
                                          </p:spTgt>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ative v Quantitative Risk Assessments</a:t>
            </a:r>
            <a:endParaRPr b="1" lang="en-US" sz="3600" spc="-1" strike="noStrike">
              <a:solidFill>
                <a:srgbClr val="000000"/>
              </a:solidFill>
              <a:latin typeface="Arial"/>
            </a:endParaRPr>
          </a:p>
        </p:txBody>
      </p:sp>
      <p:sp>
        <p:nvSpPr>
          <p:cNvPr id="76" name=""/>
          <p:cNvSpPr txBox="1"/>
          <p:nvPr/>
        </p:nvSpPr>
        <p:spPr>
          <a:xfrm>
            <a:off x="761760" y="1600200"/>
            <a:ext cx="37335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ble</a:t>
            </a:r>
            <a:endParaRPr b="0" lang="en-US" sz="2800" spc="-1" strike="noStrike">
              <a:solidFill>
                <a:srgbClr val="000000"/>
              </a:solidFill>
              <a:latin typeface="Arial"/>
            </a:endParaRPr>
          </a:p>
        </p:txBody>
      </p:sp>
      <p:sp>
        <p:nvSpPr>
          <p:cNvPr id="7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8810B5C-B23D-4AC3-B568-3B8CC69B502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Components</a:t>
            </a:r>
            <a:endParaRPr b="1" lang="en-US" sz="3600" spc="-1" strike="noStrike">
              <a:solidFill>
                <a:srgbClr val="000000"/>
              </a:solidFill>
              <a:latin typeface="Arial"/>
            </a:endParaRPr>
          </a:p>
        </p:txBody>
      </p:sp>
      <p:sp>
        <p:nvSpPr>
          <p:cNvPr id="80" name=""/>
          <p:cNvSpPr txBox="1"/>
          <p:nvPr/>
        </p:nvSpPr>
        <p:spPr>
          <a:xfrm>
            <a:off x="304560" y="1600200"/>
            <a:ext cx="419076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d ALARP evaluatio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7"/>
          <p:cNvSpPr/>
          <p:nvPr/>
        </p:nvSpPr>
        <p:spPr>
          <a:xfrm>
            <a:off x="4191120" y="3733920"/>
            <a:ext cx="396216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8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D75B64E-25AF-40DB-8E7E-71A08D64ED9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5-22T16:26:38Z</dcterms:modified>
  <cp:revision>79</cp:revision>
  <dc:subject/>
  <dc:title>Slide 1</dc:title>
</cp:coreProperties>
</file>