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MS P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MS P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B19C2D-044C-4027-B195-63906C35C3D4}" type="slidenum">
              <a:rPr b="0" lang="en-US" sz="1200" spc="-1" strike="noStrike">
                <a:solidFill>
                  <a:srgbClr val="000000"/>
                </a:solidFill>
                <a:latin typeface="Calibri"/>
                <a:ea typeface="MS P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UCTION:  (1 slides, 1 minut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BACKGROUND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eporting and investigation of conventional ammunition accidents is a key component in the safety management of conventional ammunition stockpiles during storage, handling and u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ccidents or incidents involving conventional ammunition are a regular occurrence, even in the best-trained military and security forces, even though most of them are preventab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eporting and investigating accidents will establish lessons for others to learn and ultimately contribute to improved safety for all.</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DEC5A0-E378-4243-ABBE-F6110CAE535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VESTIGATION AUTHORITY REQUIREMENTS:  (4 slides, 15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4 of 6: </a:t>
            </a:r>
            <a:r>
              <a:rPr b="1" lang="en-GB" sz="1200" spc="-1" strike="noStrike" u="sng">
                <a:solidFill>
                  <a:srgbClr val="000000"/>
                </a:solidFill>
                <a:uFillTx/>
                <a:latin typeface="Calibri"/>
              </a:rPr>
              <a:t>THE INVESTIGATION AUTHORITY ACTION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he Investigation authority, upon receiving the technical investigator’s report, will conduct the following activities</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amine the reports submitted by technical investigators on ammunition accident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lassify the accident  (which we will look at next)</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sult with other appropriate organisations (manufacturers, designers, procurement agencies etc) to obtain further information as necessar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ke a technical judgement as to the cause of the ammunition accident, although this may take place under the auspices of a national legal framework (i.e. a Board of Inquiry) depending on the extant national legal requirements (possibly using the suggested ‘closure codes’ provided in IATG 11:10)</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itiate remedial action to prevent a reoccurrenc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form the user unit of the results of the investigation</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intain records of all ammunition accident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ovide technical advice to the conventional ammunition stockpile management organisation as appropriate</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B58A2C-5067-4F82-8133-21976FDCE34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VESTIGATION AUTHORITY REQUIREMENTS:  (4 slides, 15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5 of 6: </a:t>
            </a:r>
            <a:r>
              <a:rPr b="1" lang="en-GB" sz="1200" spc="-1" strike="noStrike" u="sng">
                <a:solidFill>
                  <a:srgbClr val="000000"/>
                </a:solidFill>
                <a:uFillTx/>
                <a:latin typeface="Calibri"/>
              </a:rPr>
              <a:t>THE INVESTIGATION AUTHORITY ACTION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he Investigation authority, upon receiving the technical investigator’s report, will conduct the following activities</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amine the reports submitted by technical investigators on ammunition accident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lassify the accident  (which we will look at next)</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sult with other appropriate organisations (manufacturers, designers, procurement agencies etc) to obtain further information as necessar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ke a technical judgement as to the cause of the ammunition accident, although this may take place under the auspices of a national legal framework (i.e. a Board of Inquiry) depending on the extant national legal requirements (possibly using the suggested ‘closure codes’ provided in IATG 11:10)</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itiate remedial action to prevent a reoccurrenc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form the user unit of the results of the investigation</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intain records of all ammunition accident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ovide technical advice to the conventional ammunition stockpile management organisation as appropriate</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518CB5-A760-460D-B6CF-6C14459BAAA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VESTIGATION AUTHORITY REQUIREMENTS:  (4 slides, 15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6 of 6: </a:t>
            </a:r>
            <a:r>
              <a:rPr b="1" lang="en-GB" sz="1200" spc="-1" strike="noStrike" u="sng">
                <a:solidFill>
                  <a:srgbClr val="000000"/>
                </a:solidFill>
                <a:uFillTx/>
                <a:latin typeface="Calibri"/>
              </a:rPr>
              <a:t>CLASSIFICATION OF ACCIDENTS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following classification system is provided in IATG 11:10:</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Fatal (personnel)/Critical (equipment): </a:t>
            </a:r>
            <a:r>
              <a:rPr b="0" lang="en-GB" sz="1200" spc="-1" strike="noStrike">
                <a:solidFill>
                  <a:srgbClr val="000000"/>
                </a:solidFill>
                <a:latin typeface="Calibri"/>
              </a:rPr>
              <a:t>An occurrence involving ammunition which causes one or more of the follow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fatality or severe injuries resulting in long term illness or disability to military personnel or members of the public.</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tensive loss, damage to, or contamination of military or civilian equipment or property at multiple facilities, or to the environm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Major: </a:t>
            </a:r>
            <a:r>
              <a:rPr b="0" lang="en-GB" sz="1200" spc="-1" strike="noStrike">
                <a:solidFill>
                  <a:srgbClr val="000000"/>
                </a:solidFill>
                <a:latin typeface="Calibri"/>
              </a:rPr>
              <a:t>An occurrence involving an ammunition which causes one or more of the follow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evere injuries resulting in hospital treatment to military personnel or members of the public.</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ss, damage to, or contamination of the munition or explosive, or to military or civilian equipment or property at a single facili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erious:  </a:t>
            </a:r>
            <a:r>
              <a:rPr b="0" lang="en-GB" sz="1200" spc="-1" strike="noStrike">
                <a:solidFill>
                  <a:srgbClr val="000000"/>
                </a:solidFill>
                <a:latin typeface="Calibri"/>
              </a:rPr>
              <a:t>An occurrence involving ammunition which causes one or more of the follow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jury requiring medical treatment and time off work but which does not require hospital treatment.</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inor loss, damage to the munition or explosive or minor contamination of, military or civilian equipment, property, or the environm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Minor:  </a:t>
            </a:r>
            <a:r>
              <a:rPr b="0" lang="en-GB" sz="1200" spc="-1" strike="noStrike">
                <a:solidFill>
                  <a:srgbClr val="000000"/>
                </a:solidFill>
                <a:latin typeface="Calibri"/>
              </a:rPr>
              <a:t>An occurrence involving ammunition which causes one or more of the follow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 injury or illness to military personnel or members of the public.</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smetic damage to ammunition not affecting performance or safe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Near Miss:  </a:t>
            </a:r>
            <a:r>
              <a:rPr b="0" lang="en-GB" sz="1200" spc="-1" strike="noStrike">
                <a:solidFill>
                  <a:srgbClr val="000000"/>
                </a:solidFill>
                <a:latin typeface="Calibri"/>
              </a:rPr>
              <a:t>An occurrence, or potential occurrence, involving ammunition, or an occurrence potentially involving ammunition, which could have caus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amage to the ammunition.</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amage to, or contamination of, military or civilian equipment, property or the environment.</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jury to, or illness of, military personnel or members of the public.</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reat to the structural integrity of, or to cause damage to, military or civilian equipment, property or the environment.</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ree From Explosives (FFE) Viol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Negligent Discharge:  </a:t>
            </a:r>
            <a:r>
              <a:rPr b="0" lang="en-GB" sz="1200" spc="-1" strike="noStrike">
                <a:solidFill>
                  <a:srgbClr val="000000"/>
                </a:solidFill>
                <a:latin typeface="Calibri"/>
              </a:rPr>
              <a:t>A discharge of small arms ammunition (SAA) up to and including 14.5mm calibre from a weapon as a result of preventable human failing, where no injury or damage has occurred and the weapon and munition performed to the designed specific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Free From Explosive (FFE) Violation: </a:t>
            </a:r>
            <a:r>
              <a:rPr b="0" lang="en-GB" sz="1200" spc="-1" strike="noStrike">
                <a:solidFill>
                  <a:srgbClr val="000000"/>
                </a:solidFill>
                <a:latin typeface="Calibri"/>
              </a:rPr>
              <a:t>The discovery of ammunition item(s) within containers that have been certified FF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62C803-6D6D-4882-8FE8-E11475DC617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e there any questions? (allow 5 minutes for ques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there are no questions, test their understanding about the need for reporting and how it relates to safety management, what the unit might be expected to do as the immediate response to an incident, and suggest what might be expected of the technical investigator.</a:t>
            </a: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13AEF3-3A99-4CB7-9BA5-FE2986B8D89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YPES OF ACCIDENT:  (1 slide, 3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TYPES OF ACCIDENT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y way of explan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 ammunition accident, irrespective of cause or however minor, is any incident involving ammunition and explosives that results in death or injury to a person(s) and/or damage to equipment and/or property, military or civilia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3 illustrative examples of accidents a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breech explosion occurs in a weapon, injures the firer and causes damage to the working par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battle simulation charge explodes in close proximity to a soldier causing flash burns and temporary deafnes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ricochet of a small arms bullet hits and damages a vehicle parked on the ran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49A462-A172-4C87-B069-D8681BF4E63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ATIONALE FOR REPORTING:  (2 slides, 10 minut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2: </a:t>
            </a:r>
            <a:r>
              <a:rPr b="1" lang="en-GB" sz="1200" spc="-1" strike="noStrike" u="sng">
                <a:solidFill>
                  <a:srgbClr val="000000"/>
                </a:solidFill>
                <a:uFillTx/>
                <a:latin typeface="Calibri"/>
              </a:rPr>
              <a:t>THE REASON FOR REPORTING (7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y is a ‘reporting and investigation’ approach so important?  An unplanned event may occur because there is some shortfall in any number of factors that come together to make the equipment reliable and safe.  This shortfall may not have been identified my the manager of the system.  If the problem has happened once, it may happen again.  By reporting the problem, and then conducting an investigation into the cause of the problem, the manager of that system might identify a potential problem that could keep happening.  This repeating, or systematic fault, might be undesirable, especially if it would render a number of operationally important systems as unserviceable, or if there was a safety concern like an operator was killed every time the event occurs.  By identifying the problem, and its likely consequences, the manager will be able to consider suitable mitigation measur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 the investigation process is primarily to find and solve safety problems and reliability problems.  This is in everyone’s interes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t problems can only be identified and looked into if the manager knows there is a problem in the first place.  So it is imperative that the user units report all problems.  And they must report them immediately, to allow timely consideration by the system manag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urthermore, it is necessary to report all proble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is not the users’ prerogative to decide whether something is ‘too small to be worth bothering with’.  This is because there may be thousands of these ‘small problems’ – which cumulatively pose a risk is unacceptable because it happens so ofte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ternatively, a ‘small’ event may be a ‘near miss’ – the operator may have been lucky that nothing worse occurred.  However the same fault, if it occurs again, might produce far wore results and injure the operator, degrade an operational capability, and so 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s a worked exampl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rifleman is training on military range.  He is using a practice hand grenade.  He posts the grenade into a shallow ditch, in accordance with drills.  He is supervised by a qualified and experienced training officer.  The training grenade produces a much louder noises than expected, and is projected straight back at the rifleman.  It strikes the safety officer in the face, blinding him.  The safety officer is unable to continue serving and is discharged on medical grounds.  The training officer was the only expert in the force on a newly procured guided weapon system.  The medical discharge costs the government in cost of medical treatment, casualty evacuation by helicopter, pension costs.  The expertise on the new weapon system is also lost.  It becomes apparent that this same type of event has happened at least 10 times in the previous 6 months, but it wasn’t reported as no one was hurt but the training units couldn’t be bothered to report the incidents.  The investigation identifies that the practice grenade may responds in this way if dropped base first into soft, waterlogged mud.  Had the system manager known, he could have taken temporary measures to restrict use of the training grenade while he investigated the cause.  The cause would have been identified, potentially with relative ease, and advice offered to units to the effect that they should check where a training grenade is to be posted beforehand, specially if the ground is soft and wet.  In this case, the rifleman wouldn’t have dropped the grenade in that type of land, and so the event would not have occurred.  The force would have avoided the medical and related costs and effort, and retained expertise in the new missile system.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9CEC78-7572-4DE8-86DC-6BAF5E1E0D0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ATIONALE FOR REPORTING:  (2 slides, 10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2: </a:t>
            </a:r>
            <a:r>
              <a:rPr b="1" lang="en-GB" sz="1200" spc="-1" strike="noStrike" u="sng">
                <a:solidFill>
                  <a:srgbClr val="000000"/>
                </a:solidFill>
                <a:uFillTx/>
                <a:latin typeface="Calibri"/>
              </a:rPr>
              <a:t>SAFETY CULTURE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reporting system that works relies on troops reporting incidents in the first place, and reporting them correctly, honestly and completel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environments where fault is seen as a punishable offence, for example, it must be considered unlikely that troops will report in that way, if at all.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s an example, if soldiers routinely get beaten or humiliated through rituals, they will not report incidents.  They will attempt to hide the evidence and potentially lie about things that have occurr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s such, there needs to be a sound environment – a culture – within the organisation that treats people fairly, even if they have made mistakes.  There needs to be a fair, honest reporting culture.  Indeed, this is all part of a higher level safety culture which again must be seen as desirable and is worth pursu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safety culture may be seen as being based on 5 key ele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eporting Cultur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Just Cultur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lexible Cultur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earning Culture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Questioning Cultu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may be a big cultural leap for some entities, however development of a safety culture should certainly aide a safer and more responsible environment.  This 5-element model comes from the Haddon-Cave Nimrod Report for the UK MOD, 2009.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A18653-A889-46E5-968D-A53648DC8B1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ACTION BY USER UNITS:  (2 slides, 10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2: </a:t>
            </a:r>
            <a:r>
              <a:rPr b="1" lang="en-GB" sz="1200" spc="-1" strike="noStrike" u="sng">
                <a:solidFill>
                  <a:srgbClr val="000000"/>
                </a:solidFill>
                <a:uFillTx/>
                <a:latin typeface="Calibri"/>
              </a:rPr>
              <a:t>ACTION BY USER UNITS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unit using the ammunition should take the following actions in the event of an ammunition accid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ease firing.</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Give immediate first aid to any injured personnel. In the case of fatal accidents, bodies should not be touched except to confirm death. Out of respect, bodies should be covered until they can be removed from the scene.</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mmon medical assistance if required.</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rdon off the area to preserve evidence for the investigating authority. Nothing should be moved and everything should remain as it is in situ.</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ecord the names of potential witnesse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ke safe the individual weapon involved and secure it for the investigating authority. The weapon should only be touched if there is a requirement to make it safe to prevent further injurie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mmediately report the ammunition accident in accordance with the relevant, extant instructions (probably by completing an Accident Form) and wait for further guidance from the nominated technical investigator.</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iring may recommence before the arrival of the investigating authority providing there have been no injuries, a different lot, batch or type of ammunition or explosive is used and the scene of the incident remains undisturb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eason for leaving everything ‘as is’, commensurate with safety, is to allow the investigation officer the opportunity to see the situation ‘as i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ny investigations have been needlessly hampered because a local commander has decided to pack everything up and move on to some other training serial, or whatev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D2F934-DF98-465D-8305-A551F590636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ACTION BY USER UNITS:  (2 slides, 10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2: </a:t>
            </a:r>
            <a:r>
              <a:rPr b="1" lang="en-GB" sz="1200" spc="-1" strike="noStrike" u="sng">
                <a:solidFill>
                  <a:srgbClr val="000000"/>
                </a:solidFill>
                <a:uFillTx/>
                <a:latin typeface="Calibri"/>
              </a:rPr>
              <a:t>AMMUNITION INCIDENT REPORTING FORM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national authority or the organisation responsible for the stockpile management of conventional ammunition should ensure that a system of reporting and investigating ammunition accidents is developed, promulgated to all users and is then effectively us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Users should be instructed to immediately report the information on an ammunition accident to the appropriate investigating authori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eporting form is likely to include the following information.  A template reporting form is on the screen - this is taken from IATG 11:10, Annex C.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ame of individual reporting fault or performance failur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User unit</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User unit contact person</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ate and time of ammunition accident</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etails of any fatalities and/or injurie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cation where the ammunition accident has occurred, including map grid referenc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ype of ammunition involved (full technical nam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apon type involved (full technical nam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atch, lot and/or serial number of the ammunition involved</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rief description of accident</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ather condition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ction taken by user un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9DD1D1-6E77-4FC1-B25B-D4960B3A6BD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VESTIGATION AUTHORITY REQUIREMENTS:  (4 slides, 15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6: </a:t>
            </a:r>
            <a:r>
              <a:rPr b="1" lang="en-GB" sz="1200" spc="-1" strike="noStrike" u="sng">
                <a:solidFill>
                  <a:srgbClr val="000000"/>
                </a:solidFill>
                <a:uFillTx/>
                <a:latin typeface="Calibri"/>
              </a:rPr>
              <a:t>INVESTIGATION AUTHORITY REQUIREMENT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onventional ammunition stockpile management organisation needs to establish an Investigating Authority.  This Investigating Authority needs to maintain a team of suitably competent and experienced individuals as technical investigators available to undertake an initial investigation in the event of an accident. These individuals should have a sound understanding of the extant explosive and other safety regulations and of local procedures applicable to the area in which the accident has occurred. They should also have appropriate technical experti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nvestigating Authority needs to have devised and promulgated a Reporting Form which users are aware of and are able to complet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r each ammunition incident that  is reported, an independent technical investigator needs to be appointed. The Technical Investigator shall not have been involved with the accident in any wa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9C895D-8C96-43AB-B1B5-B003FA0CFA7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VESTIGATION AUTHORITY REQUIREMENTS:  (4 slides, 15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6: </a:t>
            </a:r>
            <a:r>
              <a:rPr b="1" lang="en-GB" sz="1200" spc="-1" strike="noStrike" u="sng">
                <a:solidFill>
                  <a:srgbClr val="000000"/>
                </a:solidFill>
                <a:uFillTx/>
                <a:latin typeface="Calibri"/>
              </a:rPr>
              <a:t>THE TECHNICAL INVESTIGATOR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echnical investigator wi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amine the scene of the ammunition accident</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amine any weapon involved, possibly with a weapon armourer</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Visually inspect any pieces of the ammunition involved</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ecover any pieces of the ammunition that was involved for further technical investigation or destroy, after consultation with the appropriate technical authority, if unsafe to mov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amine other ammunition of the same type, and lot, batch or serial number being used at the same tim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Question any appropriate witnesse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ke an initial technical appraisal of the cause of the ammunition accident and recommend any appropriate bans or constraints to the investigating authorit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appropriate, impose an immediate local ban on the use of the ammunition (by lot, batch or serial number) involved in the ammunition accident</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bmit a written ammunition accident report to the investigating authority in the appropriate form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is not the job of the Technical Investigator to attribute blame or negligence to any individu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EAC4F1-DB64-4D18-B195-7783FF07A65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VESTIGATION AUTHORITY REQUIREMENTS:  (4 slides, 15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6: </a:t>
            </a:r>
            <a:r>
              <a:rPr b="1" lang="en-GB" sz="1200" spc="-1" strike="noStrike" u="sng">
                <a:solidFill>
                  <a:srgbClr val="000000"/>
                </a:solidFill>
                <a:uFillTx/>
                <a:latin typeface="Calibri"/>
              </a:rPr>
              <a:t>THE TECHNICAL INVESTIGATOR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echnical investigator wi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amine the scene of the ammunition accident</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amine any weapon involved, possibly with a weapon armourer</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Visually inspect any pieces of the ammunition involved</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ecover any pieces of the ammunition that was involved for further technical investigation or destroy, after consultation with the appropriate technical authority, if unsafe to mov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amine other ammunition of the same type, and lot, batch or serial number being used at the same tim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Question any appropriate witnesse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ke an initial technical appraisal of the cause of the ammunition accident and recommend any appropriate bans or constraints to the investigating authorit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appropriate, impose an immediate local ban on the use of the ammunition (by lot, batch or serial number) involved in the ammunition accident</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bmit a written ammunition accident report to the investigating authority in the appropriate form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is not the job of the Technical Investigator to attribute blame or negligence to any individu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1675A3-57FD-45A2-A377-76D5107E2FC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043022-96E7-4870-BAE0-F4F0343AD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6D75F-9AB3-4F23-89D1-A6438C95E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071D82-AAF6-497C-A648-D41AADC992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E4AF5B-65C1-4E32-82CA-692F98A86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B152E-5364-477C-B76D-B68CC53F8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A0C0C-F0E8-493E-9CDA-808D3857C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F59E5-310A-45DF-89D2-2D9B144C7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E0723-B524-489A-9637-40B47D428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48507-8B1F-459E-A44E-D718C276A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662CD-7FBE-422B-BEEE-19FB325B2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04188-2029-4905-A533-0FE313C25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5DE39-082A-4813-A09C-5BF34582C6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LOGO-blue"/>
          <p:cNvPicPr/>
          <p:nvPr/>
        </p:nvPicPr>
        <p:blipFill>
          <a:blip r:embed="rId2">
            <a:lum bright="70000" contrast="-70000"/>
          </a:blip>
          <a:stretch/>
        </p:blipFill>
        <p:spPr>
          <a:xfrm>
            <a:off x="3886200" y="1752480"/>
            <a:ext cx="5410080" cy="5410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MS PGothic"/>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C0EB89-7C0B-4942-857D-BF6F47C2BF13}" type="slidenum">
              <a:rPr b="0" lang="en-GB" sz="1400" spc="-1" strike="noStrike">
                <a:solidFill>
                  <a:srgbClr val="000000"/>
                </a:solidFill>
                <a:latin typeface="Times New Roman"/>
                <a:ea typeface="MS PGothic"/>
              </a:rPr>
              <a:t>&lt;number&gt;</a:t>
            </a:fld>
            <a:endParaRPr b="0" lang="en-US" sz="1400" spc="-1" strike="noStrike">
              <a:solidFill>
                <a:srgbClr val="000000"/>
              </a:solidFill>
              <a:latin typeface="Times New Roman"/>
            </a:endParaRPr>
          </a:p>
        </p:txBody>
      </p:sp>
      <p:pic>
        <p:nvPicPr>
          <p:cNvPr id="6" name="Picture 9" descr="UNSaferGuardLogo"/>
          <p:cNvPicPr/>
          <p:nvPr/>
        </p:nvPicPr>
        <p:blipFill>
          <a:blip r:embed="rId3"/>
          <a:stretch/>
        </p:blipFill>
        <p:spPr>
          <a:xfrm>
            <a:off x="152280" y="5867280"/>
            <a:ext cx="3353040" cy="58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7" descr="UN-LOGO-blue"/>
          <p:cNvPicPr/>
          <p:nvPr/>
        </p:nvPicPr>
        <p:blipFill>
          <a:blip r:embed="rId2">
            <a:lum bright="70000" contrast="-70000"/>
          </a:blip>
          <a:stretch/>
        </p:blipFill>
        <p:spPr>
          <a:xfrm>
            <a:off x="3886200" y="1752480"/>
            <a:ext cx="5410080" cy="5410440"/>
          </a:xfrm>
          <a:prstGeom prst="rect">
            <a:avLst/>
          </a:prstGeom>
          <a:ln w="0">
            <a:noFill/>
          </a:ln>
        </p:spPr>
      </p:pic>
      <p:pic>
        <p:nvPicPr>
          <p:cNvPr id="44" name="Picture 9" descr="UNSaferGuardLogo"/>
          <p:cNvPicPr/>
          <p:nvPr/>
        </p:nvPicPr>
        <p:blipFill>
          <a:blip r:embed="rId3"/>
          <a:stretch/>
        </p:blipFill>
        <p:spPr>
          <a:xfrm>
            <a:off x="152280" y="5867280"/>
            <a:ext cx="3353040" cy="58608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7" descr="UN-LOGO-blue"/>
          <p:cNvPicPr/>
          <p:nvPr/>
        </p:nvPicPr>
        <p:blipFill>
          <a:blip r:embed="rId2">
            <a:lum bright="70000" contrast="-70000"/>
          </a:blip>
          <a:stretch/>
        </p:blipFill>
        <p:spPr>
          <a:xfrm>
            <a:off x="3886200" y="1752480"/>
            <a:ext cx="5410080" cy="5410440"/>
          </a:xfrm>
          <a:prstGeom prst="rect">
            <a:avLst/>
          </a:prstGeom>
          <a:ln w="0">
            <a:noFill/>
          </a:ln>
        </p:spPr>
      </p:pic>
      <p:pic>
        <p:nvPicPr>
          <p:cNvPr id="84" name="Picture 9" descr="UNSaferGuardLogo"/>
          <p:cNvPicPr/>
          <p:nvPr/>
        </p:nvPicPr>
        <p:blipFill>
          <a:blip r:embed="rId3"/>
          <a:stretch/>
        </p:blipFill>
        <p:spPr>
          <a:xfrm>
            <a:off x="152280" y="5867280"/>
            <a:ext cx="3353040" cy="58608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ＭＳ Ｐゴシック"/>
              </a:rPr>
              <a:t>Ammunition Accidents</a:t>
            </a:r>
            <a:endParaRPr b="1" lang="en-US" sz="3600" spc="-1" strike="noStrike">
              <a:solidFill>
                <a:srgbClr val="000000"/>
              </a:solidFill>
              <a:latin typeface="Arial"/>
            </a:endParaRPr>
          </a:p>
        </p:txBody>
      </p:sp>
      <p:sp>
        <p:nvSpPr>
          <p:cNvPr id="131"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C12 Slide </a:t>
            </a:r>
            <a:fld id="{3B0FE685-F06A-492D-8B46-7660A6E60282}"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ＭＳ Ｐゴシック"/>
              </a:rPr>
              <a:t>Investigation Authority Actions </a:t>
            </a:r>
            <a:endParaRPr b="1" lang="en-US" sz="3600" spc="-1" strike="noStrike">
              <a:solidFill>
                <a:srgbClr val="000000"/>
              </a:solidFill>
              <a:latin typeface="Arial"/>
            </a:endParaRPr>
          </a:p>
        </p:txBody>
      </p:sp>
      <p:sp>
        <p:nvSpPr>
          <p:cNvPr id="158" name=""/>
          <p:cNvSpPr txBox="1"/>
          <p:nvPr/>
        </p:nvSpPr>
        <p:spPr>
          <a:xfrm>
            <a:off x="758880" y="1600200"/>
            <a:ext cx="792792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amine the technical investigators’ reports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lassify the accident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sult with other appropriate organisations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e a technical judgement as to the cause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itiate remedial action to prevent a reoccurrenc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form the user unit of the results of the investigation</a:t>
            </a:r>
            <a:endParaRPr b="0" lang="en-US" sz="2800" spc="-1" strike="noStrike">
              <a:solidFill>
                <a:srgbClr val="000000"/>
              </a:solidFill>
              <a:latin typeface="Arial"/>
            </a:endParaRPr>
          </a:p>
        </p:txBody>
      </p:sp>
      <p:sp>
        <p:nvSpPr>
          <p:cNvPr id="159"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C12 Slide </a:t>
            </a:r>
            <a:fld id="{EA6C2B8C-56EA-4EAD-8444-486CB6BD1CBB}"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ＭＳ Ｐゴシック"/>
              </a:rPr>
              <a:t>Investigation Authority Actions </a:t>
            </a:r>
            <a:endParaRPr b="1" lang="en-US" sz="3600" spc="-1" strike="noStrike">
              <a:solidFill>
                <a:srgbClr val="000000"/>
              </a:solidFill>
              <a:latin typeface="Arial"/>
            </a:endParaRPr>
          </a:p>
        </p:txBody>
      </p:sp>
      <p:sp>
        <p:nvSpPr>
          <p:cNvPr id="161" name=""/>
          <p:cNvSpPr txBox="1"/>
          <p:nvPr/>
        </p:nvSpPr>
        <p:spPr>
          <a:xfrm>
            <a:off x="758880" y="1600200"/>
            <a:ext cx="792792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intain records of all ammunition accident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vide technical advice to the conventional ammunition stockpile management organisation</a:t>
            </a:r>
            <a:endParaRPr b="0" lang="en-US" sz="2800" spc="-1" strike="noStrike">
              <a:solidFill>
                <a:srgbClr val="000000"/>
              </a:solidFill>
              <a:latin typeface="Arial"/>
            </a:endParaRPr>
          </a:p>
        </p:txBody>
      </p:sp>
      <p:sp>
        <p:nvSpPr>
          <p:cNvPr id="162"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C12 Slide </a:t>
            </a:r>
            <a:fld id="{200D7C05-7E9F-4B66-8FE1-D30C47C4377D}"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ＭＳ Ｐゴシック"/>
              </a:rPr>
              <a:t>Classification of Accidents</a:t>
            </a:r>
            <a:endParaRPr b="1" lang="en-US" sz="3600" spc="-1" strike="noStrike">
              <a:solidFill>
                <a:srgbClr val="000000"/>
              </a:solidFill>
              <a:latin typeface="Arial"/>
            </a:endParaRPr>
          </a:p>
        </p:txBody>
      </p:sp>
      <p:sp>
        <p:nvSpPr>
          <p:cNvPr id="164" name=""/>
          <p:cNvSpPr txBox="1"/>
          <p:nvPr/>
        </p:nvSpPr>
        <p:spPr>
          <a:xfrm>
            <a:off x="758880" y="1600200"/>
            <a:ext cx="792792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Fatal</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Major</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Seriou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Minor</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Near Mis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Negligent Discharg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FFE Violation</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C12 Slide </a:t>
            </a:r>
            <a:fld id="{A51FF6C5-66BC-493E-A227-59FF41F286F2}"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ＭＳ Ｐゴシック"/>
              </a:rPr>
              <a:t>Questions?</a:t>
            </a:r>
            <a:endParaRPr b="1" lang="en-US" sz="3600" spc="-1" strike="noStrike">
              <a:solidFill>
                <a:srgbClr val="000000"/>
              </a:solidFill>
              <a:latin typeface="Arial"/>
            </a:endParaRPr>
          </a:p>
        </p:txBody>
      </p:sp>
      <p:sp>
        <p:nvSpPr>
          <p:cNvPr id="167"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C12 Slide </a:t>
            </a:r>
            <a:fld id="{B01FA494-C6A0-43B8-9A6B-AAD7ED436F17}"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ＭＳ Ｐゴシック"/>
              </a:rPr>
              <a:t>Types of Accident</a:t>
            </a:r>
            <a:endParaRPr b="1" lang="en-US" sz="3600" spc="-1" strike="noStrike">
              <a:solidFill>
                <a:srgbClr val="000000"/>
              </a:solidFill>
              <a:latin typeface="Arial"/>
            </a:endParaRPr>
          </a:p>
        </p:txBody>
      </p:sp>
      <p:sp>
        <p:nvSpPr>
          <p:cNvPr id="133" name=""/>
          <p:cNvSpPr txBox="1"/>
          <p:nvPr/>
        </p:nvSpPr>
        <p:spPr>
          <a:xfrm>
            <a:off x="701280" y="1600200"/>
            <a:ext cx="798516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Accident:  Is an incident resulting in death/injury to a person(s) and/or damage to assets. </a:t>
            </a:r>
            <a:endParaRPr b="0" lang="en-US" sz="2800" spc="-1" strike="noStrike">
              <a:solidFill>
                <a:srgbClr val="000000"/>
              </a:solidFill>
              <a:latin typeface="Arial"/>
            </a:endParaRPr>
          </a:p>
        </p:txBody>
      </p:sp>
      <p:sp>
        <p:nvSpPr>
          <p:cNvPr id="13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C12 Slide </a:t>
            </a:r>
            <a:fld id="{50AF9DE8-44E1-42F1-9030-E3F1BA2E7A35}"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ＭＳ Ｐゴシック"/>
              </a:rPr>
              <a:t>Rationale for Reporting</a:t>
            </a:r>
            <a:endParaRPr b="1" lang="en-US" sz="3600" spc="-1" strike="noStrike">
              <a:solidFill>
                <a:srgbClr val="000000"/>
              </a:solidFill>
              <a:latin typeface="Arial"/>
            </a:endParaRPr>
          </a:p>
        </p:txBody>
      </p:sp>
      <p:sp>
        <p:nvSpPr>
          <p:cNvPr id="136" name=""/>
          <p:cNvSpPr txBox="1"/>
          <p:nvPr/>
        </p:nvSpPr>
        <p:spPr>
          <a:xfrm>
            <a:off x="720720" y="1600200"/>
            <a:ext cx="79660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inform system managers of problem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allow the system manager to investigat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identify safety risks or reliability problem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implement mitigation measur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 reduce the risk of repeat events.</a:t>
            </a:r>
            <a:endParaRPr b="0" lang="en-US" sz="2800" spc="-1" strike="noStrike">
              <a:solidFill>
                <a:srgbClr val="000000"/>
              </a:solidFill>
              <a:latin typeface="Arial"/>
            </a:endParaRPr>
          </a:p>
        </p:txBody>
      </p:sp>
      <p:sp>
        <p:nvSpPr>
          <p:cNvPr id="137"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C12 Slide </a:t>
            </a:r>
            <a:fld id="{2E7F6262-0119-4FB0-8E66-8FF42E8EA8F6}"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ＭＳ Ｐゴシック"/>
              </a:rPr>
              <a:t>Safety Culture</a:t>
            </a:r>
            <a:endParaRPr b="1" lang="en-US" sz="3600" spc="-1" strike="noStrike">
              <a:solidFill>
                <a:srgbClr val="000000"/>
              </a:solidFill>
              <a:latin typeface="Arial"/>
            </a:endParaRPr>
          </a:p>
        </p:txBody>
      </p:sp>
      <p:sp>
        <p:nvSpPr>
          <p:cNvPr id="139" name=""/>
          <p:cNvSpPr txBox="1"/>
          <p:nvPr/>
        </p:nvSpPr>
        <p:spPr>
          <a:xfrm>
            <a:off x="797040" y="1600200"/>
            <a:ext cx="788976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Reporting Cultur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Just Cultur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Flexible Cultur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Learning Culture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Questioning Cultur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C12 Slide </a:t>
            </a:r>
            <a:fld id="{E9E91745-297A-4812-8BB5-986530EDCAA7}"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ＭＳ Ｐゴシック"/>
              </a:rPr>
              <a:t>Action by User Units</a:t>
            </a:r>
            <a:endParaRPr b="1" lang="en-US" sz="3600" spc="-1" strike="noStrike">
              <a:solidFill>
                <a:srgbClr val="000000"/>
              </a:solidFill>
              <a:latin typeface="Arial"/>
            </a:endParaRPr>
          </a:p>
        </p:txBody>
      </p:sp>
      <p:sp>
        <p:nvSpPr>
          <p:cNvPr id="142" name=""/>
          <p:cNvSpPr txBox="1"/>
          <p:nvPr/>
        </p:nvSpPr>
        <p:spPr>
          <a:xfrm>
            <a:off x="797040" y="1600200"/>
            <a:ext cx="788976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Cease fir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First aid to any injured personnel / cover bodies and summon medical assistanc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Cordon off the area, leave everything 'in-situ'</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Take names of potential witness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Weapon involved 'made safe' (as necessary) and secure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Immediately report the ammunition accident</a:t>
            </a:r>
            <a:endParaRPr b="0" lang="en-US" sz="2800" spc="-1" strike="noStrike">
              <a:solidFill>
                <a:srgbClr val="000000"/>
              </a:solidFill>
              <a:latin typeface="Arial"/>
            </a:endParaRPr>
          </a:p>
        </p:txBody>
      </p:sp>
      <p:sp>
        <p:nvSpPr>
          <p:cNvPr id="143"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C12 Slide </a:t>
            </a:r>
            <a:fld id="{62256C5B-25E9-4674-83DC-E6B214B41440}"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ＭＳ Ｐゴシック"/>
              </a:rPr>
              <a:t>Ammunition Incident Reporting Form</a:t>
            </a:r>
            <a:endParaRPr b="1" lang="en-US" sz="3200" spc="-1" strike="noStrike">
              <a:solidFill>
                <a:srgbClr val="000000"/>
              </a:solidFill>
              <a:latin typeface="Arial"/>
            </a:endParaRPr>
          </a:p>
        </p:txBody>
      </p:sp>
      <p:sp>
        <p:nvSpPr>
          <p:cNvPr id="145"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 </a:t>
            </a:r>
            <a:endParaRPr b="0" lang="en-US" sz="2800" spc="-1" strike="noStrike">
              <a:solidFill>
                <a:srgbClr val="000000"/>
              </a:solidFill>
              <a:latin typeface="Arial"/>
            </a:endParaRPr>
          </a:p>
        </p:txBody>
      </p:sp>
      <p:pic>
        <p:nvPicPr>
          <p:cNvPr id="146" name="Picture 2" descr=""/>
          <p:cNvPicPr/>
          <p:nvPr/>
        </p:nvPicPr>
        <p:blipFill>
          <a:blip r:embed="rId1"/>
          <a:stretch/>
        </p:blipFill>
        <p:spPr>
          <a:xfrm>
            <a:off x="1398600" y="1270080"/>
            <a:ext cx="6249960" cy="4522680"/>
          </a:xfrm>
          <a:prstGeom prst="rect">
            <a:avLst/>
          </a:prstGeom>
          <a:ln w="0">
            <a:noFill/>
          </a:ln>
        </p:spPr>
      </p:pic>
      <p:sp>
        <p:nvSpPr>
          <p:cNvPr id="147"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C12 Slide </a:t>
            </a:r>
            <a:fld id="{C2C049F0-06B6-4A91-8D10-96F3ACD9511C}"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ＭＳ Ｐゴシック"/>
              </a:rPr>
              <a:t>Investigation Authority Requirements</a:t>
            </a:r>
            <a:endParaRPr b="1" lang="en-US" sz="3200" spc="-1" strike="noStrike">
              <a:solidFill>
                <a:srgbClr val="000000"/>
              </a:solidFill>
              <a:latin typeface="Arial"/>
            </a:endParaRPr>
          </a:p>
        </p:txBody>
      </p:sp>
      <p:sp>
        <p:nvSpPr>
          <p:cNvPr id="149" name=""/>
          <p:cNvSpPr txBox="1"/>
          <p:nvPr/>
        </p:nvSpPr>
        <p:spPr>
          <a:xfrm>
            <a:off x="739440" y="1600200"/>
            <a:ext cx="79470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Investigation Authority</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Appointed by the ammunition stockpile management organisation</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Maintain a pool of competent, experienced personnel</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Devise and promulgate a Reporting Form</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Appoint a technical investigator for each incident</a:t>
            </a:r>
            <a:endParaRPr b="0" lang="en-US" sz="2800" spc="-1" strike="noStrike">
              <a:solidFill>
                <a:srgbClr val="000000"/>
              </a:solidFill>
              <a:latin typeface="Arial"/>
            </a:endParaRPr>
          </a:p>
        </p:txBody>
      </p:sp>
      <p:sp>
        <p:nvSpPr>
          <p:cNvPr id="150"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C12 Slide </a:t>
            </a:r>
            <a:fld id="{2A244B87-2429-4D5A-9036-87D8ABD93F70}"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ＭＳ Ｐゴシック"/>
              </a:rPr>
              <a:t>The Technical Investigator</a:t>
            </a:r>
            <a:endParaRPr b="1" lang="en-US" sz="3600" spc="-1" strike="noStrike">
              <a:solidFill>
                <a:srgbClr val="000000"/>
              </a:solidFill>
              <a:latin typeface="Arial"/>
            </a:endParaRPr>
          </a:p>
        </p:txBody>
      </p:sp>
      <p:sp>
        <p:nvSpPr>
          <p:cNvPr id="152" name=""/>
          <p:cNvSpPr txBox="1"/>
          <p:nvPr/>
        </p:nvSpPr>
        <p:spPr>
          <a:xfrm>
            <a:off x="720720" y="1600200"/>
            <a:ext cx="7966080" cy="452592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Examine the scene of the ammunition accident</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Examine any weapon involved</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Visually inspect any pieces of the ammunition involved</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Recover pieces of ammunition/destroy if unsafe to move</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Examine other ammunition of the same type/lot/batch</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Question any appropriate witnesses</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Make an initial technical appraisal of the caus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C12 Slide </a:t>
            </a:r>
            <a:fld id="{3DF1D22E-C20D-473E-A24F-9F86632DD5E8}"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ＭＳ Ｐゴシック"/>
              </a:rPr>
              <a:t>The Technical Investigator</a:t>
            </a:r>
            <a:endParaRPr b="1" lang="en-US" sz="3600" spc="-1" strike="noStrike">
              <a:solidFill>
                <a:srgbClr val="000000"/>
              </a:solidFill>
              <a:latin typeface="Arial"/>
            </a:endParaRPr>
          </a:p>
        </p:txBody>
      </p:sp>
      <p:sp>
        <p:nvSpPr>
          <p:cNvPr id="155" name=""/>
          <p:cNvSpPr txBox="1"/>
          <p:nvPr/>
        </p:nvSpPr>
        <p:spPr>
          <a:xfrm>
            <a:off x="720720" y="1600200"/>
            <a:ext cx="79660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Recommend appropriate bans or constraints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If appropriate, impose an immediate local ban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Submit a written ammunition accident repor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C12 Slide </a:t>
            </a:r>
            <a:fld id="{06768998-31C2-4723-9AD5-67153C47D669}"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9T09:11:23Z</dcterms:created>
  <dc:creator>Adrian Wilkinson</dc:creator>
  <dc:description/>
  <dc:language>en-US</dc:language>
  <cp:lastModifiedBy>Adrian Wilkinson</cp:lastModifiedBy>
  <dcterms:modified xsi:type="dcterms:W3CDTF">2012-05-22T16:40:59Z</dcterms:modified>
  <cp:revision>49</cp:revision>
  <dc:subject/>
  <dc:title>Title</dc:title>
</cp:coreProperties>
</file>