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07459-9C30-413F-93DF-F9686EC0A160}" type="slidenum">
              <a:rPr b="0" lang="en-US"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1 slides, 1 min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BACKGROUND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porting and investigation of conventional ammunition accidents is a key component in the safety management of conventional ammunition stockpile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idents or incidents involving conventional ammunition are a regular occurrence, even in the best-trained military and security forces, even though most of them are preven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porting and investigating accidents will establish lessons for others to learn and ultimately contribute to improved safety for all.</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FEFF3-16F8-4C54-BADD-D36E54F44E6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6: </a:t>
            </a:r>
            <a:r>
              <a:rPr b="1" lang="en-GB" sz="1200" spc="-1" strike="noStrike" u="sng">
                <a:solidFill>
                  <a:srgbClr val="000000"/>
                </a:solidFill>
                <a:uFillTx/>
                <a:latin typeface="Calibri"/>
              </a:rPr>
              <a:t>THE INVESTIGATION AUTHORITY AC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Investigation authority, upon receiving the technical investigator’s report, will conduct the following activiti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reports submitted by technical investigators on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assify the accident  (which we will look at nex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ult with other appropriate organisations (manufacturers, designers, procurement agencies etc) to obtain further information as necessar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 technical judgement as to the cause of the ammunition accident, although this may take place under the auspices of a national legal framework (i.e. a Board of Inquiry) depending on the extant national legal requirements (possibly using the suggested ‘closure codes’ provided in IATG 11:10)</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itiate remedial action to prevent a reoccurrenc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 the user unit of the results of the investiga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intain records of all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de technical advice to the conventional ammunition stockpile management organisation as appropriat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BA219-177F-4DFC-A048-38C8397587B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6: </a:t>
            </a:r>
            <a:r>
              <a:rPr b="1" lang="en-GB" sz="1200" spc="-1" strike="noStrike" u="sng">
                <a:solidFill>
                  <a:srgbClr val="000000"/>
                </a:solidFill>
                <a:uFillTx/>
                <a:latin typeface="Calibri"/>
              </a:rPr>
              <a:t>THE INVESTIGATION AUTHORITY AC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Investigation authority, upon receiving the technical investigator’s report, will conduct the following activiti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reports submitted by technical investigators on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assify the accident  (which we will look at nex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ult with other appropriate organisations (manufacturers, designers, procurement agencies etc) to obtain further information as necessar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 technical judgement as to the cause of the ammunition accident, although this may take place under the auspices of a national legal framework (i.e. a Board of Inquiry) depending on the extant national legal requirements (possibly using the suggested ‘closure codes’ provided in IATG 11:10)</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itiate remedial action to prevent a reoccurrenc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 the user unit of the results of the investiga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intain records of all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de technical advice to the conventional ammunition stockpile management organisation as appropriat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610A8-C6DE-41B1-9EC3-909EC8C3DF3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6: </a:t>
            </a:r>
            <a:r>
              <a:rPr b="1" lang="en-GB" sz="1200" spc="-1" strike="noStrike" u="sng">
                <a:solidFill>
                  <a:srgbClr val="000000"/>
                </a:solidFill>
                <a:uFillTx/>
                <a:latin typeface="Calibri"/>
              </a:rPr>
              <a:t>CLASSIFICATION OF ACCIDENT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llowing classification system is provided in IATG 11: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Fatal (personnel)/Critical (equipment): </a:t>
            </a:r>
            <a:r>
              <a:rPr b="0" lang="en-GB" sz="1200" spc="-1" strike="noStrike">
                <a:solidFill>
                  <a:srgbClr val="000000"/>
                </a:solidFill>
                <a:latin typeface="Calibri"/>
              </a:rPr>
              <a:t>An occurrence involving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atality or severe injuries resulting in long term illness or disability to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tensive loss, damage to, or contamination of military or civilian equipment or property at multiple facilities, or to the environ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jor: </a:t>
            </a:r>
            <a:r>
              <a:rPr b="0" lang="en-GB" sz="1200" spc="-1" strike="noStrike">
                <a:solidFill>
                  <a:srgbClr val="000000"/>
                </a:solidFill>
                <a:latin typeface="Calibri"/>
              </a:rPr>
              <a:t>An occurrence involving an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vere injuries resulting in hospital treatment to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ss, damage to, or contamination of the munition or explosive, or to military or civilian equipment or property at a single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erious:  </a:t>
            </a:r>
            <a:r>
              <a:rPr b="0" lang="en-GB" sz="1200" spc="-1" strike="noStrike">
                <a:solidFill>
                  <a:srgbClr val="000000"/>
                </a:solidFill>
                <a:latin typeface="Calibri"/>
              </a:rPr>
              <a:t>An occurrence involving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jury requiring medical treatment and time off work but which does not require hospital treatm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nor loss, damage to the munition or explosive or minor contamination of, military or civilian equipment, property, or the environ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inor:  </a:t>
            </a:r>
            <a:r>
              <a:rPr b="0" lang="en-GB" sz="1200" spc="-1" strike="noStrike">
                <a:solidFill>
                  <a:srgbClr val="000000"/>
                </a:solidFill>
                <a:latin typeface="Calibri"/>
              </a:rPr>
              <a:t>An occurrence involving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njury or illness to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smetic damage to ammunition not affecting performance or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ear Miss:  </a:t>
            </a:r>
            <a:r>
              <a:rPr b="0" lang="en-GB" sz="1200" spc="-1" strike="noStrike">
                <a:solidFill>
                  <a:srgbClr val="000000"/>
                </a:solidFill>
                <a:latin typeface="Calibri"/>
              </a:rPr>
              <a:t>An occurrence, or potential occurrence, involving ammunition, or an occurrence potentially involving ammunition, which could have cau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e to the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e to, or contamination of, military or civilian equipment, property or the environm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jury to, or illness of,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reat to the structural integrity of, or to cause damage to, military or civilian equipment, property or the environm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ree From Explosives (FFE) Viol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egligent Discharge:  </a:t>
            </a:r>
            <a:r>
              <a:rPr b="0" lang="en-GB" sz="1200" spc="-1" strike="noStrike">
                <a:solidFill>
                  <a:srgbClr val="000000"/>
                </a:solidFill>
                <a:latin typeface="Calibri"/>
              </a:rPr>
              <a:t>A discharge of small arms ammunition (SAA) up to and including 14.5mm calibre from a weapon as a result of preventable human failing, where no injury or damage has occurred and the weapon and munition performed to the designed specif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Free From Explosive (FFE) Violation: </a:t>
            </a:r>
            <a:r>
              <a:rPr b="0" lang="en-GB" sz="1200" spc="-1" strike="noStrike">
                <a:solidFill>
                  <a:srgbClr val="000000"/>
                </a:solidFill>
                <a:latin typeface="Calibri"/>
              </a:rPr>
              <a:t>The discovery of ammunition item(s) within containers that have been certified FF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1F168-AB85-48E4-8EB9-C27C39909A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no questions, test their understanding about the need for reporting and how it relates to safety management, what the unit might be expected to do as the immediate response to an incident, and suggest what might be expected of the technical investigator.</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C2CAC-A2DB-4041-966E-41B9599FC45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CCIDENT:  (1 slide, 3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CCIDENT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explan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ammunition accident, irrespective of cause or however minor, is any incident involving ammunition and explosives that results in death or injury to a person(s) and/or damage to equipment and/or property, military or civil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illustrative examples of accidents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reech explosion occurs in a weapon, injures the firer and causes damage to the working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attle simulation charge explodes in close proximity to a soldier causing flash burns and temporary deafnes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icochet of a small arms bullet hits and damages a vehicle parked on the ran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691E4-EA01-4336-9B85-4A86F319ADF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FOR REPORTING:  (2 slides, 10 min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THE REASON FOR REPORTING (7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y is a ‘reporting and investigation’ approach so important?  An unplanned event may occur because there is some shortfall in any number of factors that come together to make the equipment reliable and safe.  This shortfall may not have been identified my the manager of the system.  If the problem has happened once, it may happen again.  By reporting the problem, and then conducting an investigation into the cause of the problem, the manager of that system might identify a potential problem that could keep happening.  This repeating, or systematic fault, might be undesirable, especially if it would render a number of operationally important systems as unserviceable, or if there was a safety concern like an operator was killed every time the event occurs.  By identifying the problem, and its likely consequences, the manager will be able to consider suitabl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the investigation process is primarily to find and solve safety problems and reliability problems.  This is in everyone’s interes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problems can only be identified and looked into if the manager knows there is a problem in the first place.  So it is imperative that the user units report all problems.  And they must report them immediately, to allow timely consideration by the system manag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rthermore, it is necessary to report all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not the users’ prerogative to decide whether something is ‘too small to be worth bothering with’.  This is because there may be thousands of these ‘small problems’ – which cumulatively pose a risk is unacceptable because it happens so oft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natively, a ‘small’ event may be a ‘near miss’ – the operator may have been lucky that nothing worse occurred.  However the same fault, if it occurs again, might produce far wore results and injure the operator, degrade an operational capability,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worked examp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ifleman is training on military range.  He is using a practice hand grenade.  He posts the grenade into a shallow ditch, in accordance with drills.  He is supervised by a qualified and experienced training officer.  The training grenade produces a much louder noises than expected, and is projected straight back at the rifleman.  It strikes the safety officer in the face, blinding him.  The safety officer is unable to continue serving and is discharged on medical grounds.  The training officer was the only expert in the force on a newly procured guided weapon system.  The medical discharge costs the government in cost of medical treatment, casualty evacuation by helicopter, pension costs.  The expertise on the new weapon system is also lost.  It becomes apparent that this same type of event has happened at least 10 times in the previous 6 months, but it wasn’t reported as no one was hurt but the training units couldn’t be bothered to report the incidents.  The investigation identifies that the practice grenade may responds in this way if dropped base first into soft, waterlogged mud.  Had the system manager known, he could have taken temporary measures to restrict use of the training grenade while he investigated the cause.  The cause would have been identified, potentially with relative ease, and advice offered to units to the effect that they should check where a training grenade is to be posted beforehand, specially if the ground is soft and wet.  In this case, the rifleman wouldn’t have dropped the grenade in that type of land, and so the event would not have occurred.  The force would have avoided the medical and related costs and effort, and retained expertise in the new missile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A6B2D-0619-4371-A6CA-61FACE6C8B8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FOR REPORTING:  (2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SAFETY CULTUR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system that works relies on troops reporting incidents in the first place, and reporting them correctly, honestly and complete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environments where fault is seen as a punishable offence, for example, it must be considered unlikely that troops will report in that way, if at al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n example, if soldiers routinely get beaten or humiliated through rituals, they will not report incidents.  They will attempt to hide the evidence and potentially lie about things that have occur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such, there needs to be a sound environment – a culture – within the organisation that treats people fairly, even if they have made mistakes.  There needs to be a fair, honest reporting culture.  Indeed, this is all part of a higher level safety culture which again must be seen as desirable and is worth pursu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6A137-3C69-40D6-BB67-EF58EA9C2AC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 BY USER UNITS:  (2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TION BY USER UNIT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nit using the ammunition should take the following actions in the event of an ammunition accid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ease firing.</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 immediate first aid to any injured personnel. In the case of fatal accidents, bodies should not be touched except to confirm death. Out of respect, bodies should be covered until they can be removed from the scen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on medical assistance if requir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don off the area to preserve evidence for the investigating authority. Nothing should be moved and everything should remain as it is in situ.</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 the names of potential witness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safe the individual weapon involved and secure it for the investigating authority. The weapon should only be touched if there is a requirement to make it safe to prevent further injuri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mmediately report the ammunition accident in accordance with the relevant, extant instructions (probably by completing an Accident Form) and wait for further guidance from the nominated technical investigator.</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ring may recommence before the arrival of the investigating authority providing there have been no injuries, a different lot, batch or type of ammunition or explosive is used and the scene of the incident remains undisturb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ason for leaving everything ‘as is’, commensurate with safety, is to allow the investigation officer the opportunity to see the situation ‘as 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y investigations have been needlessly hampered because a local commander has decided to pack everything up and move on to some other training serial, or whatev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520C3-99F3-4577-AC57-FD842CD8376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 BY USER UNITS:  (2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MMUNITION INCIDENT REPORTING FOR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ational authority or the organisation responsible for the stockpile management of conventional ammunition should ensure that a system of reporting and investigating ammunition accidents is developed, promulgated to all users and is then effectively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s should be instructed to immediately report the information on an ammunition accident to the appropriate investigating author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porting form is likely to include the following information.  A template reporting form is on the screen - this is taken from IATG 11:10, Annex 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ame of individual reporting fault or performance fail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 uni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 unit contact pers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e and time of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ails of any fatalities and/or injuri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 where the ammunition accident has occurred, including map grid referenc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 of ammunition involved (full technical na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apon type involved (full technical na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tch, lot and/or serial number of the ammunition involv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rief description of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ather condition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ion taken by user un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94F5A-D2BB-4D20-AC1D-3FB360FFBF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6: </a:t>
            </a:r>
            <a:r>
              <a:rPr b="1" lang="en-GB" sz="1200" spc="-1" strike="noStrike" u="sng">
                <a:solidFill>
                  <a:srgbClr val="000000"/>
                </a:solidFill>
                <a:uFillTx/>
                <a:latin typeface="Calibri"/>
              </a:rPr>
              <a:t>INVESTIGATION AUTHORITY REQUIRE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ventional ammunition stockpile management organisation needs to establish an Investigating Authority.  This Investigating Authority needs to maintain a team of suitably competent and experienced individuals as technical investigators available to undertake an initial investigation in the event of an accident. These individuals should have a sound understanding of the extant explosive and other safety regulations and of local procedures applicable to the area in which the accident has occurred. They should also have appropriate technical experti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ing Authority needs to have devised and promulgated a Reporting Form which users are aware of and are able to comple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ach ammunition incident that  is reported, an independent technical investigator needs to be appointed. The Technical Investigator shall not have been involved with the accident in any w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72CCE-D81E-4172-A321-ECE72808F1F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6: </a:t>
            </a:r>
            <a:r>
              <a:rPr b="1" lang="en-GB" sz="1200" spc="-1" strike="noStrike" u="sng">
                <a:solidFill>
                  <a:srgbClr val="000000"/>
                </a:solidFill>
                <a:uFillTx/>
                <a:latin typeface="Calibri"/>
              </a:rPr>
              <a:t>THE TECHNICAL INVESTIGATOR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cal investigator wi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scene of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any weapon involved, possibly with a weapon armour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isually inspect any pieces of the ammunition involv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ver any pieces of the ammunition that was involved for further technical investigation or destroy, after consultation with the appropriate technical authority, if unsafe to mov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other ammunition of the same type, and lot, batch or serial number being used at the same ti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estion any appropriate witness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n initial technical appraisal of the cause of the ammunition accident and recommend any appropriate bans or constraints to the investigating authorit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appropriate, impose an immediate local ban on the use of the ammunition (by lot, batch or serial number) involved in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mit a written ammunition accident report to the investigating authority in the appropriate form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not the job of the Technical Investigator to attribute blame or negligence to any individu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91325-55E9-40F2-9B32-D0525F17472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6: </a:t>
            </a:r>
            <a:r>
              <a:rPr b="1" lang="en-GB" sz="1200" spc="-1" strike="noStrike" u="sng">
                <a:solidFill>
                  <a:srgbClr val="000000"/>
                </a:solidFill>
                <a:uFillTx/>
                <a:latin typeface="Calibri"/>
              </a:rPr>
              <a:t>THE TECHNICAL INVESTIGATOR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cal investigator wi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scene of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any weapon involved, possibly with a weapon armour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isually inspect any pieces of the ammunition involv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ver any pieces of the ammunition that was involved for further technical investigation or destroy, after consultation with the appropriate technical authority, if unsafe to mov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other ammunition of the same type, and lot, batch or serial number being used at the same ti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estion any appropriate witness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n initial technical appraisal of the cause of the ammunition accident and recommend any appropriate bans or constraints to the investigating authorit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appropriate, impose an immediate local ban on the use of the ammunition (by lot, batch or serial number) involved in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mit a written ammunition accident report to the investigating authority in the appropriate form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not the job of the Technical Investigator to attribute blame or negligence to any individu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01E26-51C6-4DB2-B49B-895CCB45346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4419D-3F9A-42FE-9959-39C453C2B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A16FB-4DF1-4FCA-9703-2238AB9D7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81E8A-D889-44C8-917C-280F3CE99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CE1FA-BA24-4D86-BA22-175ECD928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4932-257B-438E-98D6-298C1F7D4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2EF1D-1120-45F0-9665-C1C36CA8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4BE3B-6DEA-49EA-838D-5F4D299EB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4CB24-D6BE-4F66-9A3F-3E0B6B8E7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D5D56-B03F-4AEF-A3E8-0FA13E861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2BE3-23BE-4F4B-9973-4A2126704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7D4FE-72B9-4E59-997C-944EEC266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7310-C49C-460F-96A9-525CCDC98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66FAC-1573-450F-B1B2-B0F4BA3E198A}" type="slidenum">
              <a:rPr b="0" lang="en-GB"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4" name="Picture 9" descr="UNSaferGuardLogo"/>
          <p:cNvPicPr/>
          <p:nvPr/>
        </p:nvPicPr>
        <p:blipFill>
          <a:blip r:embed="rId3"/>
          <a:stretch/>
        </p:blipFill>
        <p:spPr>
          <a:xfrm>
            <a:off x="152280" y="5867280"/>
            <a:ext cx="3353040" cy="586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Ammunition Accidents</a:t>
            </a:r>
            <a:endParaRPr b="1" lang="en-US" sz="3600" spc="-1" strike="noStrike">
              <a:solidFill>
                <a:srgbClr val="000000"/>
              </a:solidFill>
              <a:latin typeface="Arial"/>
            </a:endParaRPr>
          </a:p>
        </p:txBody>
      </p: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E289816B-520F-4B93-AC76-4E25AF406049}"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nvestigation Authority Actions </a:t>
            </a:r>
            <a:endParaRPr b="1" lang="en-US" sz="3600" spc="-1" strike="noStrike">
              <a:solidFill>
                <a:srgbClr val="000000"/>
              </a:solidFill>
              <a:latin typeface="Arial"/>
            </a:endParaRPr>
          </a:p>
        </p:txBody>
      </p:sp>
      <p:sp>
        <p:nvSpPr>
          <p:cNvPr id="158"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amine the technical investigators’ report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ssify the acciden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lt with other appropriate organisation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a technical judgement as to the caus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itiate remedial action to prevent a reoccurr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the user unit of the results of the investigation</a:t>
            </a:r>
            <a:endParaRPr b="0" lang="en-US" sz="2800" spc="-1" strike="noStrike">
              <a:solidFill>
                <a:srgbClr val="000000"/>
              </a:solidFill>
              <a:latin typeface="Arial"/>
            </a:endParaRPr>
          </a:p>
        </p:txBody>
      </p:sp>
      <p:sp>
        <p:nvSpPr>
          <p:cNvPr id="1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6D5A9B13-C564-49D4-9408-B7D68D7FBECC}"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nvestigation Authority Actions </a:t>
            </a:r>
            <a:endParaRPr b="1" lang="en-US" sz="3600" spc="-1" strike="noStrike">
              <a:solidFill>
                <a:srgbClr val="000000"/>
              </a:solidFill>
              <a:latin typeface="Arial"/>
            </a:endParaRPr>
          </a:p>
        </p:txBody>
      </p:sp>
      <p:sp>
        <p:nvSpPr>
          <p:cNvPr id="161"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intain records of all ammunition accid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technical advice to the conventional ammunition stockpile management organisation</a:t>
            </a:r>
            <a:endParaRPr b="0" lang="en-US" sz="2800" spc="-1" strike="noStrike">
              <a:solidFill>
                <a:srgbClr val="000000"/>
              </a:solidFill>
              <a:latin typeface="Arial"/>
            </a:endParaRPr>
          </a:p>
        </p:txBody>
      </p:sp>
      <p:sp>
        <p:nvSpPr>
          <p:cNvPr id="1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CEE37F70-3E6E-42D7-BBEB-E3722457C159}"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Classification of Accidents</a:t>
            </a:r>
            <a:endParaRPr b="1" lang="en-US" sz="3600" spc="-1" strike="noStrike">
              <a:solidFill>
                <a:srgbClr val="000000"/>
              </a:solidFill>
              <a:latin typeface="Arial"/>
            </a:endParaRPr>
          </a:p>
        </p:txBody>
      </p:sp>
      <p:sp>
        <p:nvSpPr>
          <p:cNvPr id="164"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a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aj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eriou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in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Near Mi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Negligent Discharg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FE Viol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FF78D3C9-498E-4E6A-B8D9-C91B9DF697B1}"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Questions?</a:t>
            </a:r>
            <a:endParaRPr b="1" lang="en-US" sz="3600" spc="-1" strike="noStrike">
              <a:solidFill>
                <a:srgbClr val="000000"/>
              </a:solidFill>
              <a:latin typeface="Arial"/>
            </a:endParaRPr>
          </a:p>
        </p:txBody>
      </p:sp>
      <p:sp>
        <p:nvSpPr>
          <p:cNvPr id="1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2B745E85-3C09-4342-8BF0-6B6E1D544B64}"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Types of Accident</a:t>
            </a:r>
            <a:endParaRPr b="1" lang="en-US" sz="3600" spc="-1" strike="noStrike">
              <a:solidFill>
                <a:srgbClr val="000000"/>
              </a:solidFill>
              <a:latin typeface="Arial"/>
            </a:endParaRPr>
          </a:p>
        </p:txBody>
      </p:sp>
      <p:sp>
        <p:nvSpPr>
          <p:cNvPr id="133" name=""/>
          <p:cNvSpPr txBox="1"/>
          <p:nvPr/>
        </p:nvSpPr>
        <p:spPr>
          <a:xfrm>
            <a:off x="701280" y="1600200"/>
            <a:ext cx="79851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Accident:  Is an incident resulting in death/injury to a person(s) and/or damage to assets.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9946E85D-8F2F-45E4-9B9B-B5421DB1AF46}"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Rationale for Reporting</a:t>
            </a:r>
            <a:endParaRPr b="1" lang="en-US" sz="3600" spc="-1" strike="noStrike">
              <a:solidFill>
                <a:srgbClr val="000000"/>
              </a:solidFill>
              <a:latin typeface="Arial"/>
            </a:endParaRPr>
          </a:p>
        </p:txBody>
      </p:sp>
      <p:sp>
        <p:nvSpPr>
          <p:cNvPr id="136" name=""/>
          <p:cNvSpPr txBox="1"/>
          <p:nvPr/>
        </p:nvSpPr>
        <p:spPr>
          <a:xfrm>
            <a:off x="720720" y="1600200"/>
            <a:ext cx="79660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nform system managers of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llow the system manager to investiga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dentify safety risks or reliability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mplement mitigation measur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reduce the risk of repeat events.</a:t>
            </a:r>
            <a:endParaRPr b="0" lang="en-US" sz="2800" spc="-1" strike="noStrike">
              <a:solidFill>
                <a:srgbClr val="000000"/>
              </a:solidFill>
              <a:latin typeface="Arial"/>
            </a:endParaRPr>
          </a:p>
        </p:txBody>
      </p:sp>
      <p:sp>
        <p:nvSpPr>
          <p:cNvPr id="13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EE1DC45D-B170-427E-BE23-45BCA87A4FE5}"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Safety Culture</a:t>
            </a:r>
            <a:endParaRPr b="1" lang="en-US" sz="3600" spc="-1" strike="noStrike">
              <a:solidFill>
                <a:srgbClr val="000000"/>
              </a:solidFill>
              <a:latin typeface="Arial"/>
            </a:endParaRPr>
          </a:p>
        </p:txBody>
      </p:sp>
      <p:sp>
        <p:nvSpPr>
          <p:cNvPr id="139" name=""/>
          <p:cNvSpPr txBox="1"/>
          <p:nvPr/>
        </p:nvSpPr>
        <p:spPr>
          <a:xfrm>
            <a:off x="797040" y="1600200"/>
            <a:ext cx="78897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Reporting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Just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lexible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Learning Cultur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Questioning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ED068F08-2CB3-49C7-8755-E705DAE97A6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Action by User Units</a:t>
            </a:r>
            <a:endParaRPr b="1" lang="en-US" sz="3600" spc="-1" strike="noStrike">
              <a:solidFill>
                <a:srgbClr val="000000"/>
              </a:solidFill>
              <a:latin typeface="Arial"/>
            </a:endParaRPr>
          </a:p>
        </p:txBody>
      </p:sp>
      <p:sp>
        <p:nvSpPr>
          <p:cNvPr id="142" name=""/>
          <p:cNvSpPr txBox="1"/>
          <p:nvPr/>
        </p:nvSpPr>
        <p:spPr>
          <a:xfrm>
            <a:off x="797040" y="1600200"/>
            <a:ext cx="78897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Cease fir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irst aid to any injured personnel / cover bodies and summon medical ass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Cordon off the area, leave everything 'in-situ'</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Take names of potential witness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Weapon involved 'made safe' (as necessary) and secur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Immediately report the ammunition accident</a:t>
            </a:r>
            <a:endParaRPr b="0" lang="en-US" sz="2800" spc="-1" strike="noStrike">
              <a:solidFill>
                <a:srgbClr val="000000"/>
              </a:solidFill>
              <a:latin typeface="Arial"/>
            </a:endParaRPr>
          </a:p>
        </p:txBody>
      </p:sp>
      <p:sp>
        <p:nvSpPr>
          <p:cNvPr id="14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572AC479-670D-4BC9-B6C3-5819FE806C3C}"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ＭＳ Ｐゴシック"/>
              </a:rPr>
              <a:t>Ammunition Incident Reporting Form</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pic>
        <p:nvPicPr>
          <p:cNvPr id="146" name="Picture 2" descr=""/>
          <p:cNvPicPr/>
          <p:nvPr/>
        </p:nvPicPr>
        <p:blipFill>
          <a:blip r:embed="rId1"/>
          <a:stretch/>
        </p:blipFill>
        <p:spPr>
          <a:xfrm>
            <a:off x="1398600" y="1270080"/>
            <a:ext cx="6249960" cy="4522680"/>
          </a:xfrm>
          <a:prstGeom prst="rect">
            <a:avLst/>
          </a:prstGeom>
          <a:ln w="0">
            <a:noFill/>
          </a:ln>
        </p:spPr>
      </p:pic>
      <p:sp>
        <p:nvSpPr>
          <p:cNvPr id="14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54CFAFB1-5D21-488D-8574-9CAF7709C73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ＭＳ Ｐゴシック"/>
              </a:rPr>
              <a:t>Investigation Authority Requirements</a:t>
            </a:r>
            <a:endParaRPr b="1" lang="en-US" sz="3200" spc="-1" strike="noStrike">
              <a:solidFill>
                <a:srgbClr val="000000"/>
              </a:solidFill>
              <a:latin typeface="Arial"/>
            </a:endParaRPr>
          </a:p>
        </p:txBody>
      </p:sp>
      <p:sp>
        <p:nvSpPr>
          <p:cNvPr id="149" name=""/>
          <p:cNvSpPr txBox="1"/>
          <p:nvPr/>
        </p:nvSpPr>
        <p:spPr>
          <a:xfrm>
            <a:off x="739440" y="1600200"/>
            <a:ext cx="7947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Investigation Author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Appointed by the ammunition stockpile management organis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aintain a pool of competent, experienced personn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Devise and promulgate a Reporting For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Appoint a technical investigator for each incident</a:t>
            </a:r>
            <a:endParaRPr b="0" lang="en-US" sz="2800" spc="-1" strike="noStrike">
              <a:solidFill>
                <a:srgbClr val="000000"/>
              </a:solidFill>
              <a:latin typeface="Arial"/>
            </a:endParaRPr>
          </a:p>
        </p:txBody>
      </p:sp>
      <p:sp>
        <p:nvSpPr>
          <p:cNvPr id="15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14DC1624-E4DF-42CF-AD45-CAFE708F6351}"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The Technical Investigator</a:t>
            </a:r>
            <a:endParaRPr b="1" lang="en-US" sz="3600" spc="-1" strike="noStrike">
              <a:solidFill>
                <a:srgbClr val="000000"/>
              </a:solidFill>
              <a:latin typeface="Arial"/>
            </a:endParaRPr>
          </a:p>
        </p:txBody>
      </p:sp>
      <p:sp>
        <p:nvSpPr>
          <p:cNvPr id="152" name=""/>
          <p:cNvSpPr txBox="1"/>
          <p:nvPr/>
        </p:nvSpPr>
        <p:spPr>
          <a:xfrm>
            <a:off x="720720" y="1600200"/>
            <a:ext cx="7966080" cy="45259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Examine the scene of the ammunition accid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Examine any weapon invol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Visually inspect any pieces of the ammunition invol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Recover pieces of ammunition/destroy if unsafe to mov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Examine other ammunition of the same type/lot/batch</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Question any appropriate wit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ake an initial technical appraisal of the cau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F1998FE4-48EC-4764-BFA8-2004E7D43D0F}"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The Technical Investigator</a:t>
            </a:r>
            <a:endParaRPr b="1" lang="en-US" sz="3600" spc="-1" strike="noStrike">
              <a:solidFill>
                <a:srgbClr val="000000"/>
              </a:solidFill>
              <a:latin typeface="Arial"/>
            </a:endParaRPr>
          </a:p>
        </p:txBody>
      </p:sp>
      <p:sp>
        <p:nvSpPr>
          <p:cNvPr id="155" name=""/>
          <p:cNvSpPr txBox="1"/>
          <p:nvPr/>
        </p:nvSpPr>
        <p:spPr>
          <a:xfrm>
            <a:off x="720720" y="1600200"/>
            <a:ext cx="79660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Recommend appropriate bans or constraint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If appropriate, impose an immediate local ba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ubmit a written ammunition accident re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B4AA1371-13C3-4F5F-BEA7-2D49C11B0C76}"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09:11:23Z</dcterms:created>
  <dc:creator>Adrian Wilkinson</dc:creator>
  <dc:description/>
  <dc:language>en-US</dc:language>
  <cp:lastModifiedBy>Adrian Wilkinson</cp:lastModifiedBy>
  <dcterms:modified xsi:type="dcterms:W3CDTF">2012-05-22T16:40:59Z</dcterms:modified>
  <cp:revision>49</cp:revision>
  <dc:subject/>
  <dc:title>Title</dc:title>
</cp:coreProperties>
</file>