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22DA-92A9-4489-8BDB-A0758153D9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do an exercise which will practice you in the important matter of security of magaz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ill take 5 minutes to brief you and to let you review the scenario.  </a:t>
            </a:r>
            <a:r>
              <a:rPr b="0" lang="en-GB" sz="1200" spc="-1" strike="noStrike">
                <a:solidFill>
                  <a:srgbClr val="ff0000"/>
                </a:solidFill>
                <a:latin typeface="Calibri"/>
              </a:rPr>
              <a:t>The general scenario for this exercise is provided in the handouts for this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30 minutes to conduct a risk assessment and to prepare a first draft of a Security Pl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10 minutes to review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F368-076A-407E-897A-205749269F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 3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XERCISE (3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is exercise is based on the same scenario in your handou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 deployed on a UN Peace Keeping mission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ork with a UN military liaison and training team.  The team comprises 20 UN military staff and 3 UN civilian officials.  This team is based in an old police station complex just outside a large village.  It is envisaged that this police station will be a base for the team for the duration of the UN deployment, likely to be for around 2 years or mo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ace in the area is fragile.  There is a rebel force that operates some 100 miles away but, to date, they have not made any incursions closer than 50 miles to the village.  The local village population are understandably scared though and they see the UN team as a source of protection, although they are uncertain that the UN would actually physically protect them from rebel attac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an ammunition store at the old police station.  The team relies on this ammunition for its own protection, as the nearest other UN force is approximately 50 minutes away by jee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due to be inspected next week by the UN Force</a:t>
            </a:r>
            <a:r>
              <a:rPr b="0" lang="ja-JP" sz="1200" spc="-1" strike="noStrike">
                <a:solidFill>
                  <a:srgbClr val="000000"/>
                </a:solidFill>
                <a:latin typeface="Calibri"/>
              </a:rPr>
              <a:t>’</a:t>
            </a:r>
            <a:r>
              <a:rPr b="0" lang="en-GB" sz="1200" spc="-1" strike="noStrike">
                <a:solidFill>
                  <a:srgbClr val="000000"/>
                </a:solidFill>
                <a:latin typeface="Calibri"/>
              </a:rPr>
              <a:t>s Ammunition Technical Officer (ATO).  You are now the security officer for the site, as the previous security officer contracted a serious case of blood poisoning and was evacuated ho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decide you need to do some work regarding the security of the ammunition to prepare for this inspection.  You haven</a:t>
            </a:r>
            <a:r>
              <a:rPr b="0" lang="ja-JP" sz="1200" spc="-1" strike="noStrike">
                <a:solidFill>
                  <a:srgbClr val="000000"/>
                </a:solidFill>
                <a:latin typeface="Calibri"/>
              </a:rPr>
              <a:t>’</a:t>
            </a:r>
            <a:r>
              <a:rPr b="0" lang="en-GB" sz="1200" spc="-1" strike="noStrike">
                <a:solidFill>
                  <a:srgbClr val="000000"/>
                </a:solidFill>
                <a:latin typeface="Calibri"/>
              </a:rPr>
              <a:t>t found time to do this previously, but you now have 30 minutes free in your busy schedule to consider the probl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Students should  now be given 4 minutes to read over the documentation and ask any clarification questions if they have an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EXERCISE TASKS</a:t>
            </a:r>
            <a:r>
              <a:rPr b="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Do a risk assess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Prepare a first draft of a Security Plan, using IATG 09:10, Annex C as a template.  Complete what information you can, and state what information you still require to complete this ta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Launch the students on the work.  They have 3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 following notes may be of use to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students need help, they should consider using the risk assessment flowchart in their handouts. They should use the template from IATG 09:10 for the security pla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udents should consider what elements of the stock in their ammunition store might be considered as ACTO and incorporate this into their assessment.  ACTO is likely to include Small Arms Ammunition, grenades, demolition stores, etc.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currently UN Force regulations for security, however they have misplaced their copy.  They should develop their first draft security plan as best as they ca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they run the practicalities at their unit is largely down to them.  For example, they should decide how keys are manag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0F77-2EC2-41C8-A37D-516E61A4E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a:r>
            <a:r>
              <a:rPr b="1" lang="en-GB" sz="1200" spc="-1" strike="noStrike">
                <a:solidFill>
                  <a:srgbClr val="000000"/>
                </a:solidFill>
                <a:latin typeface="Calibri"/>
              </a:rPr>
              <a:t>10 minutes</a:t>
            </a:r>
            <a:r>
              <a:rPr b="0" lang="en-GB" sz="1200" spc="-1" strike="noStrike">
                <a:solidFill>
                  <a:srgbClr val="000000"/>
                </a:solidFill>
                <a:latin typeface="Calibri"/>
              </a:rPr>
              <a:t>.  Conclude the exercise session.  Review the answers with the students).  </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A265-0BAE-40EA-AB8B-ECABDD80A6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E20D1-F56F-4198-831F-24302377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A39CA-4E84-47A8-A217-068B6C21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CCFF6-BA0F-4E39-8A26-A4EDCA38A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B2065-5015-421F-B540-DA004171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C734-2475-42A4-B8E9-91979D8A4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1F4D-169B-4BC6-BAD7-303FA3BE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93B2-264C-4AA8-A101-BB0054E8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2DAEA-693B-4518-AE30-DB16C38E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7C33A-1E3E-4DDD-87CF-F89F061F5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9C2C9-A4FF-4124-A0B0-74E82191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17D2-CEF3-4702-90F6-21DB853D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52E8-492F-45C9-97F1-7FB1013A2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6D68-3092-4522-9828-BB1F656FA6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of Magazines -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2343345C-26D2-46A6-902F-A4C2D883E07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rcis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1FBF339A-E0D3-471A-A69A-F97CC8CD3C4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 name="Picture 3" descr=""/>
          <p:cNvPicPr/>
          <p:nvPr/>
        </p:nvPicPr>
        <p:blipFill>
          <a:blip r:embed="rId1"/>
          <a:stretch/>
        </p:blipFill>
        <p:spPr>
          <a:xfrm>
            <a:off x="228600" y="1422360"/>
            <a:ext cx="8763120" cy="41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of Exercise</a:t>
            </a:r>
            <a:endParaRPr b="1" lang="en-US" sz="36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589F45C5-44B9-4D5B-AE63-6E229363DB4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53:52Z</dcterms:modified>
  <cp:revision>77</cp:revision>
  <dc:subject/>
  <dc:title>Slide 1</dc:title>
</cp:coreProperties>
</file>