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media/image14.jpeg" ContentType="image/jpeg"/>
  <Override PartName="/ppt/media/image8.png" ContentType="image/png"/>
  <Override PartName="/ppt/media/image11.jpeg" ContentType="image/jpeg"/>
  <Override PartName="/ppt/media/image10.png" ContentType="image/png"/>
  <Override PartName="/ppt/media/image6.jpeg" ContentType="image/jpeg"/>
  <Override PartName="/ppt/media/image7.png" ContentType="image/png"/>
  <Override PartName="/ppt/media/image12.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1F14-A237-4A72-A96B-64E95E7EAF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MALL UNIT STORAGE STRUCTURES - INTRODUCTION: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MALL UNIT STORAGE STRUCTUR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ost Potential Explosion Sites (PES) are a </a:t>
            </a:r>
            <a:r>
              <a:rPr b="0" i="1" lang="en-GB" sz="1200" spc="-1" strike="noStrike">
                <a:solidFill>
                  <a:srgbClr val="000000"/>
                </a:solidFill>
                <a:latin typeface="Calibri"/>
              </a:rPr>
              <a:t>de facto </a:t>
            </a:r>
            <a:r>
              <a:rPr b="0" lang="en-GB" sz="1200" spc="-1" strike="noStrike">
                <a:solidFill>
                  <a:srgbClr val="000000"/>
                </a:solidFill>
                <a:latin typeface="Calibri"/>
              </a:rPr>
              <a:t>potential hazard to personnel, other explosives facilities, and other buildings that are in the vicinity. Correct building design, construction and siting is essential in order to make effective use of the Quantity Distances (QDs) calcul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details the general, and in some case recommended mandatory requirements, for the design of buildings that are to contain explosives for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rious physical effects are produced by an explosion and the aim of explosives storage is to reduce the effects of an explosion should it occur. This is done by a combination of factors such as imposing the correct quantity or separation distances (QD) for the explosives being stored, ensuring that Compatibility Group (CG) mixing rules are adhered to and ensuring the storage building design is sui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5D25-B2DB-4844-8029-77EFFE09B9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DESIGN – PROTECTIVE BUILDINGS FOR PERSONNEL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ildings which are required to provide protection to personnel, such as process buildings and other occupied buildings, and which are inside the Internal Quantity Distance (IQD) for a PES, should be designed to resist blast loadings and penetration by fragments and debris. The following design requirements should be adop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esign considerations should be based on a 90% confidence leve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lections of main supporting structural elements should be limited to 2° support rotations or deflections of span divided by 60. If mild-steel spall plates of suitable thickness are fixed to the internal face of RC surfaces to retain back-face spalling, a maximum support rotation of 4° or deflections of span divided by 30 may be adop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velocity spalling of RC elements or members is unacceptable and should be prevented by the use of spall plates. Low velocity spalling may be accepted provided that it can be shown that it will not be dangerous to personne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glazing hazard standard shall be of low hazard – see Table 6 and Clause 11.11 for glazing specific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EBF9-4FE9-468D-A1C5-D159F83B27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DESIGN – AMMUNITION REQUIRING SPECIAL CONSIDERATION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types of ammunition require special storage consid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ckets and Missil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less tests have shown otherwise rockets and missiles should always be regarded as self-propulsive.  This means that, in the event of an explosive event in the ESH, for example, the rocket motor may become initiated and unintentionally </a:t>
            </a:r>
            <a:r>
              <a:rPr b="0" lang="ja-JP" sz="1200" spc="-1" strike="noStrike">
                <a:solidFill>
                  <a:srgbClr val="000000"/>
                </a:solidFill>
                <a:latin typeface="Calibri"/>
              </a:rPr>
              <a:t>‘</a:t>
            </a:r>
            <a:r>
              <a:rPr b="0" lang="en-GB" sz="1200" spc="-1" strike="noStrike">
                <a:solidFill>
                  <a:srgbClr val="000000"/>
                </a:solidFill>
                <a:latin typeface="Calibri"/>
              </a:rPr>
              <a:t>launch</a:t>
            </a:r>
            <a:r>
              <a:rPr b="0" lang="ja-JP" sz="1200" spc="-1" strike="noStrike">
                <a:solidFill>
                  <a:srgbClr val="000000"/>
                </a:solidFill>
                <a:latin typeface="Calibri"/>
              </a:rPr>
              <a:t>’</a:t>
            </a:r>
            <a:r>
              <a:rPr b="0" lang="en-GB" sz="1200" spc="-1" strike="noStrike">
                <a:solidFill>
                  <a:srgbClr val="000000"/>
                </a:solidFill>
                <a:latin typeface="Calibri"/>
              </a:rPr>
              <a:t> the rocket or missile.  To mitigate this, there is a need to prevent the propulsive item from being allowed to travel beyond the ESH.  There are two main ways to achieve this.  One is to secure the rockets or missiles to the structure itself.  Alternatively, the structure of the ESH can be designed so as to resist the thrust.  This may for example be through the incorporation of a vertically faced barricade which is located close to the building and which is thick enough to prevent penetration by the rocket or miss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st suitable type of structure for storage of ammunition of this type is an igloo. The rockets should be positioned pointing towards the rear or sidewalls. However if the missiles face the door a door barricade may be requi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ockets in a non-propulsive state can be stored in structures suitable for the quantity and HD of the explosives pres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torage of HD 1.1 shaped charge warhea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ials have shown that shaped charge warheads will produce a shaped charge if they are initiated, even in a fire. The jet will be significantly less efficient than the designed effect, but will still be capable of penetrating the walls of any storage struc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warheads should be pointed towards earth backed walls or towards the flo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preferable to have several discrete layers, e.g. cavity walls with a vertical faced and earth backed barricade, between the stored warheads and the free field because this will help to disrupt the j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rger the shaped charge, the more penetrative any formed jet will be and the more difficult it will be to provide effective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no specific QDs recommended to provide protection against the shaped charge effect, even from very large charges, since the jet represents only one fragment. Therefore, provided the above recommendations are followed, HD 1.1 QDs should be appl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D0EB-ACF9-4D1A-83D2-A97C4CA302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STRUCTION MATERIAL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CONSTRUCTION MATERIAL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Backgroun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provides in-depth details of the structural requirements for materials.  For example, it provides detail in a table about the precise grades of soil that may be appropriate, the aggregate size within reinforced concrete, and the grade of structural ste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cannot sensibly go into this much detail in this lesson, but you should be aware of where to find the detai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hort though, the materials that might be expected to be used in the construction of buildings 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rth</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inforced concre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uctural stee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i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re are a number of general principles to be appli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ammable materials shall not be used in explosives facilities and only non-combustible materials shall be used for the construction of facilities containing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construction shall be watertight and all components shall be moisture resistan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xing of equipment to walls and roofs that may be subject to high shock loads should an explosion occur shall be minimised due to the potential debris hazard that could arise from dislodged equipment, potentially with significant veloc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als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for the storage of bulk explosives which may be sensitive to sparks or friction need special consideration as well.  ESH used for storing these materials shall not have any exposed iron, steel, aluminium or aluminium alloy containing more than 1% of magnesium where it may come into contact with explosive substances. Where facilities are used for the storage of bulk explosives sensitive to sparks or friction, </a:t>
            </a:r>
            <a:r>
              <a:rPr b="0" lang="ja-JP" sz="1200" spc="-1" strike="noStrike">
                <a:solidFill>
                  <a:srgbClr val="000000"/>
                </a:solidFill>
                <a:latin typeface="Calibri"/>
              </a:rPr>
              <a:t>‘</a:t>
            </a:r>
            <a:r>
              <a:rPr b="0" lang="en-GB" sz="1200" spc="-1" strike="noStrike">
                <a:solidFill>
                  <a:srgbClr val="000000"/>
                </a:solidFill>
                <a:latin typeface="Calibri"/>
              </a:rPr>
              <a:t>spark resistant</a:t>
            </a:r>
            <a:r>
              <a:rPr b="0" lang="ja-JP" sz="1200" spc="-1" strike="noStrike">
                <a:solidFill>
                  <a:srgbClr val="000000"/>
                </a:solidFill>
                <a:latin typeface="Calibri"/>
              </a:rPr>
              <a:t>’</a:t>
            </a:r>
            <a:r>
              <a:rPr b="0" lang="en-GB" sz="1200" spc="-1" strike="noStrike">
                <a:solidFill>
                  <a:srgbClr val="000000"/>
                </a:solidFill>
                <a:latin typeface="Calibri"/>
              </a:rPr>
              <a:t> aggregates for the floor and walls are to be used in constru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6114-A3EB-48BA-8C2B-0C12700A81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STRUCTION MATERIAL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CONSTRUCTION MATERIAL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some particular points to note, in brief for the time being, regarding constru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of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S roofs should be either all heavy or all light. A heavy roof is defined as being one of at least 150mm thick RC, or its equivalent. Light roofs, which are normally pitched, shall be covered in a frangible material e.g. glass reinforced polyester or light metal shee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loo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oor design loadings shall be adequate to support the stored explosives and materiel handling equipment (MHE). The load area of a pallet will be of the order 10kN/m2 of floor area. In some structures such as igloos storage, stacks up to 5 pallets high may be utilised which may give a loading of 50kN/m2.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make such floors dust free, they should be treated with sodium silicate (ICI Grade P84 or equivalent) or a similar approved sub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facilities, particularly Ammunition Process Buildings, may require to be fitted with conductive or anti-static floo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ternal and Internal Wall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S designed as storehouses do not require any internal or external deco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hot climates, external walls may be painted white to reflect he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building walls should have a smooth finish, free of cracks and crevices and be painted with an oil-based or washable pai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Drain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equate drainage should be provided for all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drains exiting sites where there are exposed explosives such as process buildings, laboratories, etc, should have a suitable and readily accessible trap with removable covers fitted in order to intercept any explosives residues.  Traps and drains shall be regularly cleaned to prevent any build-up of resid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Doo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or construction may vary according to the required degree of protection to stocks from fragments and whether a door barricade is pres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quirements for door materials are set out in Table 7 of IATG 05:20.  Examples include 16mm mild-steel plate, or 50mm mild-steel pl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ks shall comply with the requirements of IATG 09.10 </a:t>
            </a:r>
            <a:r>
              <a:rPr b="0" lang="ja-JP" sz="1200" spc="-1" strike="noStrike">
                <a:solidFill>
                  <a:srgbClr val="000000"/>
                </a:solidFill>
                <a:latin typeface="Calibri"/>
              </a:rPr>
              <a:t>“</a:t>
            </a:r>
            <a:r>
              <a:rPr b="0" lang="en-GB" sz="1200" spc="-1" strike="noStrike">
                <a:solidFill>
                  <a:srgbClr val="000000"/>
                </a:solidFill>
                <a:latin typeface="Calibri"/>
              </a:rPr>
              <a:t>Security principles and systems</a:t>
            </a:r>
            <a:r>
              <a:rPr b="0" lang="ja-JP" sz="1200" spc="-1" strike="noStrike">
                <a:solidFill>
                  <a:srgbClr val="000000"/>
                </a:solidFill>
                <a:latin typeface="Calibri"/>
              </a:rPr>
              <a:t>”</a:t>
            </a:r>
            <a:r>
              <a:rPr b="0" lang="en-GB" sz="1200" spc="-1" strike="noStrike">
                <a:solidFill>
                  <a:srgbClr val="000000"/>
                </a:solidFill>
                <a:latin typeface="Calibri"/>
              </a:rPr>
              <a:t>, although if escape doors (such as fire escape doors) are used, then these should not be locked but should be sec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indows and other glaz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ndows shall not normally be permitted in explosives buildings. Where this is unavoidable they should be as small as possible and (for security) should be non-ope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lying glass is the main cause of injuries in explosive events. It should be a requirement to design all inhabited buildings inside the IBD to resist blast pressures, fragments and debr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ggested materials include laminated glass, polycarbonate, toughened glass (full heat tempered).  Untreated plan glass or wired glass should not be used within the IQD.  However if these are already present, protection should be enhanced through use of </a:t>
            </a:r>
            <a:r>
              <a:rPr b="0" lang="ja-JP" sz="1200" spc="-1" strike="noStrike">
                <a:solidFill>
                  <a:srgbClr val="000000"/>
                </a:solidFill>
                <a:latin typeface="Calibri"/>
              </a:rPr>
              <a:t>“</a:t>
            </a:r>
            <a:r>
              <a:rPr b="0" lang="en-GB" sz="1200" spc="-1" strike="noStrike">
                <a:solidFill>
                  <a:srgbClr val="000000"/>
                </a:solidFill>
                <a:latin typeface="Calibri"/>
              </a:rPr>
              <a:t>anti-shatter film</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bomb-blast net curtain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ntilation and Air Condition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rage and process buildings should be kept as dry and temperate as possible. To assist in the reduction of condensation they should be provided with natural ventilation and, if required, dehumidification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it is necessary to provide air conditioning to meet specified restricted humidity conditions, the plant provided shall comply with national requirements and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a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itable protective shields should be provided to prevent explosives, stores containing explosives, or their packages from coming into contact with any heated surface, pipes or radiators. The protective shields should be designed such that items cannot be placed on them, for example sloping to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Utiliti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tilities to process buildings such as compressed air and any associated plant, water supplies, drainage etc should have pipelines or conduits carrying services that are be colour coded to show the nature of their cont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fting Equip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ildings intended to contain heavy or bulk stores should either be provided with an approved overhead hand operated or electric crane, or the construction of the PES should be such that it will allow for the use of mobile handling, lifting and stacking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ghtening Protec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e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6A5B-C1B8-44FB-8AC4-0F2F31CBFB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LEECTRICAL REQUIREMENTS: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LECTRICAL REQUIREMENT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 requirements are covered in depth at IATG 05.40 </a:t>
            </a:r>
            <a:r>
              <a:rPr b="0" lang="ja-JP" sz="1200" spc="-1" strike="noStrike">
                <a:solidFill>
                  <a:srgbClr val="000000"/>
                </a:solidFill>
                <a:latin typeface="Calibri"/>
              </a:rPr>
              <a:t>“</a:t>
            </a:r>
            <a:r>
              <a:rPr b="0" lang="en-GB" sz="1200" spc="-1" strike="noStrike">
                <a:solidFill>
                  <a:srgbClr val="000000"/>
                </a:solidFill>
                <a:latin typeface="Calibri"/>
              </a:rPr>
              <a:t>Safety standards for electrical installation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ey term to remember though is the </a:t>
            </a:r>
            <a:r>
              <a:rPr b="0" lang="ja-JP" sz="1200" spc="-1" strike="noStrike">
                <a:solidFill>
                  <a:srgbClr val="000000"/>
                </a:solidFill>
                <a:latin typeface="Calibri"/>
              </a:rPr>
              <a:t>“</a:t>
            </a:r>
            <a:r>
              <a:rPr b="0" lang="en-GB" sz="1200" spc="-1" strike="noStrike">
                <a:solidFill>
                  <a:srgbClr val="000000"/>
                </a:solidFill>
                <a:latin typeface="Calibri"/>
              </a:rPr>
              <a:t>Category</a:t>
            </a:r>
            <a:r>
              <a:rPr b="0" lang="ja-JP" sz="1200" spc="-1" strike="noStrike">
                <a:solidFill>
                  <a:srgbClr val="000000"/>
                </a:solidFill>
                <a:latin typeface="Calibri"/>
              </a:rPr>
              <a:t>”</a:t>
            </a:r>
            <a:r>
              <a:rPr b="0" lang="en-GB" sz="1200" spc="-1" strike="noStrike">
                <a:solidFill>
                  <a:srgbClr val="000000"/>
                </a:solidFill>
                <a:latin typeface="Calibri"/>
              </a:rPr>
              <a:t> of electrics. The term </a:t>
            </a:r>
            <a:r>
              <a:rPr b="0" lang="ja-JP" sz="1200" spc="-1" strike="noStrike">
                <a:solidFill>
                  <a:srgbClr val="000000"/>
                </a:solidFill>
                <a:latin typeface="Calibri"/>
              </a:rPr>
              <a:t>‘</a:t>
            </a:r>
            <a:r>
              <a:rPr b="0" lang="en-GB" sz="1200" spc="-1" strike="noStrike">
                <a:solidFill>
                  <a:srgbClr val="000000"/>
                </a:solidFill>
                <a:latin typeface="Calibri"/>
              </a:rPr>
              <a:t>electrical category</a:t>
            </a:r>
            <a:r>
              <a:rPr b="0" lang="ja-JP" sz="1200" spc="-1" strike="noStrike">
                <a:solidFill>
                  <a:srgbClr val="000000"/>
                </a:solidFill>
                <a:latin typeface="Calibri"/>
              </a:rPr>
              <a:t>’</a:t>
            </a:r>
            <a:r>
              <a:rPr b="0" lang="en-GB" sz="1200" spc="-1" strike="noStrike">
                <a:solidFill>
                  <a:srgbClr val="000000"/>
                </a:solidFill>
                <a:latin typeface="Calibri"/>
              </a:rPr>
              <a:t> refers to the standard of electrical installations and equi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quired in an explosive buil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ategories are divided into Categories A, B, C and 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tegory A is the most </a:t>
            </a:r>
            <a:r>
              <a:rPr b="0" lang="ja-JP" sz="1200" spc="-1" strike="noStrike">
                <a:solidFill>
                  <a:srgbClr val="000000"/>
                </a:solidFill>
                <a:latin typeface="Calibri"/>
              </a:rPr>
              <a:t>‘</a:t>
            </a:r>
            <a:r>
              <a:rPr b="0" lang="en-GB" sz="1200" spc="-1" strike="noStrike">
                <a:solidFill>
                  <a:srgbClr val="000000"/>
                </a:solidFill>
                <a:latin typeface="Calibri"/>
              </a:rPr>
              <a:t>protective</a:t>
            </a:r>
            <a:r>
              <a:rPr b="0" lang="ja-JP" sz="1200" spc="-1" strike="noStrike">
                <a:solidFill>
                  <a:srgbClr val="000000"/>
                </a:solidFill>
                <a:latin typeface="Calibri"/>
              </a:rPr>
              <a:t>’</a:t>
            </a:r>
            <a:r>
              <a:rPr b="0" lang="en-GB" sz="1200" spc="-1" strike="noStrike">
                <a:solidFill>
                  <a:srgbClr val="000000"/>
                </a:solidFill>
                <a:latin typeface="Calibri"/>
              </a:rPr>
              <a:t>, and D the lea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t>
            </a:r>
            <a:r>
              <a:rPr b="0" lang="ja-JP" sz="1200" spc="-1" strike="noStrike">
                <a:solidFill>
                  <a:srgbClr val="000000"/>
                </a:solidFill>
                <a:latin typeface="Calibri"/>
              </a:rPr>
              <a:t>‘</a:t>
            </a:r>
            <a:r>
              <a:rPr b="0" lang="en-GB" sz="1200" spc="-1" strike="noStrike">
                <a:solidFill>
                  <a:srgbClr val="000000"/>
                </a:solidFill>
                <a:latin typeface="Calibri"/>
              </a:rPr>
              <a:t>standard</a:t>
            </a:r>
            <a:r>
              <a:rPr b="0" lang="ja-JP" sz="1200" spc="-1" strike="noStrike">
                <a:solidFill>
                  <a:srgbClr val="000000"/>
                </a:solidFill>
                <a:latin typeface="Calibri"/>
              </a:rPr>
              <a:t>’</a:t>
            </a:r>
            <a:r>
              <a:rPr b="0" lang="en-GB" sz="1200" spc="-1" strike="noStrike">
                <a:solidFill>
                  <a:srgbClr val="000000"/>
                </a:solidFill>
                <a:latin typeface="Calibri"/>
              </a:rPr>
              <a:t> for ammunition storage buildings is Cat </a:t>
            </a:r>
            <a:r>
              <a:rPr b="0" lang="ja-JP" sz="1200" spc="-1" strike="noStrike">
                <a:solidFill>
                  <a:srgbClr val="000000"/>
                </a:solidFill>
                <a:latin typeface="Calibri"/>
              </a:rPr>
              <a:t>‘</a:t>
            </a:r>
            <a:r>
              <a:rPr b="0" lang="en-GB" sz="1200" spc="-1" strike="noStrike">
                <a:solidFill>
                  <a:srgbClr val="000000"/>
                </a:solidFill>
                <a:latin typeface="Calibri"/>
              </a:rPr>
              <a:t>C</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0221-123C-48B6-A468-E9D18F3871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C59D-AA01-4527-B900-634982082C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TYPES OF BUILDING - DEPO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purpose of the storage, the amount of ammunition to be stored, the available space, and so on, the type and size of the store might va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likely that larger structures will start to fall under the remit and requirements of ammunition stockpile management, which a different IATG course covers in detail (Course SG3).  However for you reference, a number of photographs are shown which illustrate some of these larger Explosive Store Houses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Briefly explain that the photos represent the types of building that might reasonably be found at a purpose built explosive facility like an ammunition depot.  The intent of this course is not to cover depot storage.  Remind the students they are concerned, on this course, with small unit holdings.  The photos are for reference however.  This may have the benefit, in the case of units that consider large stock holdings to be </a:t>
            </a:r>
            <a:r>
              <a:rPr b="0" lang="ja-JP" sz="1200" spc="-1" strike="noStrike">
                <a:solidFill>
                  <a:srgbClr val="000000"/>
                </a:solidFill>
                <a:latin typeface="Calibri"/>
              </a:rPr>
              <a:t>‘</a:t>
            </a:r>
            <a:r>
              <a:rPr b="0" lang="en-GB" sz="1200" spc="-1" strike="noStrike">
                <a:solidFill>
                  <a:srgbClr val="000000"/>
                </a:solidFill>
                <a:latin typeface="Calibri"/>
              </a:rPr>
              <a:t>ready use</a:t>
            </a:r>
            <a:r>
              <a:rPr b="0" lang="ja-JP" sz="1200" spc="-1" strike="noStrike">
                <a:solidFill>
                  <a:srgbClr val="000000"/>
                </a:solidFill>
                <a:latin typeface="Calibri"/>
              </a:rPr>
              <a:t>’</a:t>
            </a:r>
            <a:r>
              <a:rPr b="0" lang="en-GB" sz="1200" spc="-1" strike="noStrike">
                <a:solidFill>
                  <a:srgbClr val="000000"/>
                </a:solidFill>
                <a:latin typeface="Calibri"/>
              </a:rPr>
              <a:t> ammunition, of prompting them to consider safety and management of such large holdings in a manner more commensurate with depot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s show representations (from top left) of a light structure, a medium walled structure with reinforced roof, an earth covered ESH, and a NATO standard </a:t>
            </a:r>
            <a:r>
              <a:rPr b="0" lang="ja-JP" sz="1200" spc="-1" strike="noStrike">
                <a:solidFill>
                  <a:srgbClr val="000000"/>
                </a:solidFill>
                <a:latin typeface="Calibri"/>
              </a:rPr>
              <a:t>‘</a:t>
            </a:r>
            <a:r>
              <a:rPr b="0" lang="en-GB" sz="1200" spc="-1" strike="noStrike">
                <a:solidFill>
                  <a:srgbClr val="000000"/>
                </a:solidFill>
                <a:latin typeface="Calibri"/>
              </a:rPr>
              <a:t>igloo</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518C-B404-47C8-8D97-C466D965EE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TYPES OF BUILDING – FIELD AND TEMPORARY STORA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circumstances, it may be necessary to store ammunition and explosives in temporary structures, or even in what might be called </a:t>
            </a:r>
            <a:r>
              <a:rPr b="0" lang="ja-JP" sz="1200" spc="-1" strike="noStrike">
                <a:solidFill>
                  <a:srgbClr val="000000"/>
                </a:solidFill>
                <a:latin typeface="Calibri"/>
              </a:rPr>
              <a:t>‘</a:t>
            </a:r>
            <a:r>
              <a:rPr b="0" lang="en-GB" sz="1200" spc="-1" strike="noStrike">
                <a:solidFill>
                  <a:srgbClr val="000000"/>
                </a:solidFill>
                <a:latin typeface="Calibri"/>
              </a:rPr>
              <a:t>tactical</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field</a:t>
            </a:r>
            <a:r>
              <a:rPr b="0" lang="ja-JP" sz="1200" spc="-1" strike="noStrike">
                <a:solidFill>
                  <a:srgbClr val="000000"/>
                </a:solidFill>
                <a:latin typeface="Calibri"/>
              </a:rPr>
              <a:t>’</a:t>
            </a:r>
            <a:r>
              <a:rPr b="0" lang="en-GB" sz="1200" spc="-1" strike="noStrike">
                <a:solidFill>
                  <a:srgbClr val="000000"/>
                </a:solidFill>
                <a:latin typeface="Calibri"/>
              </a:rPr>
              <a:t> condi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graph on the left shows ISO container storage with some improvised traversing – this would be an example of temporary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graph on the right shows an example of field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gain temporary and field storage is a specific type of activity with their own unique risks and problems, and a different set f management skills.  If your ammunition storage is really field or temporary storage, there is another IATG course (SG1) which covers this topic in some detail.  You should consider attending this course, and you should consider treating what you do have as field/temporary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225B-85FD-4874-8795-3CBCE99703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TYPES OF BUILDING – SMALL UNIT AMMUNITION STORAG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uctures which are purpose built for unit ammunition holdings (rather than, say, large scale depot storage) may for example be a single storey,  compartmentalised and flat roofed buil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oof and floor slab are Reinforced Concrete (RC), supported on the external cavity and solid masonry cross-walls. Access into each compartment is through double doors in the front. For security reasons, the inner wall should be constructed of bricks not blocks, unless approval is given by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wings are from IATG 05:20, Annex D, which are provided to assist with the design of such struct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oto shows an actual unit store of this k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artments mean that different types of ammunition can be stored, albeit in small quantities, in a way that is effective for managing the safety risk caused by the nature of the explosive materials.  The separation of the types of explosives and ammunition means that, in the vent of an accident (ie an explosive event), the effects will be more limited that if the stock was all stored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Point out to students the compartments and relate these in the photo to the drawings (front profile drawing is top, plan view drawing is bott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B2F9-BA1D-4990-83AF-E2021CE51B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SMALL UNIT AMMUNITION STORAGE - CONTAINER TRAVERS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way of increasing the ability to mix some types of ammunition which are of different </a:t>
            </a:r>
            <a:r>
              <a:rPr b="0" lang="ja-JP" sz="1200" spc="-1" strike="noStrike">
                <a:solidFill>
                  <a:srgbClr val="000000"/>
                </a:solidFill>
                <a:latin typeface="Calibri"/>
              </a:rPr>
              <a:t>‘</a:t>
            </a:r>
            <a:r>
              <a:rPr b="0" lang="en-GB" sz="1200" spc="-1" strike="noStrike">
                <a:solidFill>
                  <a:srgbClr val="000000"/>
                </a:solidFill>
                <a:latin typeface="Calibri"/>
              </a:rPr>
              <a:t>Compatibility Groups</a:t>
            </a:r>
            <a:r>
              <a:rPr b="0" lang="ja-JP" sz="1200" spc="-1" strike="noStrike">
                <a:solidFill>
                  <a:srgbClr val="000000"/>
                </a:solidFill>
                <a:latin typeface="Calibri"/>
              </a:rPr>
              <a:t>’</a:t>
            </a:r>
            <a:r>
              <a:rPr b="0" lang="en-GB" sz="1200" spc="-1" strike="noStrike">
                <a:solidFill>
                  <a:srgbClr val="000000"/>
                </a:solidFill>
                <a:latin typeface="Calibri"/>
              </a:rPr>
              <a:t> may be to use a container traverse in a building.  If properly used and managed, this can be an effective management tool and an effective risk mitigation measure at the same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xample of a container traverse within an ammunition store is show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verses are covered in detail in IATG 05:30.  This document may also be useful if you have room to build external traverses such as earth mounds or concrete walls, as the Quantity Distances can be reduced further and with this there is an associated reduction in risk to the surrounding area and pop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23F7-8714-497E-A51A-FB9AE31E39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SMALL UNIT AMMUNITION STORAGE – INSIDE THE BUILDING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ide the small unit ammunition storage facility should, as would be expected, be clean, tidy and organised.  The ammunition must be stored properly in its proper authorised packaging, which should be sealed.  The IATG documentation suite provide significant detail on organisation and management of an ammunition store. This includes, among many other things, advice on the use of dunnage and spaces between the ammunition containers and the walls and ceiling, mitigation measures against the effects of climate and the environment, the need to display the Explosive Limit License, the use of container traverses, the use of shelves and racking,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50F3-96F4-41ED-A6DF-2B025CD6BA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BUILDING: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SMALL UNIT AMMUNITION STORAGE BUILDINGS - LICENS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an </a:t>
            </a:r>
            <a:r>
              <a:rPr b="0" lang="ja-JP" sz="1200" spc="-1" strike="noStrike">
                <a:solidFill>
                  <a:srgbClr val="000000"/>
                </a:solidFill>
                <a:latin typeface="Calibri"/>
              </a:rPr>
              <a:t>‘</a:t>
            </a:r>
            <a:r>
              <a:rPr b="0" lang="en-GB" sz="1200" spc="-1" strike="noStrike">
                <a:solidFill>
                  <a:srgbClr val="000000"/>
                </a:solidFill>
                <a:latin typeface="Calibri"/>
              </a:rPr>
              <a:t>Authorised Quantity</a:t>
            </a:r>
            <a:r>
              <a:rPr b="0" lang="ja-JP" sz="1200" spc="-1" strike="noStrike">
                <a:solidFill>
                  <a:srgbClr val="000000"/>
                </a:solidFill>
                <a:latin typeface="Calibri"/>
              </a:rPr>
              <a:t>’</a:t>
            </a:r>
            <a:r>
              <a:rPr b="0" lang="en-GB" sz="1200" spc="-1" strike="noStrike">
                <a:solidFill>
                  <a:srgbClr val="000000"/>
                </a:solidFill>
                <a:latin typeface="Calibri"/>
              </a:rPr>
              <a:t> ELL is to allow for the storage of </a:t>
            </a:r>
            <a:r>
              <a:rPr b="0" lang="ja-JP" sz="1200" spc="-1" strike="noStrike">
                <a:solidFill>
                  <a:srgbClr val="000000"/>
                </a:solidFill>
                <a:latin typeface="Calibri"/>
              </a:rPr>
              <a:t>‘</a:t>
            </a:r>
            <a:r>
              <a:rPr b="0" lang="en-GB" sz="1200" spc="-1" strike="noStrike">
                <a:solidFill>
                  <a:srgbClr val="000000"/>
                </a:solidFill>
                <a:latin typeface="Calibri"/>
              </a:rPr>
              <a:t>ready use</a:t>
            </a:r>
            <a:r>
              <a:rPr b="0" lang="ja-JP" sz="1200" spc="-1" strike="noStrike">
                <a:solidFill>
                  <a:srgbClr val="000000"/>
                </a:solidFill>
                <a:latin typeface="Calibri"/>
              </a:rPr>
              <a:t>’</a:t>
            </a:r>
            <a:r>
              <a:rPr b="0" lang="en-GB" sz="1200" spc="-1" strike="noStrike">
                <a:solidFill>
                  <a:srgbClr val="000000"/>
                </a:solidFill>
                <a:latin typeface="Calibri"/>
              </a:rPr>
              <a:t> ammunition within buildings that are not specifically designed for ammunition storage (e.g. a police station, unit guardroom or training sto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uthorised Quantity licence should always specify the details of the types of ammunition that may be stored, and by what quantity for eac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limit permissible under an Authorised Quantity licence is an NEQ of 25kg for Hazard Division (HD) 1.2 and HD 1.3, or any quantity of HD 1.4.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the usual maximum that is often applied is a maximum limit of 10kg of HD 1.2 or HD 1.3, although up to 25kg of HD 1.4 ammunition may be per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38DA-C503-4395-A5D2-26DB787480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DESIGN CONSIDERATION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5:20 provides detail of design considerations. The design considerations in IATG 05:20 will need to be modified to meet national authority legal requirements.  They should however be viewed as best practice and they are in line with the highest standards of ammunition storage and safety principles. </a:t>
            </a:r>
            <a:r>
              <a:rPr b="0" lang="ja-JP" sz="1200" spc="-1" strike="noStrike">
                <a:solidFill>
                  <a:srgbClr val="000000"/>
                </a:solidFill>
                <a:latin typeface="Calibri"/>
              </a:rPr>
              <a:t>‘</a:t>
            </a:r>
            <a:r>
              <a:rPr b="0" lang="en-GB" sz="1200" spc="-1" strike="noStrike">
                <a:solidFill>
                  <a:srgbClr val="000000"/>
                </a:solidFill>
                <a:latin typeface="Calibri"/>
              </a:rPr>
              <a:t>Standard</a:t>
            </a:r>
            <a:r>
              <a:rPr b="0" lang="ja-JP" sz="1200" spc="-1" strike="noStrike">
                <a:solidFill>
                  <a:srgbClr val="000000"/>
                </a:solidFill>
                <a:latin typeface="Calibri"/>
              </a:rPr>
              <a:t>’</a:t>
            </a:r>
            <a:r>
              <a:rPr b="0" lang="en-GB" sz="1200" spc="-1" strike="noStrike">
                <a:solidFill>
                  <a:srgbClr val="000000"/>
                </a:solidFill>
                <a:latin typeface="Calibri"/>
              </a:rPr>
              <a:t> international best practice design specifications and detailed structural drawings may be found at the </a:t>
            </a:r>
            <a:r>
              <a:rPr b="0" lang="ja-JP" sz="1200" spc="-1" strike="noStrike">
                <a:solidFill>
                  <a:srgbClr val="000000"/>
                </a:solidFill>
                <a:latin typeface="Calibri"/>
              </a:rPr>
              <a:t>“</a:t>
            </a:r>
            <a:r>
              <a:rPr b="0" lang="en-GB" sz="1200" spc="-1" strike="noStrike">
                <a:solidFill>
                  <a:srgbClr val="000000"/>
                </a:solidFill>
                <a:latin typeface="Calibri"/>
              </a:rPr>
              <a:t>Whole Building Design Guide</a:t>
            </a:r>
            <a:r>
              <a:rPr b="0" lang="ja-JP" sz="1200" spc="-1" strike="noStrike">
                <a:solidFill>
                  <a:srgbClr val="000000"/>
                </a:solidFill>
                <a:latin typeface="Calibri"/>
              </a:rPr>
              <a:t>”</a:t>
            </a:r>
            <a:r>
              <a:rPr b="0" lang="en-GB" sz="1200" spc="-1" strike="noStrike">
                <a:solidFill>
                  <a:srgbClr val="000000"/>
                </a:solidFill>
                <a:latin typeface="Calibri"/>
              </a:rPr>
              <a:t> (WBDG)  web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the salient points in this part of the les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facilities should be constructed so as to provide a specified level of protection against the hazards of accidental explosive events in an adjacent facility. The type of structure provided will depend on the protection level required and the type and quantity of explosives sto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ADB6-A638-454F-B2A8-9019EA2C6C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DESIGN CONSIDERATIONS: (4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DESIGN – EXPLOSIVE STORAGE (7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tructural form of the storage or processing building will depend upon the anticipated blast loading acting on the structure and the anticipated fragment and debris distribution will determine if the roof and walls require reinforcing and the need for travers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there are certain standard design requirements that should be applied to any explosive storage.  These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should be designed so that they are easy to keep clean and ensure that dirt and dust is kept to a bare minimu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ust be adequate access to the facility and individual explosives stacks to enable ease of checking and movement of the explosives and to provide the free movement of air between stacks to assist with moisture contro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possible, fixtures and fittings should be located so that they cannot be fouled by MHE or other equipment. If this is not possible, fixtures and fittings should be suitably protect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ctrical equipment should be designed for any unique hazards that might exist, explosive dusts, gases or vapours from processes being performed or the material being stor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ounding and bonding for static charge contro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htning protection consideration, especially if in an area where lightning strikes present a threat. Lightning protection can be constructed integral to the design of the structure, such as with an igloo where reinforcing steel in all the walls can be tied together to form a protective barrier</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ngways should be provided between stacks and the wall of an explosives storehouse. They should be permanently marked on the floor as a sterile area using yellow hatched marking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storehouses should be designed and equipped so that the inside temperature does not fall below 5°C or rises above 25°C. If these temperature conditions cannot be met, artificial heating or air conditioning to an approved standard should be install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rrounding area must be free of flammable materials. Undergrowth should be kept close cropped to the ground. Grass should very short up to 10m from PES. Shrubs, which do not present an undue fire hazard, are permitted inside this distance. The rest of the site should be kept in such a condition so as not to present an undue fire ris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55C2-3F76-471A-98C6-AA0CDD63E4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CE779-EB2C-4982-8326-88A5CF4AE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4FB79-6D76-4732-8B47-B22560ED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6BF41-DCFD-4809-94F6-DB3B56CFE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2EDEF-DC1F-4164-88EF-0FCA6BFC6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63132-41A2-42FC-863C-644EF20E0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07CB-1CCD-4C3A-9BAE-A2EEE056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C5E3-51AC-4CAB-8006-2A64F92C1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F557-7B85-4D9B-A71E-EC3A7CD96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FB64-7D4C-43D0-9F19-0946C3D45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8436-B34B-4B17-A81E-FF26A320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6C04-886F-4D76-BE80-4C9AB9256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18BF-9DB1-4BDC-8174-CBD40B8A3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5C4C-A8FB-4F60-B1AC-DB2984FF66D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Storage Structur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9F68EA8C-E1CC-4D2B-827F-65744AE476C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Protective Buildings for Personnel</a:t>
            </a:r>
            <a:endParaRPr b="1" lang="en-US" sz="3600" spc="-1" strike="noStrike">
              <a:solidFill>
                <a:srgbClr val="000000"/>
              </a:solidFill>
              <a:latin typeface="Arial"/>
            </a:endParaRPr>
          </a:p>
        </p:txBody>
      </p:sp>
      <p:sp>
        <p:nvSpPr>
          <p:cNvPr id="93" name=""/>
          <p:cNvSpPr txBox="1"/>
          <p:nvPr/>
        </p:nvSpPr>
        <p:spPr>
          <a:xfrm>
            <a:off x="761760" y="1600200"/>
            <a:ext cx="8001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s which are required to provide protection to personnel, such as process buildings and other occupied buildings, and which are inside the Internal Quantity Distance (IQD) for a PES, should be designed to resist blast loadings and penetration by fragments and debris</a:t>
            </a:r>
            <a:endParaRPr b="0" lang="en-US" sz="2800" spc="-1" strike="noStrike">
              <a:solidFill>
                <a:srgbClr val="000000"/>
              </a:solidFill>
              <a:latin typeface="Arial"/>
            </a:endParaRPr>
          </a:p>
        </p:txBody>
      </p:sp>
      <p:sp>
        <p:nvSpPr>
          <p:cNvPr id="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2763E50C-2CBC-41EF-9176-3283C4BFC4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Ammunition Requiring Special Consideration</a:t>
            </a:r>
            <a:endParaRPr b="1" lang="en-US" sz="3600" spc="-1" strike="noStrike">
              <a:solidFill>
                <a:srgbClr val="000000"/>
              </a:solidFill>
              <a:latin typeface="Arial"/>
            </a:endParaRPr>
          </a:p>
        </p:txBody>
      </p:sp>
      <p:sp>
        <p:nvSpPr>
          <p:cNvPr id="9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ckets and missil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1.1 shaped charge warheads</a:t>
            </a:r>
            <a:endParaRPr b="0" lang="en-US" sz="2800" spc="-1" strike="noStrike">
              <a:solidFill>
                <a:srgbClr val="000000"/>
              </a:solidFill>
              <a:latin typeface="Arial"/>
            </a:endParaRPr>
          </a:p>
        </p:txBody>
      </p:sp>
      <p:sp>
        <p:nvSpPr>
          <p:cNvPr id="9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A420DAA4-D3BD-48AB-8A96-BE7FBDA06F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uction Materials</a:t>
            </a:r>
            <a:endParaRPr b="1" lang="en-US" sz="3600" spc="-1" strike="noStrike">
              <a:solidFill>
                <a:srgbClr val="000000"/>
              </a:solidFill>
              <a:latin typeface="Arial"/>
            </a:endParaRPr>
          </a:p>
        </p:txBody>
      </p:sp>
      <p:sp>
        <p:nvSpPr>
          <p:cNvPr id="9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05:2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flammable material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tight constr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ing of equipment to walls and roofs </a:t>
            </a:r>
            <a:endParaRPr b="0" lang="en-US" sz="2800" spc="-1" strike="noStrike">
              <a:solidFill>
                <a:srgbClr val="000000"/>
              </a:solidFill>
              <a:latin typeface="Arial"/>
            </a:endParaRPr>
          </a:p>
        </p:txBody>
      </p:sp>
      <p:sp>
        <p:nvSpPr>
          <p:cNvPr id="10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48265B2E-7F40-4B6C-AC26-17A5120207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uction Materials</a:t>
            </a:r>
            <a:endParaRPr b="1" lang="en-US" sz="3600" spc="-1" strike="noStrike">
              <a:solidFill>
                <a:srgbClr val="000000"/>
              </a:solidFill>
              <a:latin typeface="Arial"/>
            </a:endParaRPr>
          </a:p>
        </p:txBody>
      </p:sp>
      <p:sp>
        <p:nvSpPr>
          <p:cNvPr id="102" name=""/>
          <p:cNvSpPr txBox="1"/>
          <p:nvPr/>
        </p:nvSpPr>
        <p:spPr>
          <a:xfrm>
            <a:off x="761760" y="1600200"/>
            <a:ext cx="373356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of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or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and internal wall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inag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ors</a:t>
            </a:r>
            <a:endParaRPr b="0" lang="en-US" sz="2600" spc="-1" strike="noStrike">
              <a:solidFill>
                <a:srgbClr val="000000"/>
              </a:solidFill>
              <a:latin typeface="Arial"/>
            </a:endParaRPr>
          </a:p>
        </p:txBody>
      </p:sp>
      <p:sp>
        <p:nvSpPr>
          <p:cNvPr id="103" name=""/>
          <p:cNvSpPr txBox="1"/>
          <p:nvPr/>
        </p:nvSpPr>
        <p:spPr>
          <a:xfrm>
            <a:off x="4952520" y="1569960"/>
            <a:ext cx="396252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dows and other glaz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ntilation and air conditio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ting and utiliti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ting equipment</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ening protection</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1BA0F4C6-2190-4A59-96FF-F96EF004A73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ical Requirements</a:t>
            </a:r>
            <a:endParaRPr b="1" lang="en-US" sz="3600" spc="-1" strike="noStrike">
              <a:solidFill>
                <a:srgbClr val="000000"/>
              </a:solidFill>
              <a:latin typeface="Arial"/>
            </a:endParaRPr>
          </a:p>
        </p:txBody>
      </p:sp>
      <p:sp>
        <p:nvSpPr>
          <p:cNvPr id="10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ego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most </a:t>
            </a:r>
            <a:r>
              <a:rPr b="0" lang="ja-JP" sz="2400" spc="-1" strike="noStrike">
                <a:solidFill>
                  <a:srgbClr val="000000"/>
                </a:solidFill>
                <a:latin typeface="Arial"/>
              </a:rPr>
              <a:t>‘</a:t>
            </a:r>
            <a:r>
              <a:rPr b="0" lang="en-GB" sz="2400" spc="-1" strike="noStrike">
                <a:solidFill>
                  <a:srgbClr val="000000"/>
                </a:solidFill>
                <a:latin typeface="Arial"/>
              </a:rPr>
              <a:t>protective</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 (standard for ammunition storage build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EC821723-AAC1-4F1B-8557-4C8A44CA1D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0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87B575C0-9E36-487D-9862-DF149A8BA53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Depots</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Content Placeholder 3" descr=""/>
          <p:cNvPicPr/>
          <p:nvPr/>
        </p:nvPicPr>
        <p:blipFill>
          <a:blip r:embed="rId1"/>
          <a:stretch/>
        </p:blipFill>
        <p:spPr>
          <a:xfrm>
            <a:off x="4713120" y="3543480"/>
            <a:ext cx="2762280" cy="2071440"/>
          </a:xfrm>
          <a:prstGeom prst="rect">
            <a:avLst/>
          </a:prstGeom>
          <a:ln w="0">
            <a:noFill/>
          </a:ln>
        </p:spPr>
      </p:pic>
      <p:pic>
        <p:nvPicPr>
          <p:cNvPr id="56" name="Picture 4" descr=""/>
          <p:cNvPicPr/>
          <p:nvPr/>
        </p:nvPicPr>
        <p:blipFill>
          <a:blip r:embed="rId2"/>
          <a:stretch/>
        </p:blipFill>
        <p:spPr>
          <a:xfrm>
            <a:off x="1371600" y="3557520"/>
            <a:ext cx="2743200" cy="2057400"/>
          </a:xfrm>
          <a:prstGeom prst="rect">
            <a:avLst/>
          </a:prstGeom>
          <a:ln w="0">
            <a:noFill/>
          </a:ln>
        </p:spPr>
      </p:pic>
      <p:pic>
        <p:nvPicPr>
          <p:cNvPr id="57" name="Content Placeholder 3" descr=""/>
          <p:cNvPicPr/>
          <p:nvPr/>
        </p:nvPicPr>
        <p:blipFill>
          <a:blip r:embed="rId3"/>
          <a:stretch/>
        </p:blipFill>
        <p:spPr>
          <a:xfrm>
            <a:off x="4619520" y="1523880"/>
            <a:ext cx="2949840" cy="1835280"/>
          </a:xfrm>
          <a:prstGeom prst="rect">
            <a:avLst/>
          </a:prstGeom>
          <a:ln w="0">
            <a:noFill/>
          </a:ln>
        </p:spPr>
      </p:pic>
      <p:pic>
        <p:nvPicPr>
          <p:cNvPr id="58" name="Picture 7" descr=""/>
          <p:cNvPicPr/>
          <p:nvPr/>
        </p:nvPicPr>
        <p:blipFill>
          <a:blip r:embed="rId4"/>
          <a:stretch/>
        </p:blipFill>
        <p:spPr>
          <a:xfrm>
            <a:off x="1371600" y="1523880"/>
            <a:ext cx="2743200" cy="1835280"/>
          </a:xfrm>
          <a:prstGeom prst="rect">
            <a:avLst/>
          </a:prstGeom>
          <a:ln w="0">
            <a:noFill/>
          </a:ln>
        </p:spPr>
      </p:pic>
      <p:sp>
        <p:nvSpPr>
          <p:cNvPr id="5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7FEBDB55-4521-4806-BA6D-58C3979FAB5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a:t>
            </a:r>
            <a:br>
              <a:rPr sz="3600"/>
            </a:br>
            <a:r>
              <a:rPr b="1" lang="en-GB" sz="3600" spc="-1" strike="noStrike">
                <a:solidFill>
                  <a:srgbClr val="000000"/>
                </a:solidFill>
                <a:latin typeface="Arial"/>
              </a:rPr>
              <a:t>Field and Temporary Storage</a:t>
            </a:r>
            <a:endParaRPr b="1" lang="en-US" sz="36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Content Placeholder 3" descr=""/>
          <p:cNvPicPr/>
          <p:nvPr/>
        </p:nvPicPr>
        <p:blipFill>
          <a:blip r:embed="rId1"/>
          <a:stretch/>
        </p:blipFill>
        <p:spPr>
          <a:xfrm>
            <a:off x="4627440" y="1981080"/>
            <a:ext cx="3645000" cy="2667240"/>
          </a:xfrm>
          <a:prstGeom prst="rect">
            <a:avLst/>
          </a:prstGeom>
          <a:ln w="0">
            <a:noFill/>
          </a:ln>
        </p:spPr>
      </p:pic>
      <p:pic>
        <p:nvPicPr>
          <p:cNvPr id="63" name="Content Placeholder 3" descr=""/>
          <p:cNvPicPr/>
          <p:nvPr/>
        </p:nvPicPr>
        <p:blipFill>
          <a:blip r:embed="rId2"/>
          <a:stretch/>
        </p:blipFill>
        <p:spPr>
          <a:xfrm>
            <a:off x="685800" y="1981080"/>
            <a:ext cx="3641760" cy="2667240"/>
          </a:xfrm>
          <a:prstGeom prst="rect">
            <a:avLst/>
          </a:prstGeom>
          <a:ln w="0">
            <a:noFill/>
          </a:ln>
        </p:spPr>
      </p:pic>
      <p:sp>
        <p:nvSpPr>
          <p:cNvPr id="64" name="TextBox 4"/>
          <p:cNvSpPr/>
          <p:nvPr/>
        </p:nvSpPr>
        <p:spPr>
          <a:xfrm>
            <a:off x="1401840" y="4876920"/>
            <a:ext cx="2209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mporary storage</a:t>
            </a:r>
            <a:endParaRPr b="0" lang="en-US" sz="1800" spc="-1" strike="noStrike">
              <a:solidFill>
                <a:srgbClr val="000000"/>
              </a:solidFill>
              <a:latin typeface="Arial"/>
            </a:endParaRPr>
          </a:p>
        </p:txBody>
      </p:sp>
      <p:sp>
        <p:nvSpPr>
          <p:cNvPr id="65" name="TextBox 10"/>
          <p:cNvSpPr/>
          <p:nvPr/>
        </p:nvSpPr>
        <p:spPr>
          <a:xfrm>
            <a:off x="5154480" y="48769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 storage</a:t>
            </a:r>
            <a:endParaRPr b="0" lang="en-US" sz="18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525A5C6F-7440-4695-AE47-70CD4D968D6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ilding – </a:t>
            </a:r>
            <a:br>
              <a:rPr sz="3600"/>
            </a:br>
            <a:r>
              <a:rPr b="1" lang="en-GB" sz="3600" spc="-1" strike="noStrike">
                <a:solidFill>
                  <a:srgbClr val="000000"/>
                </a:solidFill>
                <a:latin typeface="Arial"/>
              </a:rPr>
              <a:t>Small Unit Ammunition Storag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Picture 2" descr=""/>
          <p:cNvPicPr/>
          <p:nvPr/>
        </p:nvPicPr>
        <p:blipFill>
          <a:blip r:embed="rId1"/>
          <a:stretch/>
        </p:blipFill>
        <p:spPr>
          <a:xfrm>
            <a:off x="4743360" y="1905120"/>
            <a:ext cx="4176720" cy="1019160"/>
          </a:xfrm>
          <a:prstGeom prst="rect">
            <a:avLst/>
          </a:prstGeom>
          <a:ln w="0">
            <a:noFill/>
          </a:ln>
        </p:spPr>
      </p:pic>
      <p:pic>
        <p:nvPicPr>
          <p:cNvPr id="70" name="Picture 3" descr=""/>
          <p:cNvPicPr/>
          <p:nvPr/>
        </p:nvPicPr>
        <p:blipFill>
          <a:blip r:embed="rId2"/>
          <a:stretch/>
        </p:blipFill>
        <p:spPr>
          <a:xfrm>
            <a:off x="4645080" y="3429000"/>
            <a:ext cx="4371840" cy="2438280"/>
          </a:xfrm>
          <a:prstGeom prst="rect">
            <a:avLst/>
          </a:prstGeom>
          <a:ln w="0">
            <a:noFill/>
          </a:ln>
        </p:spPr>
      </p:pic>
      <p:pic>
        <p:nvPicPr>
          <p:cNvPr id="71" name="Picture 3" descr=""/>
          <p:cNvPicPr/>
          <p:nvPr/>
        </p:nvPicPr>
        <p:blipFill>
          <a:blip r:embed="rId3"/>
          <a:stretch/>
        </p:blipFill>
        <p:spPr>
          <a:xfrm>
            <a:off x="295200" y="2124000"/>
            <a:ext cx="4286160" cy="3214800"/>
          </a:xfrm>
          <a:prstGeom prst="rect">
            <a:avLst/>
          </a:prstGeom>
          <a:ln w="0">
            <a:noFill/>
          </a:ln>
        </p:spPr>
      </p:pic>
      <p:sp>
        <p:nvSpPr>
          <p:cNvPr id="7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74BB82BB-1C54-4A27-A13B-06281F3C20E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mall Unit Ammunition Storage – Container Traverses</a:t>
            </a:r>
            <a:endParaRPr b="1" lang="en-US" sz="36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5" name="Picture 2" descr="Copy of containertraverse"/>
          <p:cNvPicPr/>
          <p:nvPr/>
        </p:nvPicPr>
        <p:blipFill>
          <a:blip r:embed="rId1"/>
          <a:stretch/>
        </p:blipFill>
        <p:spPr>
          <a:xfrm>
            <a:off x="1967040" y="1676520"/>
            <a:ext cx="5029200" cy="3771720"/>
          </a:xfrm>
          <a:prstGeom prst="rect">
            <a:avLst/>
          </a:prstGeom>
          <a:ln w="0">
            <a:noFill/>
          </a:ln>
        </p:spPr>
      </p:pic>
      <p:sp>
        <p:nvSpPr>
          <p:cNvPr id="7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D189FB02-9257-4C39-B116-EF20517AE2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mall Unit Ammunition Storage – Inside the Building</a:t>
            </a:r>
            <a:endParaRPr b="1" lang="en-US" sz="36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9" name="Picture 5" descr=""/>
          <p:cNvPicPr/>
          <p:nvPr/>
        </p:nvPicPr>
        <p:blipFill>
          <a:blip r:embed="rId1"/>
          <a:stretch/>
        </p:blipFill>
        <p:spPr>
          <a:xfrm>
            <a:off x="914400" y="2209680"/>
            <a:ext cx="3508200" cy="2406600"/>
          </a:xfrm>
          <a:prstGeom prst="rect">
            <a:avLst/>
          </a:prstGeom>
          <a:ln w="0">
            <a:noFill/>
          </a:ln>
        </p:spPr>
      </p:pic>
      <p:pic>
        <p:nvPicPr>
          <p:cNvPr id="80" name="Picture 6" descr=""/>
          <p:cNvPicPr/>
          <p:nvPr/>
        </p:nvPicPr>
        <p:blipFill>
          <a:blip r:embed="rId2"/>
          <a:stretch/>
        </p:blipFill>
        <p:spPr>
          <a:xfrm>
            <a:off x="4800600" y="2209680"/>
            <a:ext cx="3271680" cy="240660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921258F7-9B27-46B7-9A70-0ECC5342A33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Ammunition Storage Buildings - Licenses</a:t>
            </a:r>
            <a:endParaRPr b="1"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4" name="Picture 2" descr=""/>
          <p:cNvPicPr/>
          <p:nvPr/>
        </p:nvPicPr>
        <p:blipFill>
          <a:blip r:embed="rId1"/>
          <a:stretch/>
        </p:blipFill>
        <p:spPr>
          <a:xfrm>
            <a:off x="2209680" y="1454040"/>
            <a:ext cx="4695840" cy="423720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46D29F6F-C8CB-4E15-B270-23F4AB58CCE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ign Considerations</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05:20</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Building Design Guide (WBDG)</a:t>
            </a:r>
            <a:endParaRPr b="0" lang="en-US" sz="2800" spc="-1" strike="noStrike">
              <a:solidFill>
                <a:srgbClr val="000000"/>
              </a:solidFill>
              <a:latin typeface="Arial"/>
            </a:endParaRPr>
          </a:p>
        </p:txBody>
      </p:sp>
      <p:sp>
        <p:nvSpPr>
          <p:cNvPr id="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CE62BD54-0D68-450E-9C9A-F1AC53D7F2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Design – Explosive Storage</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keep clea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for checking and move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for free movement of ai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ttings located to avoid fouling by MH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equipment appropriate to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ning protec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g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5°C or rises above 25°C</a:t>
            </a:r>
            <a:endParaRPr b="0" lang="en-US" sz="2400" spc="-1" strike="noStrike">
              <a:solidFill>
                <a:srgbClr val="000000"/>
              </a:solidFill>
              <a:latin typeface="Arial"/>
            </a:endParaRPr>
          </a:p>
        </p:txBody>
      </p:sp>
      <p:sp>
        <p:nvSpPr>
          <p:cNvPr id="9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1 Slide </a:t>
            </a:r>
            <a:fld id="{40038FDD-781C-4503-84BA-31E2B868377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48:05Z</dcterms:modified>
  <cp:revision>29</cp:revision>
  <dc:subject/>
  <dc:title>Slide 1</dc:title>
</cp:coreProperties>
</file>