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03F3-3398-4E9D-817B-DF53F211C8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s and constraints on the use, storage, handling, transportation or disposal of conventional ammunition are a fundamental component of a safe, effective and efficient ammunition management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are primarily issued by the conventional ammunition stockpile management organisation to control the issue and use of explosives and ammunition to make sure that the users receive ammunition that 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fe to us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ll perform within the agreed ballistic and performance envelo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traints on the use of ammunition may also be used to protect ammunition stock levels during shortages of certain types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essential for the safety and morale of users that they receive ammunition that they have confidence in; a system of ammunition bans and constraints, instigated by the conventional ammunition stockpile management organisation, ensures th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0E75-9AA8-4965-B1BD-8502C8B2DF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INI EXERCISE: (2 SLIDES, 2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MINI EXERCISE: BANS AND CONSTRAI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et the students to look at their hand-out sheet.  They should take 5 minutes to read through this and assimilate the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et the students to take 5 minutes to answer the three questions on the back of the sheet.  There are prompts for them 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10 minute point, stop the stud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d a discussion group for 5 minutes on their ideas and though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commended solution at this point is to apply a ban, but only on 7.62mm 4B/1T, RG 03-11 Lot </a:t>
            </a:r>
            <a:r>
              <a:rPr b="0" lang="en-GB" sz="1200" spc="-1" strike="noStrike" u="sng">
                <a:solidFill>
                  <a:srgbClr val="000000"/>
                </a:solidFill>
                <a:uFillTx/>
                <a:latin typeface="Calibri"/>
              </a:rPr>
              <a:t>003</a:t>
            </a:r>
            <a:r>
              <a:rPr b="0" lang="en-GB" sz="1200" spc="-1" strike="noStrike">
                <a:solidFill>
                  <a:srgbClr val="000000"/>
                </a:solidFill>
                <a:latin typeface="Calibri"/>
              </a:rPr>
              <a:t>.  This is in recognition of the fact that there is an abnormally high misfire rate.  The cause is not known.  This is a training exercise only.  Furthermore, there is a technical investigator deploying to the scene who should be able to assess the problem.  This will provide further information for the Investigating Authority, who may be able to lift the ban and manage the issue with a constraint, perhaps in the near future.   The unit has sufficient stock of another seemingly fine Lot with which to complete the exerci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final 5 minutes of the mini-exercise session, test their wider appreciation of these matters.  This development is not on their data/question sheets. Tell them that 10 minutes after the ban was promulgated, the staff officer received a phone call from the Officer Commanding the Infantry Battalion deployed on border security on the country</a:t>
            </a:r>
            <a:r>
              <a:rPr b="0" lang="ja-JP" sz="1200" spc="-1" strike="noStrike">
                <a:solidFill>
                  <a:srgbClr val="000000"/>
                </a:solidFill>
                <a:latin typeface="Calibri"/>
              </a:rPr>
              <a:t>’</a:t>
            </a:r>
            <a:r>
              <a:rPr b="0" lang="en-GB" sz="1200" spc="-1" strike="noStrike">
                <a:solidFill>
                  <a:srgbClr val="000000"/>
                </a:solidFill>
                <a:latin typeface="Calibri"/>
              </a:rPr>
              <a:t>s northern border.  50% of his stock of 7.62mm ammunition is made up of Lot 003.  He wants to know why he can</a:t>
            </a:r>
            <a:r>
              <a:rPr b="0" lang="ja-JP" sz="1200" spc="-1" strike="noStrike">
                <a:solidFill>
                  <a:srgbClr val="000000"/>
                </a:solidFill>
                <a:latin typeface="Calibri"/>
              </a:rPr>
              <a:t>’</a:t>
            </a:r>
            <a:r>
              <a:rPr b="0" lang="en-GB" sz="1200" spc="-1" strike="noStrike">
                <a:solidFill>
                  <a:srgbClr val="000000"/>
                </a:solidFill>
                <a:latin typeface="Calibri"/>
              </a:rPr>
              <a:t>t use it as this means he will have insufficient ammunition to meet his deployment liabilities for sentries.  He could potentially rotate the other Lots of ammunition from his ammunition store out to the check points but this would take significant effort and several days.  Ask the students to consider this and lead discussion.  Try to see if there is a majority, or not, either way.  Examples may include insisting the OC rotates his stock and keeping the ban, changing the ban to constraint that only permits operation use only,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is mini-exercise should take 20 minutes in tot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9831-5A34-4331-8181-9F92ACA2BC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E3C4-BC40-4772-8A53-0EAA195E4C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FINITIONS: (3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 BAN (2 min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an on the use of specific conventional ammunition, (which may be at generic type, lot, batch and/or serial number level), should be imposed to prevent the issue or use of conventional ammunition.  In essence, ammunition which is subject to a Ban must not be issued or used at al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FF7F-F1C2-4FBF-AE76-9C3E318736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FINITIONS: (3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 - CONSTRAINT (2 min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traints, (which may be at generic type, lot, batch and/or serial number level), are the imposition of a limitation or restriction in the use, transportation, carriage, issue, storage or inspection of muni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10AB-8C73-42F3-BA6C-40BD8842C7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FINITIONS: (3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BAN v CONSTRAINT – THE DIFFERENC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an means a total block on issue and use of the affected ammunition.  Full sto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constraint allows some use, but prohibits other uses.  This offers some flexibility for managing stocks that may have limitations without having to make that whole stock of that particular ammunition redunda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traints </a:t>
            </a:r>
            <a:r>
              <a:rPr b="0" lang="en-GB" sz="1200" spc="-1" strike="noStrike" u="sng">
                <a:solidFill>
                  <a:srgbClr val="000000"/>
                </a:solidFill>
                <a:uFillTx/>
                <a:latin typeface="Calibri"/>
              </a:rPr>
              <a:t>normally</a:t>
            </a:r>
            <a:r>
              <a:rPr b="0" lang="en-GB" sz="1200" spc="-1" strike="noStrike">
                <a:solidFill>
                  <a:srgbClr val="000000"/>
                </a:solidFill>
                <a:latin typeface="Calibri"/>
              </a:rPr>
              <a:t> remain in force for the life of ammunition, while a </a:t>
            </a:r>
            <a:r>
              <a:rPr b="0" lang="en-GB" sz="1200" spc="-1" strike="noStrike" u="sng">
                <a:solidFill>
                  <a:srgbClr val="000000"/>
                </a:solidFill>
                <a:uFillTx/>
                <a:latin typeface="Calibri"/>
              </a:rPr>
              <a:t>ban</a:t>
            </a:r>
            <a:r>
              <a:rPr b="0" lang="en-GB" sz="1200" spc="-1" strike="noStrike">
                <a:solidFill>
                  <a:srgbClr val="000000"/>
                </a:solidFill>
                <a:latin typeface="Calibri"/>
              </a:rPr>
              <a:t> can be a short-term measure.  That said, a constraint may be short-term if there is a low stock level and this needs managing until more supplies are received.  Alternatively, a ban be long term if, for example, a technical investigation is ongoing but this is difficult and protra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BF9B-2BEF-48A7-8399-3EF326E5A5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ATIONALE: (2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RATIONALE - BANS (2 min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ationale for using bans – as in an outright ban – is to avoid use when there may be safety hazards and risks associated with that particular ammunition type.  Often, bans are used when there is uncertainty about the conditions under which an ammunition nature might malfunction.  Bans can also be applied for similar reasons relating to reliab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ples of situations when a ban might be applied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it is suspected of being the cause of an ammunition accident, irrespective of whether death or injury has been caus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re have been excessive performance failur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defect, which could compromise safety, has been discover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 ammunition is to be withdrawn at the end of its serviceable lif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ideal circumstances, an investigation will identify the failure mode through which the hazard occurs.  In this case, it may be possible to lift the ban if the risk can be managed and is 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DDBA-B23F-4F00-8FFA-B491AA6970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ATIONALE: (2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RATIONALE – CONSTRAINTS (2 min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ay be knowledge about how a safety hazard (or reliability failure) manifests itself.  This may allow use of the affected ammunition within managed limitations, such that the situation which causes the failure mode should not be encounter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different from the kind of situation when a ban may be deemed necessary if there is no or insufficient knowledge about how the failure mode comes ab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traints may be applied to the use, storage, handling, transportation or disposal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xample could be, say, a particular batch of 7.62mm machine gun ammunition which experienced a number of hangfires when used in one type of machine gun at maximum depression.  Investigation identified that this fault would not occur in other types of machine gun in the inventory.  The risk therefore only seems to apply to one weapon system.  The Constraint might therefore state that this particular batch is not to be issued for use, and used in, this weapons system that seems to be affected.  This does however mean that the stock is still acceptable for issue and use in the unaffected weapo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essence, constraints should be used as a tool to run the ammunition management system more efficiently and effective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examples of constraints inclu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orage temperatures to be adhered t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 handling requirem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decision that ammunition is for training use onl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change of shelf life parame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DDC5-627A-47CC-9357-CEBEAF5EF2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S BY USER UNITS: (3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CONTENT AND DISSEMINATION OF A BAN AND CONSTRAINT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 ban or constraint on the use of specific or generic ammunition should contain the following information, which shall be disseminated to users as soon as possi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type and calibre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the specific lot, batch and/or serial number of the ammunition to which the ban or constraint appl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full details of the ban or constraint, which may requi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 a total cessation of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 a limitation which is necessary during use, storage, handling, transportation or dispos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i) a limitation in use during trai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semination of bans and constrai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rganisation responsible for the overall conventional ammunition management system should ensure that an appropriate system is in place that can rapidly alert users to the imposition of an ammunition ban and constraint.  Details of the ban or constraint should reach the user units through this system, in a timely mann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AAD2-754C-4622-9942-6EB01E075E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S BY USER UNITS: (3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ACTION ON NOTIFICATION OF A BAN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s should take the following action when they receive notice of an ammunition ban from the </a:t>
            </a:r>
            <a:r>
              <a:rPr b="0" lang="fr-FR" sz="1200" spc="-1" strike="noStrike">
                <a:solidFill>
                  <a:srgbClr val="000000"/>
                </a:solidFill>
                <a:latin typeface="Calibri"/>
              </a:rPr>
              <a:t>conventionna ammunition stockpile management organis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mark the ammunition packaging or container with the following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 </a:t>
            </a:r>
            <a:r>
              <a:rPr b="0" lang="ja-JP" sz="1200" spc="-1" strike="noStrike">
                <a:solidFill>
                  <a:srgbClr val="000000"/>
                </a:solidFill>
                <a:latin typeface="Calibri"/>
              </a:rPr>
              <a:t>‘</a:t>
            </a:r>
            <a:r>
              <a:rPr b="0" lang="en-GB" sz="1200" spc="-1" strike="noStrike">
                <a:solidFill>
                  <a:srgbClr val="000000"/>
                </a:solidFill>
                <a:latin typeface="Calibri"/>
              </a:rPr>
              <a:t>NOT FOR ISSUE OR USE</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 the ban serial numb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i) any special instructions received with the b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enter the details of the ban in the user</a:t>
            </a:r>
            <a:r>
              <a:rPr b="0" lang="ja-JP" sz="1200" spc="-1" strike="noStrike">
                <a:solidFill>
                  <a:srgbClr val="000000"/>
                </a:solidFill>
                <a:latin typeface="Calibri"/>
              </a:rPr>
              <a:t>’</a:t>
            </a:r>
            <a:r>
              <a:rPr b="0" lang="en-GB" sz="1200" spc="-1" strike="noStrike">
                <a:solidFill>
                  <a:srgbClr val="000000"/>
                </a:solidFill>
                <a:latin typeface="Calibri"/>
              </a:rPr>
              <a:t>s ammunition accou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arrange for the ammunition to be transported to the designated ammunition demilitarization or destruction organisation as requi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5DD2-839D-4023-8003-1ADCB9C248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S BY USER UNITS: (3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ACTION ON NOTIFICATION OF A CONSTRAINT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s should take the following action when they receive notice of a constraint on ammunition use, storage, handling, transportation or disposal from the conventional ammunition stockpile management organis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rk the ammunition packaging or container with the following infor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 the constraint serial numb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ii) details of the constrai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enter the details of the constraint in the user</a:t>
            </a:r>
            <a:r>
              <a:rPr b="0" lang="ja-JP" sz="1200" spc="-1" strike="noStrike">
                <a:solidFill>
                  <a:srgbClr val="000000"/>
                </a:solidFill>
                <a:latin typeface="Calibri"/>
              </a:rPr>
              <a:t>’</a:t>
            </a:r>
            <a:r>
              <a:rPr b="0" lang="en-GB" sz="1200" spc="-1" strike="noStrike">
                <a:solidFill>
                  <a:srgbClr val="000000"/>
                </a:solidFill>
                <a:latin typeface="Calibri"/>
              </a:rPr>
              <a:t>s ammunition accou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8AC5-FE85-4D6D-9C62-BFA6671936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E40FF-9BCF-4232-9754-AD33ED6BF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19899-2C68-4BCC-A64D-DE9C4A28F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16EAD-51AE-480E-B4A8-C6F55CA29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4197D-677C-4F6D-A8D1-80F456E54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605E8-3A06-447F-A80C-738AA189D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AB3B-EE41-4961-8EF4-ED7C11D5F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F9F21-0DFC-4B05-B44F-B368227B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A9945-87C1-4D0D-9FE3-929CE6BEA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36706-AD5E-43EA-8412-45687153A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EE786-B398-49F3-878D-E6A32E148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19C7-F8AC-4A50-9D41-98C0D757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BD5BE-0A5A-4E3B-AC17-C6167AE15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4131-874D-4A1E-B520-08C87709B2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s and Constraint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D9D2EB45-1E3B-4C2C-BCF0-61EEAFBD405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i Exercise:</a:t>
            </a:r>
            <a:br>
              <a:rPr sz="3600"/>
            </a:br>
            <a:r>
              <a:rPr b="1" lang="en-US" sz="3600" spc="-1" strike="noStrike">
                <a:solidFill>
                  <a:srgbClr val="000000"/>
                </a:solidFill>
                <a:latin typeface="Arial"/>
              </a:rPr>
              <a:t>Bans and Constraints</a:t>
            </a:r>
            <a:endParaRPr b="1" lang="en-US" sz="36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3CE962CC-E201-40B8-A948-9EAFF7CE836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93D67094-41F1-42CC-B57D-A2CB0DAAA69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 Ban?</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n on the use of specific conventional ammunition, (which may be at generic type, lot, batch and/or serial number level), should be imposed to prevent the issue or use of conventional ammunition. </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4B6CD7DA-5C5E-475E-82F4-77E7D63D44B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 Constraint?</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 are the imposition of a limitation or restriction in the use, transportation, carriage, issue, storage or inspection of munition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 should be used as a tool for the ammunition management system. </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3A718B2C-4E31-4141-B9CA-5753A5B28BA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n v Constraint</a:t>
            </a:r>
            <a:endParaRPr b="1" lang="en-US" sz="3600" spc="-1" strike="noStrike">
              <a:solidFill>
                <a:srgbClr val="000000"/>
              </a:solidFill>
              <a:latin typeface="Arial"/>
            </a:endParaRPr>
          </a:p>
        </p:txBody>
      </p:sp>
      <p:sp>
        <p:nvSpPr>
          <p:cNvPr id="60" name=""/>
          <p:cNvSpPr txBox="1"/>
          <p:nvPr/>
        </p:nvSpPr>
        <p:spPr>
          <a:xfrm>
            <a:off x="457200" y="1600200"/>
            <a:ext cx="4038480" cy="3581280"/>
          </a:xfrm>
          <a:prstGeom prst="rect">
            <a:avLst/>
          </a:prstGeom>
          <a:noFill/>
          <a:ln w="9360">
            <a:solidFill>
              <a:srgbClr val="000000"/>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IGHT</a:t>
            </a:r>
            <a:endParaRPr b="0" lang="en-US" sz="2800" spc="-1" strike="noStrike">
              <a:solidFill>
                <a:srgbClr val="000000"/>
              </a:solidFill>
              <a:latin typeface="Arial"/>
            </a:endParaRPr>
          </a:p>
        </p:txBody>
      </p:sp>
      <p:sp>
        <p:nvSpPr>
          <p:cNvPr id="61" name=""/>
          <p:cNvSpPr txBox="1"/>
          <p:nvPr/>
        </p:nvSpPr>
        <p:spPr>
          <a:xfrm>
            <a:off x="4648320" y="1600200"/>
            <a:ext cx="4038480" cy="3581280"/>
          </a:xfrm>
          <a:prstGeom prst="rect">
            <a:avLst/>
          </a:prstGeom>
          <a:noFill/>
          <a:ln w="9360">
            <a:solidFill>
              <a:srgbClr val="000000"/>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SOME FLEXIBILITY</a:t>
            </a:r>
            <a:endParaRPr b="0" lang="en-US" sz="2800" spc="-1" strike="noStrike">
              <a:solidFill>
                <a:srgbClr val="000000"/>
              </a:solidFill>
              <a:latin typeface="Arial"/>
            </a:endParaRPr>
          </a:p>
        </p:txBody>
      </p:sp>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2E491731-0788-4893-A90A-F3BC5DF4B62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ionale - Bans</a:t>
            </a:r>
            <a:endParaRPr b="1" lang="en-US" sz="3600" spc="-1" strike="noStrike">
              <a:solidFill>
                <a:srgbClr val="000000"/>
              </a:solidFill>
              <a:latin typeface="Arial"/>
            </a:endParaRPr>
          </a:p>
        </p:txBody>
      </p:sp>
      <p:sp>
        <p:nvSpPr>
          <p:cNvPr id="6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s might be applie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nature is suspected of being the cause of an ammunition accid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re have been excessive performance fail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defect, which could compromise safety, has been discover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mmunition is to be withdrawn at the end of its serviceable </a:t>
            </a:r>
            <a:r>
              <a:rPr b="0" lang="en-US" sz="2000" spc="-1" strike="noStrike">
                <a:solidFill>
                  <a:srgbClr val="000000"/>
                </a:solidFill>
                <a:latin typeface="Arial"/>
              </a:rPr>
              <a:t>life</a:t>
            </a:r>
            <a:endParaRPr b="0" lang="en-US" sz="2000" spc="-1" strike="noStrike">
              <a:solidFill>
                <a:srgbClr val="000000"/>
              </a:solidFill>
              <a:latin typeface="Arial"/>
            </a:endParaRPr>
          </a:p>
        </p:txBody>
      </p:sp>
      <p:sp>
        <p:nvSpPr>
          <p:cNvPr id="6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C7982694-D98A-418C-8775-8810D8A4859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ionale - Constraints</a:t>
            </a:r>
            <a:endParaRPr b="1" lang="en-US" sz="3600" spc="-1" strike="noStrike">
              <a:solidFill>
                <a:srgbClr val="000000"/>
              </a:solidFill>
              <a:latin typeface="Arial"/>
            </a:endParaRPr>
          </a:p>
        </p:txBody>
      </p:sp>
      <p:sp>
        <p:nvSpPr>
          <p:cNvPr id="6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aints may be applied to the use, storage, handling, transportation or disposal of ammunition.  Examp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temperatures to be adhered 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handling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cision that ammunition is for training use onl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000" spc="-1" strike="noStrike">
                <a:solidFill>
                  <a:srgbClr val="000000"/>
                </a:solidFill>
                <a:latin typeface="Arial"/>
              </a:rPr>
              <a:t>change of shelf life parameters</a:t>
            </a:r>
            <a:endParaRPr b="0" lang="en-US" sz="2000" spc="-1" strike="noStrike">
              <a:solidFill>
                <a:srgbClr val="000000"/>
              </a:solidFill>
              <a:latin typeface="Arial"/>
            </a:endParaRPr>
          </a:p>
        </p:txBody>
      </p:sp>
      <p:sp>
        <p:nvSpPr>
          <p:cNvPr id="6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A34DA39D-6C65-49B2-ABCB-C75EC91A207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 and Dissemination of a Ban and Constraint</a:t>
            </a:r>
            <a:endParaRPr b="1" lang="en-US" sz="3600" spc="-1" strike="noStrike">
              <a:solidFill>
                <a:srgbClr val="000000"/>
              </a:solidFill>
              <a:latin typeface="Arial"/>
            </a:endParaRPr>
          </a:p>
        </p:txBody>
      </p:sp>
      <p:sp>
        <p:nvSpPr>
          <p:cNvPr id="7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and calibre of ammuni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cific lot, batch and/or serial number of the ammunition to which the ban or constraint applies</a:t>
            </a:r>
            <a:endParaRPr b="0" lang="en-US" sz="2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a:t>
            </a:r>
            <a:r>
              <a:rPr b="0" lang="en-US" sz="2400" spc="-1" strike="noStrike">
                <a:solidFill>
                  <a:srgbClr val="000000"/>
                </a:solidFill>
                <a:latin typeface="Arial"/>
              </a:rPr>
              <a:t>details of the ban or constraint, which may requi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otal cessation of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ation which is necessary during use, storage, handling, transportation or dispos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ation in use during training</a:t>
            </a:r>
            <a:endParaRPr b="0" lang="en-US" sz="2400" spc="-1" strike="noStrike">
              <a:solidFill>
                <a:srgbClr val="000000"/>
              </a:solidFill>
              <a:latin typeface="Arial"/>
            </a:endParaRPr>
          </a:p>
        </p:txBody>
      </p:sp>
      <p:sp>
        <p:nvSpPr>
          <p:cNvPr id="7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681D8C14-CCD5-4B5D-94C2-1D50F6C2D62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on Notification of a Ban</a:t>
            </a:r>
            <a:endParaRPr b="1" lang="en-US" sz="3600" spc="-1" strike="noStrike">
              <a:solidFill>
                <a:srgbClr val="000000"/>
              </a:solidFill>
              <a:latin typeface="Arial"/>
            </a:endParaRPr>
          </a:p>
        </p:txBody>
      </p:sp>
      <p:sp>
        <p:nvSpPr>
          <p:cNvPr id="7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 the ammunition packaging or container:</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000" spc="-1" strike="noStrike">
                <a:solidFill>
                  <a:srgbClr val="000000"/>
                </a:solidFill>
                <a:latin typeface="Arial"/>
              </a:rPr>
              <a:t>i) </a:t>
            </a:r>
            <a:r>
              <a:rPr b="0" lang="ja-JP" sz="2000" spc="-1" strike="noStrike">
                <a:solidFill>
                  <a:srgbClr val="000000"/>
                </a:solidFill>
                <a:latin typeface="Arial"/>
              </a:rPr>
              <a:t>‘</a:t>
            </a:r>
            <a:r>
              <a:rPr b="0" lang="en-GB" sz="2000" spc="-1" strike="noStrike">
                <a:solidFill>
                  <a:srgbClr val="000000"/>
                </a:solidFill>
                <a:latin typeface="Arial"/>
              </a:rPr>
              <a:t>NOT FOR ISSUE OR US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 the ban serial numb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ii) any special instructions received with the ban</a:t>
            </a:r>
            <a:endParaRPr b="0" lang="en-US" sz="20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ter details ban in the ammunition accou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range for the ammunition to be transported to the designated ammunition demilitarization or destruction organisation as required</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616EC31F-1C33-4988-BCB4-AB50D303C4B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 on Notification of a Constraint</a:t>
            </a:r>
            <a:endParaRPr b="1" lang="en-US" sz="3600" spc="-1" strike="noStrike">
              <a:solidFill>
                <a:srgbClr val="000000"/>
              </a:solidFill>
              <a:latin typeface="Arial"/>
            </a:endParaRPr>
          </a:p>
        </p:txBody>
      </p:sp>
      <p:sp>
        <p:nvSpPr>
          <p:cNvPr id="7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 the ammunition packaging or container:</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 the constraint serial numb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i) details of the constrain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ter the details of the constraint in the user</a:t>
            </a:r>
            <a:r>
              <a:rPr b="0" lang="ja-JP" sz="2800" spc="-1" strike="noStrike">
                <a:solidFill>
                  <a:srgbClr val="000000"/>
                </a:solidFill>
                <a:latin typeface="Arial"/>
              </a:rPr>
              <a:t>’</a:t>
            </a:r>
            <a:r>
              <a:rPr b="0" lang="en-GB" sz="2800" spc="-1" strike="noStrike">
                <a:solidFill>
                  <a:srgbClr val="000000"/>
                </a:solidFill>
                <a:latin typeface="Arial"/>
              </a:rPr>
              <a:t>s ammunition accou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6 Slide </a:t>
            </a:r>
            <a:fld id="{5BE67A0C-5FA0-473C-8581-8DFE07CFCF0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5-22T16:19:08Z</dcterms:modified>
  <cp:revision>43</cp:revision>
  <dc:subject/>
  <dc:title>Slide 1</dc:title>
</cp:coreProperties>
</file>