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748DF-54FE-414E-9DDC-5956B9FB088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NTRODU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1 of 1: </a:t>
            </a:r>
            <a:r>
              <a:rPr b="1" lang="en-US" sz="1200" spc="-1" strike="noStrike" u="sng">
                <a:solidFill>
                  <a:srgbClr val="000000"/>
                </a:solidFill>
                <a:uFillTx/>
                <a:latin typeface="Calibri"/>
              </a:rPr>
              <a:t>INTRODUCTION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ns and constraints on the use, storage, handling, transportation or disposal of conventional ammunition are a fundamental component of a safe, effective and efficient ammunition management system.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y are primarily issued by the conventional ammunition stockpile management organisation to control the issue and use of explosives and ammunition to make sure that the users receive ammunition that i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fe to use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ill perform within the agreed ballistic and performance envelop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straints on the use of ammunition may also be used to protect ammunition stock levels during shortages of certain types of ammuni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essential for the safety and morale of users that they receive ammunition that they have confidence in; a system of ammunition bans and constraints, instigated by the conventional ammunition stockpile management organisation, ensures thi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1B0D3-BB56-4C66-8FF9-67ADD464ABC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MINI EXERCISE: (2 SLIDES, 20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2: </a:t>
            </a:r>
            <a:r>
              <a:rPr b="1" lang="en-GB" sz="1200" spc="-1" strike="noStrike" u="sng">
                <a:solidFill>
                  <a:srgbClr val="000000"/>
                </a:solidFill>
                <a:uFillTx/>
                <a:latin typeface="Calibri"/>
              </a:rPr>
              <a:t>MINI EXERCISE: BANS AND CONSTRAI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structo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Get the students to look at their hand-out sheet.  They should take 5 minutes to read through this and assimilate the inform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Get the students to take 5 minutes to answer the three questions on the back of the sheet.  There are prompts for them he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e 10 minute point, stop the studen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ead a discussion group for 5 minutes on their ideas and though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ecommended solution at this point is to apply a ban, but only on 7.62mm 4B/1T, RG 03-11 Lot </a:t>
            </a:r>
            <a:r>
              <a:rPr b="0" lang="en-GB" sz="1200" spc="-1" strike="noStrike" u="sng">
                <a:solidFill>
                  <a:srgbClr val="000000"/>
                </a:solidFill>
                <a:uFillTx/>
                <a:latin typeface="Calibri"/>
              </a:rPr>
              <a:t>003</a:t>
            </a:r>
            <a:r>
              <a:rPr b="0" lang="en-GB" sz="1200" spc="-1" strike="noStrike">
                <a:solidFill>
                  <a:srgbClr val="000000"/>
                </a:solidFill>
                <a:latin typeface="Calibri"/>
              </a:rPr>
              <a:t>.  This is in recognition of the fact that there is an abnormally high misfire rate.  The cause is not known.  This is a training exercise only.  Furthermore, there is a technical investigator deploying to the scene who should be able to assess the problem.  This will provide further information for the Investigating Authority, who may be able to lift the ban and manage the issue with a constraint, perhaps in the near future.   The unit has sufficient stock of another seemingly fine Lot with which to complete the exerci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the final 5 minutes of the mini-exercise session, test their wider appreciation of these matters.  This development is not on their data/question sheets. Tell them that 10 minutes after the ban was promulgated, the staff officer received a phone call from the Officer Commanding the Infantry Battalion deployed on border security on the country</a:t>
            </a:r>
            <a:r>
              <a:rPr b="0" lang="ja-JP" sz="1200" spc="-1" strike="noStrike">
                <a:solidFill>
                  <a:srgbClr val="000000"/>
                </a:solidFill>
                <a:latin typeface="Calibri"/>
              </a:rPr>
              <a:t>’</a:t>
            </a:r>
            <a:r>
              <a:rPr b="0" lang="en-GB" sz="1200" spc="-1" strike="noStrike">
                <a:solidFill>
                  <a:srgbClr val="000000"/>
                </a:solidFill>
                <a:latin typeface="Calibri"/>
              </a:rPr>
              <a:t>s northern border.  50% of his stock of 7.62mm ammunition is made up of Lot 003.  He wants to know why he can</a:t>
            </a:r>
            <a:r>
              <a:rPr b="0" lang="ja-JP" sz="1200" spc="-1" strike="noStrike">
                <a:solidFill>
                  <a:srgbClr val="000000"/>
                </a:solidFill>
                <a:latin typeface="Calibri"/>
              </a:rPr>
              <a:t>’</a:t>
            </a:r>
            <a:r>
              <a:rPr b="0" lang="en-GB" sz="1200" spc="-1" strike="noStrike">
                <a:solidFill>
                  <a:srgbClr val="000000"/>
                </a:solidFill>
                <a:latin typeface="Calibri"/>
              </a:rPr>
              <a:t>t use it as this means he will have insufficient ammunition to meet his deployment liabilities for sentries.  He could potentially rotate the other Lots of ammunition from his ammunition store out to the check points but this would take significant effort and several days.  Ask the students to consider this and lead discussion.  Try to see if there is a majority, or not, either way.  Examples may include insisting the OC rotates his stock and keeping the ban, changing the ban to constraint that only permits operation use only, and so 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his mini-exercise should take 20 minutes in total.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A57A2-F64D-4C4F-B6A2-E90C439E520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e there any questions? 1 slide, 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1C1F5-28C0-4F6B-8A56-50530285267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DEFINITIONS: (3 SLIDES,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3: </a:t>
            </a:r>
            <a:r>
              <a:rPr b="1" lang="en-GB" sz="1200" spc="-1" strike="noStrike" u="sng">
                <a:solidFill>
                  <a:srgbClr val="000000"/>
                </a:solidFill>
                <a:uFillTx/>
                <a:latin typeface="Calibri"/>
              </a:rPr>
              <a:t>DEFINITION - BAN (2 min 30 se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ban on the use of specific conventional ammunition, (which may be at generic type, lot, batch and/or serial number level), should be imposed to prevent the issue or use of conventional ammunition.  In essence, ammunition which is subject to a Ban must not be issued or used at all.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B2F26-269D-4007-B7F8-EE431D8BE17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DEFINITIONS: (3 SLIDES,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3: </a:t>
            </a:r>
            <a:r>
              <a:rPr b="1" lang="en-GB" sz="1200" spc="-1" strike="noStrike" u="sng">
                <a:solidFill>
                  <a:srgbClr val="000000"/>
                </a:solidFill>
                <a:uFillTx/>
                <a:latin typeface="Calibri"/>
              </a:rPr>
              <a:t>DEFINITION - CONSTRAINT (2 min 30 se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straints, (which may be at generic type, lot, batch and/or serial number level), are the imposition of a limitation or restriction in the use, transportation, carriage, issue, storage or inspection of muni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3F11D-4030-4526-9573-AC57CCE4FA7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DEFINITIONS: (3 SLIDES,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3: </a:t>
            </a:r>
            <a:r>
              <a:rPr b="1" lang="en-GB" sz="1200" spc="-1" strike="noStrike" u="sng">
                <a:solidFill>
                  <a:srgbClr val="000000"/>
                </a:solidFill>
                <a:uFillTx/>
                <a:latin typeface="Calibri"/>
              </a:rPr>
              <a:t>BAN v CONSTRAINT – THE DIFFERENCE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Ban means a total block on issue and use of the affected ammunition.  Full stop.</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constraint allows some use, but prohibits other uses.  This offers some flexibility for managing stocks that may have limitations without having to make that whole stock of that particular ammunition redunda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straints </a:t>
            </a:r>
            <a:r>
              <a:rPr b="0" lang="en-GB" sz="1200" spc="-1" strike="noStrike" u="sng">
                <a:solidFill>
                  <a:srgbClr val="000000"/>
                </a:solidFill>
                <a:uFillTx/>
                <a:latin typeface="Calibri"/>
              </a:rPr>
              <a:t>normally</a:t>
            </a:r>
            <a:r>
              <a:rPr b="0" lang="en-GB" sz="1200" spc="-1" strike="noStrike">
                <a:solidFill>
                  <a:srgbClr val="000000"/>
                </a:solidFill>
                <a:latin typeface="Calibri"/>
              </a:rPr>
              <a:t> remain in force for the life of ammunition, while a </a:t>
            </a:r>
            <a:r>
              <a:rPr b="0" lang="en-GB" sz="1200" spc="-1" strike="noStrike" u="sng">
                <a:solidFill>
                  <a:srgbClr val="000000"/>
                </a:solidFill>
                <a:uFillTx/>
                <a:latin typeface="Calibri"/>
              </a:rPr>
              <a:t>ban</a:t>
            </a:r>
            <a:r>
              <a:rPr b="0" lang="en-GB" sz="1200" spc="-1" strike="noStrike">
                <a:solidFill>
                  <a:srgbClr val="000000"/>
                </a:solidFill>
                <a:latin typeface="Calibri"/>
              </a:rPr>
              <a:t> can be a short-term measure.  That said, a constraint may be short-term if there is a low stock level and this needs managing until more supplies are received.  Alternatively, a ban be long term if, for example, a technical investigation is ongoing but this is difficult and protract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30B4D-216E-4ED4-A37B-507101E118E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ATIONALE: (2 SLIDES,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2: </a:t>
            </a:r>
            <a:r>
              <a:rPr b="1" lang="en-GB" sz="1200" spc="-1" strike="noStrike" u="sng">
                <a:solidFill>
                  <a:srgbClr val="000000"/>
                </a:solidFill>
                <a:uFillTx/>
                <a:latin typeface="Calibri"/>
              </a:rPr>
              <a:t>RATIONALE - BANS (2 min 30 se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ationale for using bans – as in an outright ban – is to avoid use when there may be safety hazards and risks associated with that particular ammunition type.  Often, bans are used when there is uncertainty about the conditions under which an ammunition nature might malfunction.  Bans can also be applied for similar reasons relating to reliabilit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amples of situations when a ban might be applied a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it is suspected of being the cause of an ammunition accident, irrespective of whether death or injury has been caused</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there have been excessive performance failure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a defect, which could compromise safety, has been discovered</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the ammunition is to be withdrawn at the end of its serviceable lif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ideal circumstances, an investigation will identify the failure mode through which the hazard occurs.  In this case, it may be possible to lift the ban if the risk can be managed and is tolerab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779F0-7B5D-4D90-86F6-186DB08B0AF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ATIONALE: (2 SLIDES,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2: </a:t>
            </a:r>
            <a:r>
              <a:rPr b="1" lang="en-GB" sz="1200" spc="-1" strike="noStrike" u="sng">
                <a:solidFill>
                  <a:srgbClr val="000000"/>
                </a:solidFill>
                <a:uFillTx/>
                <a:latin typeface="Calibri"/>
              </a:rPr>
              <a:t>RATIONALE – CONSTRAINTS (2 min 30 se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 may be knowledge about how a safety hazard (or reliability failure) manifests itself.  This may allow use of the affected ammunition within managed limitations, such that the situation which causes the failure mode should not be encounter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is different from the kind of situation when a ban may be deemed necessary if there is no or insufficient knowledge about how the failure mode comes abou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straints may be applied to the use, storage, handling, transportation or disposal of ammuni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 example could be, say, a particular batch of 7.62mm machine gun ammunition which experienced a number of hangfires when used in one type of machine gun at maximum depression.  Investigation identified that this fault would not occur in other types of machine gun in the inventory.  The risk therefore only seems to apply to one weapon system.  The Constraint might therefore state that this particular batch is not to be issued for use, and used in, this weapons system that seems to be affected.  This does however mean that the stock is still acceptable for issue and use in the unaffected weapon syste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essence, constraints should be used as a tool to run the ammunition management system more efficiently and effectivel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ther examples of constraints includ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orage temperatures to be adhered to</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pecial handling requirement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decision that ammunition is for training use onl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change of shelf life paramete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4E5B3-2F5B-4190-9693-F1A4A4F9475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ACTIONS BY USER UNITS: (3 SLIDES, 9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3: </a:t>
            </a:r>
            <a:r>
              <a:rPr b="1" lang="en-GB" sz="1200" spc="-1" strike="noStrike" u="sng">
                <a:solidFill>
                  <a:srgbClr val="000000"/>
                </a:solidFill>
                <a:uFillTx/>
                <a:latin typeface="Calibri"/>
              </a:rPr>
              <a:t>CONTENT AND DISSEMINATION OF A BAN AND CONSTRAINT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y ban or constraint on the use of specific or generic ammunition should contain the following information, which shall be disseminated to users as soon as possibl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the type and calibre of ammuni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 the specific lot, batch and/or serial number of the ammunition to which the ban or constraint appl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 full details of the ban or constraint, which may requi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i) a total cessation of u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ii) a limitation which is necessary during use, storage, handling, transportation or dispos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iii) a limitation in use during train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issemination of bans and constrain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organisation responsible for the overall conventional ammunition management system should ensure that an appropriate system is in place that can rapidly alert users to the imposition of an ammunition ban and constraint.  Details of the ban or constraint should reach the user units through this system, in a timely mann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3B6BD-5DAF-49A6-BF88-5EEFEBA6C9E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ACTIONS BY USER UNITS: (3 SLIDES, 9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3: </a:t>
            </a:r>
            <a:r>
              <a:rPr b="1" lang="en-GB" sz="1200" spc="-1" strike="noStrike" u="sng">
                <a:solidFill>
                  <a:srgbClr val="000000"/>
                </a:solidFill>
                <a:uFillTx/>
                <a:latin typeface="Calibri"/>
              </a:rPr>
              <a:t>ACTION ON NOTIFICATION OF A BAN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Users should take the following action when they receive notice of an ammunition ban from the </a:t>
            </a:r>
            <a:r>
              <a:rPr b="0" lang="fr-FR" sz="1200" spc="-1" strike="noStrike">
                <a:solidFill>
                  <a:srgbClr val="000000"/>
                </a:solidFill>
                <a:latin typeface="Calibri"/>
              </a:rPr>
              <a:t>conventionna ammunition stockpile management organis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mark the ammunition packaging or container with the following inform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i) </a:t>
            </a:r>
            <a:r>
              <a:rPr b="0" lang="ja-JP" sz="1200" spc="-1" strike="noStrike">
                <a:solidFill>
                  <a:srgbClr val="000000"/>
                </a:solidFill>
                <a:latin typeface="Calibri"/>
              </a:rPr>
              <a:t>‘</a:t>
            </a:r>
            <a:r>
              <a:rPr b="0" lang="en-GB" sz="1200" spc="-1" strike="noStrike">
                <a:solidFill>
                  <a:srgbClr val="000000"/>
                </a:solidFill>
                <a:latin typeface="Calibri"/>
              </a:rPr>
              <a:t>NOT FOR ISSUE OR USE</a:t>
            </a:r>
            <a:r>
              <a:rPr b="0" lang="ja-JP"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ii) the ban serial numb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iii) any special instructions received with the ba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 enter the details of the ban in the user</a:t>
            </a:r>
            <a:r>
              <a:rPr b="0" lang="ja-JP" sz="1200" spc="-1" strike="noStrike">
                <a:solidFill>
                  <a:srgbClr val="000000"/>
                </a:solidFill>
                <a:latin typeface="Calibri"/>
              </a:rPr>
              <a:t>’</a:t>
            </a:r>
            <a:r>
              <a:rPr b="0" lang="en-GB" sz="1200" spc="-1" strike="noStrike">
                <a:solidFill>
                  <a:srgbClr val="000000"/>
                </a:solidFill>
                <a:latin typeface="Calibri"/>
              </a:rPr>
              <a:t>s ammunition accou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 arrange for the ammunition to be transported to the designated ammunition demilitarization or destruction organisation as requir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F4AF4-EC3C-461D-8C7B-52A88E2EA96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ACTIONS BY USER UNITS: (3 SLIDES, 9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3: </a:t>
            </a:r>
            <a:r>
              <a:rPr b="1" lang="en-GB" sz="1200" spc="-1" strike="noStrike" u="sng">
                <a:solidFill>
                  <a:srgbClr val="000000"/>
                </a:solidFill>
                <a:uFillTx/>
                <a:latin typeface="Calibri"/>
              </a:rPr>
              <a:t>ACTION ON NOTIFICATION OF A CONSTRAINT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Users should take the following action when they receive notice of a constraint on ammunition use, storage, handling, transportation or disposal from the conventional ammunition stockpile management organis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rk the ammunition packaging or container with the following information:</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i) the constraint serial numb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ii) details of the constrai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 enter the details of the constraint in the user</a:t>
            </a:r>
            <a:r>
              <a:rPr b="0" lang="ja-JP" sz="1200" spc="-1" strike="noStrike">
                <a:solidFill>
                  <a:srgbClr val="000000"/>
                </a:solidFill>
                <a:latin typeface="Calibri"/>
              </a:rPr>
              <a:t>’</a:t>
            </a:r>
            <a:r>
              <a:rPr b="0" lang="en-GB" sz="1200" spc="-1" strike="noStrike">
                <a:solidFill>
                  <a:srgbClr val="000000"/>
                </a:solidFill>
                <a:latin typeface="Calibri"/>
              </a:rPr>
              <a:t>s ammunition accou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69B83-603A-455E-8D42-9800B56D27B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525C1-3302-4168-BCA9-216F6EEE59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C496C-E85A-4DBE-96DB-062E30E47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6094E6-FC92-4A63-B02C-73165C245D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BDBA70-90D1-466D-9EAA-CB4D53F35B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05A9B-C19B-4EB2-BFE4-E9EBF1CBD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198B8-2F3B-4C7F-A9EF-394F96474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DE387-7B07-4251-BF78-66B362467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B5DDD-9C1B-47FD-8563-EC7DB1E9C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F4F70-0B7E-4DD9-BFB5-B45ABF1F0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4FCE5-D6B8-41D4-9716-F5B4C9A8E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7E535-0CF3-4656-92E1-9CE57DB1F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75AB6-B261-4A91-A5DA-ED9DA09D82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LOGO-blue"/>
          <p:cNvPicPr/>
          <p:nvPr/>
        </p:nvPicPr>
        <p:blipFill>
          <a:blip r:embed="rId2">
            <a:lum bright="70000" contrast="-70000"/>
          </a:blip>
          <a:stretch/>
        </p:blipFill>
        <p:spPr>
          <a:xfrm>
            <a:off x="3886200" y="1752480"/>
            <a:ext cx="5410080" cy="5410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7A86F-F041-40F4-9527-9F8FCFEA505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9" descr="UNSaferGuardLogo"/>
          <p:cNvPicPr/>
          <p:nvPr/>
        </p:nvPicPr>
        <p:blipFill>
          <a:blip r:embed="rId3"/>
          <a:stretch/>
        </p:blipFill>
        <p:spPr>
          <a:xfrm>
            <a:off x="152280" y="5867280"/>
            <a:ext cx="3353040" cy="58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ns and Constraints</a:t>
            </a:r>
            <a:endParaRPr b="1" lang="en-US" sz="36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2"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6 Slide </a:t>
            </a:r>
            <a:fld id="{121246A6-681E-448E-B958-BDD0193DD51D}"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ni Exercise:</a:t>
            </a:r>
            <a:br>
              <a:rPr sz="3600"/>
            </a:br>
            <a:r>
              <a:rPr b="1" lang="en-US" sz="3600" spc="-1" strike="noStrike">
                <a:solidFill>
                  <a:srgbClr val="000000"/>
                </a:solidFill>
                <a:latin typeface="Arial"/>
              </a:rPr>
              <a:t>Bans and Constraints</a:t>
            </a:r>
            <a:endParaRPr b="1" lang="en-US" sz="3600" spc="-1" strike="noStrike">
              <a:solidFill>
                <a:srgbClr val="000000"/>
              </a:solidFill>
              <a:latin typeface="Arial"/>
            </a:endParaRPr>
          </a:p>
        </p:txBody>
      </p:sp>
      <p:sp>
        <p:nvSpPr>
          <p:cNvPr id="7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0"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6 Slide </a:t>
            </a:r>
            <a:fld id="{71DA3413-B7AD-4138-B16A-17C2DF12183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estions</a:t>
            </a:r>
            <a:endParaRPr b="1" lang="en-US" sz="3600" spc="-1" strike="noStrike">
              <a:solidFill>
                <a:srgbClr val="000000"/>
              </a:solidFill>
              <a:latin typeface="Arial"/>
            </a:endParaRPr>
          </a:p>
        </p:txBody>
      </p:sp>
      <p:sp>
        <p:nvSpPr>
          <p:cNvPr id="8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3"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6 Slide </a:t>
            </a:r>
            <a:fld id="{9A1EB197-9531-4CBA-86D1-A355F1C580D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finition - Ban?</a:t>
            </a:r>
            <a:endParaRPr b="1" lang="en-US" sz="3600" spc="-1" strike="noStrike">
              <a:solidFill>
                <a:srgbClr val="000000"/>
              </a:solidFill>
              <a:latin typeface="Arial"/>
            </a:endParaRPr>
          </a:p>
        </p:txBody>
      </p:sp>
      <p:sp>
        <p:nvSpPr>
          <p:cNvPr id="54" name=""/>
          <p:cNvSpPr txBox="1"/>
          <p:nvPr/>
        </p:nvSpPr>
        <p:spPr>
          <a:xfrm>
            <a:off x="761760" y="1600200"/>
            <a:ext cx="79246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an on the use of specific conventional ammunition, (which may be at generic type, lot, batch and/or serial number level), should be imposed to prevent the issue or use of conventional ammunition. </a:t>
            </a:r>
            <a:endParaRPr b="0" lang="en-US" sz="2800" spc="-1" strike="noStrike">
              <a:solidFill>
                <a:srgbClr val="000000"/>
              </a:solidFill>
              <a:latin typeface="Arial"/>
            </a:endParaRPr>
          </a:p>
        </p:txBody>
      </p:sp>
      <p:sp>
        <p:nvSpPr>
          <p:cNvPr id="55"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6 Slide </a:t>
            </a:r>
            <a:fld id="{CEAA06FA-3231-4DEB-9C79-686DECBAF90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finition - Constraint?</a:t>
            </a:r>
            <a:endParaRPr b="1" lang="en-US" sz="3600" spc="-1" strike="noStrike">
              <a:solidFill>
                <a:srgbClr val="000000"/>
              </a:solidFill>
              <a:latin typeface="Arial"/>
            </a:endParaRPr>
          </a:p>
        </p:txBody>
      </p:sp>
      <p:sp>
        <p:nvSpPr>
          <p:cNvPr id="57"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aints are the imposition of a limitation or restriction in the use, transportation, carriage, issue, storage or inspection of munitions.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aints should be used as a tool for the ammunition management system. </a:t>
            </a:r>
            <a:endParaRPr b="0" lang="en-US" sz="2800" spc="-1" strike="noStrike">
              <a:solidFill>
                <a:srgbClr val="000000"/>
              </a:solidFill>
              <a:latin typeface="Arial"/>
            </a:endParaRPr>
          </a:p>
        </p:txBody>
      </p:sp>
      <p:sp>
        <p:nvSpPr>
          <p:cNvPr id="58"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6 Slide </a:t>
            </a:r>
            <a:fld id="{5FD1CB94-D164-4D58-85C3-C7BC94E2AC2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n v Constraint</a:t>
            </a:r>
            <a:endParaRPr b="1" lang="en-US" sz="3600" spc="-1" strike="noStrike">
              <a:solidFill>
                <a:srgbClr val="000000"/>
              </a:solidFill>
              <a:latin typeface="Arial"/>
            </a:endParaRPr>
          </a:p>
        </p:txBody>
      </p:sp>
      <p:sp>
        <p:nvSpPr>
          <p:cNvPr id="60" name=""/>
          <p:cNvSpPr txBox="1"/>
          <p:nvPr/>
        </p:nvSpPr>
        <p:spPr>
          <a:xfrm>
            <a:off x="457200" y="1600200"/>
            <a:ext cx="4038480" cy="3581280"/>
          </a:xfrm>
          <a:prstGeom prst="rect">
            <a:avLst/>
          </a:prstGeom>
          <a:noFill/>
          <a:ln w="9360">
            <a:solidFill>
              <a:srgbClr val="000000"/>
            </a:solidFill>
            <a:miter/>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RIGHT</a:t>
            </a:r>
            <a:endParaRPr b="0" lang="en-US" sz="2800" spc="-1" strike="noStrike">
              <a:solidFill>
                <a:srgbClr val="000000"/>
              </a:solidFill>
              <a:latin typeface="Arial"/>
            </a:endParaRPr>
          </a:p>
        </p:txBody>
      </p:sp>
      <p:sp>
        <p:nvSpPr>
          <p:cNvPr id="61" name=""/>
          <p:cNvSpPr txBox="1"/>
          <p:nvPr/>
        </p:nvSpPr>
        <p:spPr>
          <a:xfrm>
            <a:off x="4648320" y="1600200"/>
            <a:ext cx="4038480" cy="3581280"/>
          </a:xfrm>
          <a:prstGeom prst="rect">
            <a:avLst/>
          </a:prstGeom>
          <a:noFill/>
          <a:ln w="9360">
            <a:solidFill>
              <a:srgbClr val="000000"/>
            </a:solidFill>
            <a:miter/>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AINT:</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SOME FLEXIBILITY</a:t>
            </a:r>
            <a:endParaRPr b="0" lang="en-US" sz="2800" spc="-1" strike="noStrike">
              <a:solidFill>
                <a:srgbClr val="000000"/>
              </a:solidFill>
              <a:latin typeface="Arial"/>
            </a:endParaRPr>
          </a:p>
        </p:txBody>
      </p:sp>
      <p:sp>
        <p:nvSpPr>
          <p:cNvPr id="62"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6 Slide </a:t>
            </a:r>
            <a:fld id="{8D4E6E30-89E4-4D4B-95EC-9EF0DB4E3B5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tionale - Bans</a:t>
            </a:r>
            <a:endParaRPr b="1" lang="en-US" sz="3600" spc="-1" strike="noStrike">
              <a:solidFill>
                <a:srgbClr val="000000"/>
              </a:solidFill>
              <a:latin typeface="Arial"/>
            </a:endParaRPr>
          </a:p>
        </p:txBody>
      </p:sp>
      <p:sp>
        <p:nvSpPr>
          <p:cNvPr id="64"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s might be applied: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nature is suspected of being the cause of an ammunition accid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re have been excessive performance failur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defect, which could compromise safety, has been discovered</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ammunition is to be withdrawn at the end of its serviceable </a:t>
            </a:r>
            <a:r>
              <a:rPr b="0" lang="en-US" sz="2000" spc="-1" strike="noStrike">
                <a:solidFill>
                  <a:srgbClr val="000000"/>
                </a:solidFill>
                <a:latin typeface="Arial"/>
              </a:rPr>
              <a:t>life</a:t>
            </a:r>
            <a:endParaRPr b="0" lang="en-US" sz="2000" spc="-1" strike="noStrike">
              <a:solidFill>
                <a:srgbClr val="000000"/>
              </a:solidFill>
              <a:latin typeface="Arial"/>
            </a:endParaRPr>
          </a:p>
        </p:txBody>
      </p:sp>
      <p:sp>
        <p:nvSpPr>
          <p:cNvPr id="65"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6 Slide </a:t>
            </a:r>
            <a:fld id="{7CDAE8E4-8718-40A8-96E1-044E1CEF6142}"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tionale - Constraints</a:t>
            </a:r>
            <a:endParaRPr b="1" lang="en-US" sz="3600" spc="-1" strike="noStrike">
              <a:solidFill>
                <a:srgbClr val="000000"/>
              </a:solidFill>
              <a:latin typeface="Arial"/>
            </a:endParaRPr>
          </a:p>
        </p:txBody>
      </p:sp>
      <p:sp>
        <p:nvSpPr>
          <p:cNvPr id="67"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aints may be applied to the use, storage, handling, transportation or disposal of ammunition.  Exampl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age temperatures to be adhered t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handling require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cision that ammunition is for training use onl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000" spc="-1" strike="noStrike">
                <a:solidFill>
                  <a:srgbClr val="000000"/>
                </a:solidFill>
                <a:latin typeface="Arial"/>
              </a:rPr>
              <a:t>change of shelf life parameters</a:t>
            </a:r>
            <a:endParaRPr b="0" lang="en-US" sz="2000" spc="-1" strike="noStrike">
              <a:solidFill>
                <a:srgbClr val="000000"/>
              </a:solidFill>
              <a:latin typeface="Arial"/>
            </a:endParaRPr>
          </a:p>
        </p:txBody>
      </p:sp>
      <p:sp>
        <p:nvSpPr>
          <p:cNvPr id="68"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6 Slide </a:t>
            </a:r>
            <a:fld id="{A894D10A-84C6-419F-9E1E-B6E48ABED4E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tent and Dissemination of a Ban and Constraint</a:t>
            </a:r>
            <a:endParaRPr b="1" lang="en-US" sz="3600" spc="-1" strike="noStrike">
              <a:solidFill>
                <a:srgbClr val="000000"/>
              </a:solidFill>
              <a:latin typeface="Arial"/>
            </a:endParaRPr>
          </a:p>
        </p:txBody>
      </p:sp>
      <p:sp>
        <p:nvSpPr>
          <p:cNvPr id="70"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ype and calibre of ammunition</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pecific lot, batch and/or serial number of the ammunition to which the ban or constraint applies</a:t>
            </a:r>
            <a:endParaRPr b="0" lang="en-US" sz="28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 </a:t>
            </a:r>
            <a:r>
              <a:rPr b="0" lang="en-US" sz="2400" spc="-1" strike="noStrike">
                <a:solidFill>
                  <a:srgbClr val="000000"/>
                </a:solidFill>
                <a:latin typeface="Arial"/>
              </a:rPr>
              <a:t>details of the ban or constraint, which may requi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otal cessation of u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imitation which is necessary during use, storage, handling, transportation or dispos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imitation in use during training</a:t>
            </a:r>
            <a:endParaRPr b="0" lang="en-US" sz="2400" spc="-1" strike="noStrike">
              <a:solidFill>
                <a:srgbClr val="000000"/>
              </a:solidFill>
              <a:latin typeface="Arial"/>
            </a:endParaRPr>
          </a:p>
        </p:txBody>
      </p:sp>
      <p:sp>
        <p:nvSpPr>
          <p:cNvPr id="71"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6 Slide </a:t>
            </a:r>
            <a:fld id="{03A2544C-EFCE-4589-93A3-2047C251703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tion on Notification of a Ban</a:t>
            </a:r>
            <a:endParaRPr b="1" lang="en-US" sz="3600" spc="-1" strike="noStrike">
              <a:solidFill>
                <a:srgbClr val="000000"/>
              </a:solidFill>
              <a:latin typeface="Arial"/>
            </a:endParaRPr>
          </a:p>
        </p:txBody>
      </p:sp>
      <p:sp>
        <p:nvSpPr>
          <p:cNvPr id="73"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rk the ammunition packaging or container:</a:t>
            </a:r>
            <a:endParaRPr b="0" lang="en-US" sz="2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000" spc="-1" strike="noStrike">
                <a:solidFill>
                  <a:srgbClr val="000000"/>
                </a:solidFill>
                <a:latin typeface="Arial"/>
              </a:rPr>
              <a:t>i) </a:t>
            </a:r>
            <a:r>
              <a:rPr b="0" lang="ja-JP" sz="2000" spc="-1" strike="noStrike">
                <a:solidFill>
                  <a:srgbClr val="000000"/>
                </a:solidFill>
                <a:latin typeface="Arial"/>
              </a:rPr>
              <a:t>‘</a:t>
            </a:r>
            <a:r>
              <a:rPr b="0" lang="en-GB" sz="2000" spc="-1" strike="noStrike">
                <a:solidFill>
                  <a:srgbClr val="000000"/>
                </a:solidFill>
                <a:latin typeface="Arial"/>
              </a:rPr>
              <a:t>NOT FOR ISSUE OR USE</a:t>
            </a:r>
            <a:r>
              <a:rPr b="0" lang="ja-JP"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i) the ban serial numbe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ii) any special instructions received with the ban</a:t>
            </a:r>
            <a:endParaRPr b="0" lang="en-US" sz="20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ter details ban in the ammunition account</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rrange for the ammunition to be transported to the designated ammunition demilitarization or destruction organisation as required</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6 Slide </a:t>
            </a:r>
            <a:fld id="{2688B8F5-E41E-4F9B-A71F-6E04740CBF82}"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tion on Notification of a Constraint</a:t>
            </a:r>
            <a:endParaRPr b="1" lang="en-US" sz="3600" spc="-1" strike="noStrike">
              <a:solidFill>
                <a:srgbClr val="000000"/>
              </a:solidFill>
              <a:latin typeface="Arial"/>
            </a:endParaRPr>
          </a:p>
        </p:txBody>
      </p:sp>
      <p:sp>
        <p:nvSpPr>
          <p:cNvPr id="76"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rk the ammunition packaging or container:</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400" spc="-1" strike="noStrike">
                <a:solidFill>
                  <a:srgbClr val="000000"/>
                </a:solidFill>
                <a:latin typeface="Arial"/>
              </a:rPr>
              <a:t>i) the constraint serial number</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i) details of the constraint</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ter the details of the constraint in the user</a:t>
            </a:r>
            <a:r>
              <a:rPr b="0" lang="ja-JP" sz="2800" spc="-1" strike="noStrike">
                <a:solidFill>
                  <a:srgbClr val="000000"/>
                </a:solidFill>
                <a:latin typeface="Arial"/>
              </a:rPr>
              <a:t>’</a:t>
            </a:r>
            <a:r>
              <a:rPr b="0" lang="en-GB" sz="2800" spc="-1" strike="noStrike">
                <a:solidFill>
                  <a:srgbClr val="000000"/>
                </a:solidFill>
                <a:latin typeface="Arial"/>
              </a:rPr>
              <a:t>s ammunition accou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6 Slide </a:t>
            </a:r>
            <a:fld id="{69FE6A0C-9DF9-41CF-AE92-326CD391A41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16:56:50Z</dcterms:created>
  <dc:creator>United Nations</dc:creator>
  <dc:description/>
  <dc:language>en-US</dc:language>
  <cp:lastModifiedBy>Adrian Wilkinson</cp:lastModifiedBy>
  <dcterms:modified xsi:type="dcterms:W3CDTF">2012-05-22T16:19:08Z</dcterms:modified>
  <cp:revision>43</cp:revision>
  <dc:subject/>
  <dc:title>Slide 1</dc:title>
</cp:coreProperties>
</file>