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t;date/time&gt;</a:t>
            </a:r>
            <a:endParaRPr b="0" lang="en-US" sz="1200" spc="-1" strike="noStrike">
              <a:solidFill>
                <a:srgbClr val="000000"/>
              </a:solidFill>
              <a:latin typeface="Times New Roman"/>
            </a:endParaRPr>
          </a:p>
        </p:txBody>
      </p:sp>
      <p:sp>
        <p:nvSpPr>
          <p:cNvPr id="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39287-D5D9-4CC9-BBDC-130A852BDD43}" type="slidenum">
              <a:rPr b="0" lang="en-US"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INSTRUCTOR: BEFORE GIVING THIS PRESENTATION </a:t>
            </a:r>
            <a:r>
              <a:rPr b="0" lang="en-GB" sz="1200" spc="-1" strike="noStrike">
                <a:solidFill>
                  <a:srgbClr val="ff0000"/>
                </a:solidFill>
                <a:latin typeface="Calibri"/>
              </a:rPr>
              <a:t>– ADD YOUR NAME ONTO THE FIRST SLIDE WHERE THE BRACKETED STATEMENT TO THAT EFFECT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NTRODUCTION</a:t>
            </a:r>
            <a:r>
              <a:rPr b="1" lang="en-GB" sz="1200" spc="-1" strike="noStrike">
                <a:solidFill>
                  <a:srgbClr val="000000"/>
                </a:solidFill>
                <a:latin typeface="Calibri"/>
              </a:rPr>
              <a:t>:  (1 slide,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lcome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ain: IATG stands for International Ammunition Technical Guide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your na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the names of any other instructors (and, if relevant/appropriate, other staf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 a very brief (1-minute) summary of your personal background, career, primary qualification and experience that makes you suitably competent and experienced to give this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k other instructors to do the same: 1-minute each, maxim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735D7-50F5-4B9E-A78E-C73AC89520C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OBJECTIVES</a:t>
            </a:r>
            <a:r>
              <a:rPr b="1" lang="en-GB" sz="1200" spc="-1" strike="noStrike">
                <a:solidFill>
                  <a:srgbClr val="000000"/>
                </a:solidFill>
                <a:latin typeface="Calibri"/>
              </a:rPr>
              <a:t>:  (2 slides,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ain that there are 5 courses within the IATG course framewor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G’ is simply a code number for the course suite, but students need not worry about it further, although they may see it on course docu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1’ in the bottom right corner of slides simply refers to the lesson numb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the mouse: slide and the relevant course will be stand out from the other courses (which will be greyed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Welcome to the </a:t>
            </a:r>
            <a:r>
              <a:rPr b="0" i="1" lang="en-GB" sz="1200" spc="-1" strike="noStrike">
                <a:solidFill>
                  <a:srgbClr val="000000"/>
                </a:solidFill>
                <a:latin typeface="Calibri"/>
              </a:rPr>
              <a:t>(state name of relevant module)</a:t>
            </a:r>
            <a:r>
              <a:rPr b="0" lang="en-GB" sz="1200" spc="-1" strike="noStrike">
                <a:solidFill>
                  <a:srgbClr val="000000"/>
                </a:solidFill>
                <a:latin typeface="Calibri"/>
              </a:rPr>
              <a:t>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E17EF-918E-46C0-8539-03FEF03CA3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OBJECTIVES</a:t>
            </a:r>
            <a:r>
              <a:rPr b="1" lang="en-GB" sz="1200" spc="-1" strike="noStrike">
                <a:solidFill>
                  <a:srgbClr val="000000"/>
                </a:solidFill>
                <a:latin typeface="Calibri"/>
              </a:rPr>
              <a:t>:  (2 slides,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the training objectives for the relevant course (</a:t>
            </a:r>
            <a:r>
              <a:rPr b="0" i="1" lang="en-GB" sz="1200" spc="-1" strike="noStrike">
                <a:solidFill>
                  <a:srgbClr val="000000"/>
                </a:solidFill>
                <a:latin typeface="Calibri"/>
              </a:rPr>
              <a:t>course SG3 - Military Ammunition Stockpile Management</a:t>
            </a:r>
            <a:r>
              <a:rPr b="0" lang="en-GB" sz="1200" spc="-1" strike="noStrike">
                <a:solidFill>
                  <a:srgbClr val="000000"/>
                </a:solidFill>
                <a:latin typeface="Calibri"/>
              </a:rPr>
              <a:t>) (noting that the text for the objectives does not appear on the sl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1</a:t>
            </a:r>
            <a:r>
              <a:rPr b="0" lang="en-GB" sz="1200" spc="-1" strike="noStrike">
                <a:solidFill>
                  <a:srgbClr val="000000"/>
                </a:solidFill>
                <a:latin typeface="Calibri"/>
              </a:rPr>
              <a:t>:  To explain the specific requirements of ammunition and explosive management systems required for ammunition and explosives stockpile management at the logistic lev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2</a:t>
            </a:r>
            <a:r>
              <a:rPr b="0" lang="en-GB" sz="1200" spc="-1" strike="noStrike">
                <a:solidFill>
                  <a:srgbClr val="000000"/>
                </a:solidFill>
                <a:latin typeface="Calibri"/>
              </a:rPr>
              <a:t>:  To explain the common UN hazard classification and code system for ammunition and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3</a:t>
            </a:r>
            <a:r>
              <a:rPr b="0" lang="en-GB" sz="1200" spc="-1" strike="noStrike">
                <a:solidFill>
                  <a:srgbClr val="000000"/>
                </a:solidFill>
                <a:latin typeface="Calibri"/>
              </a:rPr>
              <a:t>:  To introduce the concept of formal risk management, and risk assessment, for the storage of ammunition and explosives in ammunition depo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4</a:t>
            </a:r>
            <a:r>
              <a:rPr b="0" lang="en-GB" sz="1200" spc="-1" strike="noStrike">
                <a:solidFill>
                  <a:srgbClr val="000000"/>
                </a:solidFill>
                <a:latin typeface="Calibri"/>
              </a:rPr>
              <a:t>:  To explain the concept of Quantity Distances and Explosive Limit Licences to ensure appropriate safety distances are applied during ammunition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5</a:t>
            </a:r>
            <a:r>
              <a:rPr b="0" lang="en-GB" sz="1200" spc="-1" strike="noStrike">
                <a:solidFill>
                  <a:srgbClr val="000000"/>
                </a:solidFill>
                <a:latin typeface="Calibri"/>
              </a:rPr>
              <a:t>:  To explain the security requirements for the protection of ammunition and explosives in ammunition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6</a:t>
            </a:r>
            <a:r>
              <a:rPr b="0" lang="en-GB" sz="1200" spc="-1" strike="noStrike">
                <a:solidFill>
                  <a:srgbClr val="000000"/>
                </a:solidFill>
                <a:latin typeface="Calibri"/>
              </a:rPr>
              <a:t>:  To introduce various explosive safety requirements during the operation of a ammunition depo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7</a:t>
            </a:r>
            <a:r>
              <a:rPr b="0" lang="en-GB" sz="1200" spc="-1" strike="noStrike">
                <a:solidFill>
                  <a:srgbClr val="000000"/>
                </a:solidFill>
                <a:latin typeface="Calibri"/>
              </a:rPr>
              <a:t>:  To discuss requirements for, and techniques for, the destruction of surplus ammunition and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the mouse after stating the objectives verbally– a slide will appear with a ‘health warning’ stating a limitation of the what the course does, and doesn’t, deliver to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It is important to understand that this course is only designed to introduce and explain the basic requirements of the International Ammunition Technical Guidelines (IATG) for ammunition stockpile management at the logistic level in ammunition depots.  It does not qualify individuals as being competent as Ammunition Speciali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73459-4FC3-49EE-9CBA-BB7FDD5BC0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Instructor</a:t>
            </a:r>
            <a:r>
              <a:rPr b="1" lang="en-GB" sz="1200" spc="-1" strike="noStrike">
                <a:solidFill>
                  <a:srgbClr val="ff0000"/>
                </a:solidFill>
                <a:latin typeface="Calibri"/>
              </a:rPr>
              <a:t>: BEFORE GIVING THIS PRESENTATION </a:t>
            </a:r>
            <a:r>
              <a:rPr b="0" lang="en-GB" sz="1200" spc="-1" strike="noStrike">
                <a:solidFill>
                  <a:srgbClr val="ff0000"/>
                </a:solidFill>
                <a:latin typeface="Calibri"/>
              </a:rPr>
              <a:t>– ENSURE YOU KNOW THE ADMIN REQUIREMENTS.  </a:t>
            </a:r>
            <a:r>
              <a:rPr b="0" lang="en-GB" sz="1200" spc="-1" strike="noStrike">
                <a:solidFill>
                  <a:srgbClr val="000000"/>
                </a:solidFill>
                <a:latin typeface="Calibri"/>
              </a:rPr>
              <a:t>This is a 5-minute session to go over course administration.  The details given to students will be specific to the course venue, attendees, situation, etc.  Explain the situation, how things work, where things are located, timings, routine, etc. ALWAYS START WITH SAFETY PROCEDURES, eg ‘actions in the event of fire and bomb threats’ in order to start to develop a ‘subconscious’ safety cul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ADMINISTRATION</a:t>
            </a:r>
            <a:r>
              <a:rPr b="1" lang="en-GB" sz="1200" spc="-1" strike="noStrike">
                <a:solidFill>
                  <a:srgbClr val="000000"/>
                </a:solidFill>
                <a:latin typeface="Calibri"/>
              </a:rPr>
              <a:t>:  (header slide only,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o header slide for ‘administration’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LWAYS START WITH SAFETY PROCEDURES</a:t>
            </a:r>
            <a:r>
              <a:rPr b="0" lang="en-GB" sz="1200" spc="-1" strike="noStrike">
                <a:solidFill>
                  <a:srgbClr val="000000"/>
                </a:solidFill>
                <a:latin typeface="Calibri"/>
              </a:rPr>
              <a:t>, eg ‘actions in the event of fire and bomb threa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ggested checklist for further admin is as follo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 room lay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 toilets, food/drink availability, rest area, smoking area, statione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 of other facilities on the site – cookhouse, accommodation, sports facilities, car park, entrance/exit to site,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als and breaks – times, locations. Dietary require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othing/footwear/PPE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ation – for example if minibuses are required for movement between locations, both during and at the end of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mmodation – location, rules, laundry, cleaning, door locks, fire drills, any problems likely to ar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irm students are content with the arrangements in place and that there are no problems/deficiencies/omissions/faults. If there are problems, note these down for later 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mportant thing for students to consider during the duration of this course:  Documents that meet the ISO standard have a very specific meaning of words like ‘shall’ and ‘should’.  They should refer to the documents when they need to, and follow the meaning as defined in each document.  However for the duration of this course, the content will be delivered verbally and on slides, and the ISO meanings are not rigorously applied.  The authoritative direction is given in the IATG document set.  These sessions are designed to educate students about the issues to which the documents ref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provide each student with a Training Evaluation Form.  Explain that feedback is very important to allow us to make improvements that will benefit students on future courses.  This will be much appreciated by the course managers.  Please fill out the forms as you go along, while the experience of each lesson is fresh in your minds.  Please hand the forms in at the end of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AB07E-06E8-40B4-B778-C591398505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STUDENT INTRODUCTIONS</a:t>
            </a:r>
            <a:r>
              <a:rPr b="1" lang="en-GB" sz="1200" spc="-1" strike="noStrike">
                <a:solidFill>
                  <a:srgbClr val="000000"/>
                </a:solidFill>
                <a:latin typeface="Calibri"/>
              </a:rPr>
              <a:t>:  (header slide only, </a:t>
            </a:r>
            <a:r>
              <a:rPr b="1" lang="en-GB" sz="1200" spc="-1" strike="noStrike" u="sng">
                <a:solidFill>
                  <a:srgbClr val="000000"/>
                </a:solidFill>
                <a:uFillTx/>
                <a:latin typeface="Calibri"/>
              </a:rPr>
              <a:t>20</a:t>
            </a:r>
            <a:r>
              <a:rPr b="1" lang="en-GB" sz="1200" spc="-1" strike="noStrike">
                <a:solidFill>
                  <a:srgbClr val="000000"/>
                </a:solidFill>
                <a:latin typeface="Calibri"/>
              </a:rPr>
              <a:t>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he header slide for ‘student introductions’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ext 20 minutes will be time for us to get to know each other, particularly regarding our background, experience and reason for being on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Student participation is actively encouraged and the degree of that participation will contribute to success of the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heard the instructor(s) give a brief resume of myself/oursel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ould now like to go around the room, and each person in turn will tell us about yourselves in this context.  Please aim to take 1 minute per per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Pick a convenient place to start, perhaps front left student, and induce each student , in turn, to say a little about themsel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89549-ACC4-44FB-91F6-13AD6BF10D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BEFORE GIVING THIS PRESENTATION </a:t>
            </a:r>
            <a:r>
              <a:rPr b="0" lang="en-GB" sz="1200" spc="-1" strike="noStrike">
                <a:solidFill>
                  <a:srgbClr val="ff0000"/>
                </a:solidFill>
                <a:latin typeface="Calibri"/>
              </a:rPr>
              <a:t>– Ensure you have allocated students to syndicates, and that you have prepared a syndicate list that is appropriate to the audience in a suitable format.  This should ideally be provided in printed form to each stud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SYNDICATE ALLOCATION</a:t>
            </a:r>
            <a:r>
              <a:rPr b="1" lang="en-GB" sz="1200" spc="-1" strike="noStrike">
                <a:solidFill>
                  <a:srgbClr val="000000"/>
                </a:solidFill>
                <a:latin typeface="Calibri"/>
              </a:rPr>
              <a:t>:  (header slide only,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he header slide for ‘syndicate allocations’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To reiterate my earlier point: Student participation is actively encouraged and the degree of that participation will contribute to success of the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rstly:  Explain the concept of syndicate work.  There will be some activities during the course which require student participation – for some this will be in small groups.  These groups will be the syndicates which are about to be alloc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condly:  Provide each student with a syndicate li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rdly:  Ensure each student knows which syndicate they are 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508E0-0521-42DD-BB02-DC8D6231E47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few or no questions, take the opportunity to test their attention and understanding while simultaneously sewing the seeds for developing a safety culture. Ask students to state where the fire evacuation point for the room is, where the evacuation muster point is, and what the action for a bomb threat is.  </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DE93A-B0E3-41BD-8F94-6AA691820FF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10467-D88F-427D-B9A5-2402FA37B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DC32-5882-4423-BBF1-DA766416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83E9C-4519-4EBF-B99A-724D4981C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15C79-FD1F-48F4-BD0C-90710E000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31E3C-EC63-47D9-9512-37DC6290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C51AF-B3F8-4D9F-B640-B038CD1BF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FF8D-FF2C-413E-9CFE-53662D17A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835A-C15A-436D-83B5-F30D9BF8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2D64-5770-4319-BE92-88E1F9C5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15D8-AC43-409D-9EB9-4B28BDA5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E62D-BD1E-46AE-9A0F-9D2CFBD0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EA43-6C20-4AD6-AEA0-C7E462BB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E9907-EADC-43EB-A9A8-1F4148363E1C}" type="slidenum">
              <a:rPr b="0" lang="en-GB"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124" name="Picture 9" descr="UNSaferGuardLogo"/>
          <p:cNvPicPr/>
          <p:nvPr/>
        </p:nvPicPr>
        <p:blipFill>
          <a:blip r:embed="rId3"/>
          <a:stretch/>
        </p:blipFill>
        <p:spPr>
          <a:xfrm>
            <a:off x="152280" y="5867280"/>
            <a:ext cx="3353040" cy="58608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164" name="Picture 9" descr="UNSaferGuardLogo"/>
          <p:cNvPicPr/>
          <p:nvPr/>
        </p:nvPicPr>
        <p:blipFill>
          <a:blip r:embed="rId3"/>
          <a:stretch/>
        </p:blipFill>
        <p:spPr>
          <a:xfrm>
            <a:off x="152280" y="5867280"/>
            <a:ext cx="3353040" cy="5860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204" name="Picture 9" descr="UNSaferGuardLogo"/>
          <p:cNvPicPr/>
          <p:nvPr/>
        </p:nvPicPr>
        <p:blipFill>
          <a:blip r:embed="rId3"/>
          <a:stretch/>
        </p:blipFill>
        <p:spPr>
          <a:xfrm>
            <a:off x="152280" y="5867280"/>
            <a:ext cx="3353040" cy="58608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22280"/>
            <a:ext cx="7772400" cy="399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ternational Ammunition Technical Guidelines</a:t>
            </a:r>
            <a:br>
              <a:rPr sz="3600"/>
            </a:br>
            <a:br>
              <a:rPr sz="3600"/>
            </a:br>
            <a:r>
              <a:rPr b="1" lang="en-GB" sz="3600" spc="-1" strike="noStrike">
                <a:solidFill>
                  <a:srgbClr val="000000"/>
                </a:solidFill>
                <a:latin typeface="Arial"/>
                <a:ea typeface="ＭＳ Ｐゴシック"/>
              </a:rPr>
              <a:t>(IATG)</a:t>
            </a:r>
            <a:br>
              <a:rPr sz="3600"/>
            </a:br>
            <a:br>
              <a:rPr sz="3600"/>
            </a:br>
            <a:r>
              <a:rPr b="1" lang="en-GB" sz="3600" spc="-1" strike="noStrike">
                <a:solidFill>
                  <a:srgbClr val="000000"/>
                </a:solidFill>
                <a:latin typeface="Arial"/>
                <a:ea typeface="ＭＳ Ｐゴシック"/>
              </a:rPr>
              <a:t>(insert instructor name(s))</a:t>
            </a:r>
            <a:endParaRPr b="1" lang="en-US" sz="3600" spc="-1" strike="noStrike">
              <a:solidFill>
                <a:srgbClr val="000000"/>
              </a:solidFill>
              <a:latin typeface="Arial"/>
            </a:endParaRPr>
          </a:p>
        </p:txBody>
      </p:sp>
      <p:sp>
        <p:nvSpPr>
          <p:cNvPr id="25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C1EA7CC2-C522-4EA1-9A79-10BD2B5ACB8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ATG COURSES</a:t>
            </a:r>
            <a:endParaRPr b="1" lang="en-US" sz="36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1 - Ammunition Support to UN Field Operations</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2 - Small Unit Ammunition Stockpile Management</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3 - Military Ammunition Stockpile Management</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4 - Ammunition Accounting and Tracing</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5 – UN Police Ammunition Tracing Support</a:t>
            </a:r>
            <a:endParaRPr b="0" lang="en-US" sz="2700" spc="-1" strike="noStrike">
              <a:solidFill>
                <a:srgbClr val="000000"/>
              </a:solidFill>
              <a:latin typeface="Arial"/>
            </a:endParaRPr>
          </a:p>
        </p:txBody>
      </p:sp>
      <p:sp>
        <p:nvSpPr>
          <p:cNvPr id="25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DD36F645-5B1D-4C20-B058-90C5505FE5B7}"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9">
                                  <p:stCondLst>
                                    <p:cond delay="0"/>
                                  </p:stCondLst>
                                  <p:childTnLst>
                                    <p:set>
                                      <p:cBhvr>
                                        <p:cTn id="6" dur="indefinite"/>
                                        <p:tgtEl>
                                          <p:spTgt spid="253">
                                            <p:txEl>
                                              <p:pRg st="0" end="0"/>
                                            </p:txEl>
                                          </p:spTgt>
                                        </p:tgtEl>
                                        <p:attrNameLst>
                                          <p:attrName>style.opacity</p:attrName>
                                        </p:attrNameLst>
                                      </p:cBhvr>
                                      <p:to>
                                        <p:strVal val="0.25"/>
                                      </p:to>
                                    </p:set>
                                  </p:childTnLst>
                                </p:cTn>
                              </p:par>
                              <p:par>
                                <p:cTn id="7" nodeType="withEffect" fill="hold" presetClass="emph" presetID="9">
                                  <p:stCondLst>
                                    <p:cond delay="0"/>
                                  </p:stCondLst>
                                  <p:childTnLst>
                                    <p:set>
                                      <p:cBhvr>
                                        <p:cTn id="8" dur="indefinite"/>
                                        <p:tgtEl>
                                          <p:spTgt spid="253">
                                            <p:txEl>
                                              <p:pRg st="2" end="2"/>
                                            </p:txEl>
                                          </p:spTgt>
                                        </p:tgtEl>
                                        <p:attrNameLst>
                                          <p:attrName>style.opacity</p:attrName>
                                        </p:attrNameLst>
                                      </p:cBhvr>
                                      <p:to>
                                        <p:strVal val="0.25"/>
                                      </p:to>
                                    </p:set>
                                  </p:childTnLst>
                                </p:cTn>
                              </p:par>
                              <p:par>
                                <p:cTn id="9" nodeType="withEffect" fill="hold" presetClass="emph" presetID="9">
                                  <p:stCondLst>
                                    <p:cond delay="0"/>
                                  </p:stCondLst>
                                  <p:childTnLst>
                                    <p:set>
                                      <p:cBhvr>
                                        <p:cTn id="10" dur="indefinite"/>
                                        <p:tgtEl>
                                          <p:spTgt spid="253">
                                            <p:txEl>
                                              <p:pRg st="6" end="6"/>
                                            </p:txEl>
                                          </p:spTgt>
                                        </p:tgtEl>
                                        <p:attrNameLst>
                                          <p:attrName>style.opacity</p:attrName>
                                        </p:attrNameLst>
                                      </p:cBhvr>
                                      <p:to>
                                        <p:strVal val="0.25"/>
                                      </p:to>
                                    </p:set>
                                  </p:childTnLst>
                                </p:cTn>
                              </p:par>
                              <p:par>
                                <p:cTn id="11" nodeType="withEffect" fill="hold" presetClass="emph" presetID="9">
                                  <p:stCondLst>
                                    <p:cond delay="0"/>
                                  </p:stCondLst>
                                  <p:childTnLst>
                                    <p:set>
                                      <p:cBhvr>
                                        <p:cTn id="12" dur="indefinite"/>
                                        <p:tgtEl>
                                          <p:spTgt spid="253">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Objectives</a:t>
            </a:r>
            <a:endParaRPr b="1" lang="en-US" sz="36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lth Warning –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ourse is only designed to explain the basic requireme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ourse DOES NOT qualify participants as being competent ammunition specialists  </a:t>
            </a:r>
            <a:endParaRPr b="0" lang="en-US" sz="2800" spc="-1" strike="noStrike">
              <a:solidFill>
                <a:srgbClr val="000000"/>
              </a:solidFill>
              <a:latin typeface="Arial"/>
            </a:endParaRPr>
          </a:p>
        </p:txBody>
      </p:sp>
      <p:sp>
        <p:nvSpPr>
          <p:cNvPr id="25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22DDB220-0136-4C52-8F97-65C285E1AE1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5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Course Administration</a:t>
            </a:r>
            <a:endParaRPr b="1" lang="en-US" sz="3600" spc="-1" strike="noStrike">
              <a:solidFill>
                <a:srgbClr val="000000"/>
              </a:solidFill>
              <a:latin typeface="Arial"/>
            </a:endParaRPr>
          </a:p>
        </p:txBody>
      </p:sp>
      <p:sp>
        <p:nvSpPr>
          <p:cNvPr id="2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4F74B77B-E639-4F5E-9F98-5DF9FF855C1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tudent Introductions</a:t>
            </a:r>
            <a:endParaRPr b="1" lang="en-US" sz="3600" spc="-1" strike="noStrike">
              <a:solidFill>
                <a:srgbClr val="000000"/>
              </a:solidFill>
              <a:latin typeface="Arial"/>
            </a:endParaRPr>
          </a:p>
        </p:txBody>
      </p:sp>
      <p:sp>
        <p:nvSpPr>
          <p:cNvPr id="26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773D18FE-0330-4D0C-9DD5-6937392B522D}"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yndicate Allocation</a:t>
            </a:r>
            <a:endParaRPr b="1" lang="en-US" sz="3600" spc="-1" strike="noStrike">
              <a:solidFill>
                <a:srgbClr val="000000"/>
              </a:solidFill>
              <a:latin typeface="Arial"/>
            </a:endParaRPr>
          </a:p>
        </p:txBody>
      </p:sp>
      <p:sp>
        <p:nvSpPr>
          <p:cNvPr id="2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E89F453B-9F66-4252-BB14-4001125C757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Questions?</a:t>
            </a:r>
            <a:endParaRPr b="1" lang="en-US" sz="3600" spc="-1" strike="noStrike">
              <a:solidFill>
                <a:srgbClr val="000000"/>
              </a:solidFill>
              <a:latin typeface="Arial"/>
            </a:endParaRPr>
          </a:p>
        </p:txBody>
      </p:sp>
      <p:sp>
        <p:nvSpPr>
          <p:cNvPr id="2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BBDB78EC-5FF1-4105-A2BA-5A7FC21694C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5-21T21:24:07Z</dcterms:modified>
  <cp:revision>30</cp:revision>
  <dc:subject/>
  <dc:title>Title</dc:title>
</cp:coreProperties>
</file>