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79AD-7FC4-4A63-85B1-72F097D3D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TRODUCTION: (2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2: </a:t>
            </a:r>
            <a:r>
              <a:rPr b="1" lang="en-US"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1" lang="en-US" sz="1200" spc="-1" strike="noStrike">
                <a:solidFill>
                  <a:srgbClr val="000000"/>
                </a:solidFill>
                <a:latin typeface="Calibri"/>
              </a:rPr>
              <a:t>Instructor</a:t>
            </a:r>
            <a:r>
              <a:rPr b="0" lang="en-US" sz="1200" spc="-1" strike="noStrike">
                <a:solidFill>
                  <a:srgbClr val="000000"/>
                </a:solidFill>
                <a:latin typeface="Calibri"/>
              </a:rPr>
              <a:t>: students should be able to use Microsoft Excel for this exercise as Tasks 1 and 2 rely on Annex A which is in spreadsheet form, and timings may be too challenging if students do calculations by han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will now do an exercise which will practice you in the calculation and application of aspects of Field Stor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that this exercise is focussed on field storage.  You should not need to consider aspects pertaining specifically to temporary storage.  You do not need to consider small holding areas eith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will take 5 minutes to brief you.  You will then have 5 minutes to review the exercise briefing… see your hand-ou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will then have 2 hours to prepare your pla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will then take 5 minutes to collect in your answ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review and discuss the exercise tomorrow morn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0D47-F08B-433B-8D64-6A0938577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TRODUCTION: (2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2 of 2: </a:t>
            </a:r>
            <a:r>
              <a:rPr b="1" lang="en-US" sz="1200" spc="-1" strike="noStrike" u="sng">
                <a:solidFill>
                  <a:srgbClr val="000000"/>
                </a:solidFill>
                <a:uFillTx/>
                <a:latin typeface="Calibri"/>
              </a:rPr>
              <a:t>BACKGROUND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are the nominated officer responsible for ammunition field storage on a UN deployment to a foreign country.  This deployment is a peace-keeping operation to provide a permissive environment for political reform.  The country has had a recent history of armed violence from criminal elements and also a rebel faction in the north of the country.  There is estimated to be a high quantity of small arms and light weapons in the hands of the civilian population due to illegal smuggling.  There are not thought to be any armoured vehicles in rebel hand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ndigenous armed forces who you will work with are of average capability, they are essentially a lightly mechanised infantry force with some supporting elements.  They are useful for security activities.  Their military infrastructure and organisation is based on a generic European mode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have been advised of a large area of ground which should be suitable for a Field Storage Area (FSA).  An initial recce by a colleague of yours suggested the location would be adequa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ails of this ammunition stock to be stored at the Field Storage Area are at Annex 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mmunition will be delivered direct to the FSA by truck.  The ammunition will be packed onto standard 1 tonne pallets.  Each pallet is to be classed as one Unit of Space/stack.  4 forklift trucks will be available to dedicate to your depo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may not stack ammunition pallets on top of each other (ie single layer of pallets on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rce Commander has ordered you that, if at all possible, each type of ammunition should be divided into two – ie split across a minimum of two separate storage sites within the explosive fac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rce Commander has ordered that you must abide by the requirements of the IATG document set, particularly regarding the Minimum Separation Distances in IATG 04:10.  You should assume that all ammunition in your FSA will be in its authorised outer packag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rce Commander reminds you that Stacks and Field Stack Modules must contain the ammunition of the same Hazard Division (HD) and Compatibility Group (C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 is keen to have Field Storage Sites that are also made up of the same HD and CG.  However he recognises that this might not be an economical use of space, so he is prepared to allow you to use the Mixing Rules and Aggregation Rules for Field Storage as per IATGH 04:1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1EE4-017E-4055-86E4-0E0CD89F6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ISE: (1 SLIDE, 12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1: FIELD AND TEMPORARY STORAGE EXERCISE </a:t>
            </a:r>
            <a:r>
              <a:rPr b="1" lang="en-US" sz="1200" spc="-1" strike="noStrike" u="sng">
                <a:solidFill>
                  <a:srgbClr val="000000"/>
                </a:solidFill>
                <a:uFillTx/>
                <a:latin typeface="Calibri"/>
              </a:rPr>
              <a:t>(12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ructor – launch the students on the work.  They have 2 hou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501C6-79A4-44EC-B141-071278EF6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a:t>
            </a:r>
            <a:r>
              <a:rPr b="1" lang="en-GB" sz="1200" spc="-1" strike="noStrike">
                <a:solidFill>
                  <a:srgbClr val="000000"/>
                </a:solidFill>
                <a:latin typeface="Calibri"/>
              </a:rPr>
              <a:t>5 minutes</a:t>
            </a:r>
            <a:r>
              <a:rPr b="0" lang="en-GB" sz="1200" spc="-1" strike="noStrike">
                <a:solidFill>
                  <a:srgbClr val="000000"/>
                </a:solidFill>
                <a:latin typeface="Calibri"/>
              </a:rPr>
              <a:t>.  Conclude the exercise session.  Collect in papers.  There is a double period tomorrow morning to review and discuss the students</a:t>
            </a:r>
            <a:r>
              <a:rPr b="0" lang="ja-JP" sz="1200" spc="-1" strike="noStrike">
                <a:solidFill>
                  <a:srgbClr val="000000"/>
                </a:solidFill>
                <a:latin typeface="Calibri"/>
              </a:rPr>
              <a:t>’</a:t>
            </a:r>
            <a:r>
              <a:rPr b="0" lang="en-GB" sz="1200" spc="-1" strike="noStrike">
                <a:solidFill>
                  <a:srgbClr val="000000"/>
                </a:solidFill>
                <a:latin typeface="Calibri"/>
              </a:rPr>
              <a:t> plans).  </a:t>
            </a: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4C47-7E94-42FC-966D-AFFEE9B0F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2D37E-4126-4ACA-B27D-63E17E62B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2706B-30D1-4818-BA9D-918464B14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473D8-5984-453F-A1E7-26D7D2B53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1C67F-F2AF-498E-90CD-8CFDC2685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2EF96-9B86-4091-BC16-3AF15BFBB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1EB14-1EF4-4313-A83E-8FE0E9DF8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A037C-2668-4790-AB28-7EA6A31D2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31B32-A55F-4D99-AF45-D4D2CD79E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2C57A-45D7-4575-9476-798DF4065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D0751-CA77-44F1-BF3F-E6591C663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0395C-394E-4136-ADEA-DDED009BB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059E5-9DB1-4EE2-A445-A4502E1E6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8828B-36CB-4F61-BD23-872F77D882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64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eld and Temporary Storage Exercise</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05 Slide </a:t>
            </a:r>
            <a:fld id="{F707A692-E35F-4F7D-BBFB-60B944F6FED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ckground</a:t>
            </a:r>
            <a:endParaRPr b="1" lang="en-US" sz="36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5" name="Picture 3" descr=""/>
          <p:cNvPicPr/>
          <p:nvPr/>
        </p:nvPicPr>
        <p:blipFill>
          <a:blip r:embed="rId1"/>
          <a:stretch/>
        </p:blipFill>
        <p:spPr>
          <a:xfrm>
            <a:off x="3387600" y="1606680"/>
            <a:ext cx="2513160" cy="1885680"/>
          </a:xfrm>
          <a:prstGeom prst="rect">
            <a:avLst/>
          </a:prstGeom>
          <a:ln w="0">
            <a:noFill/>
          </a:ln>
        </p:spPr>
      </p:pic>
      <p:pic>
        <p:nvPicPr>
          <p:cNvPr id="56" name="Picture 4" descr=""/>
          <p:cNvPicPr/>
          <p:nvPr/>
        </p:nvPicPr>
        <p:blipFill>
          <a:blip r:embed="rId2"/>
          <a:stretch/>
        </p:blipFill>
        <p:spPr>
          <a:xfrm>
            <a:off x="304920" y="1604880"/>
            <a:ext cx="2828880" cy="1886040"/>
          </a:xfrm>
          <a:prstGeom prst="rect">
            <a:avLst/>
          </a:prstGeom>
          <a:ln w="0">
            <a:noFill/>
          </a:ln>
        </p:spPr>
      </p:pic>
      <p:pic>
        <p:nvPicPr>
          <p:cNvPr id="57" name="Picture 5" descr=""/>
          <p:cNvPicPr/>
          <p:nvPr/>
        </p:nvPicPr>
        <p:blipFill>
          <a:blip r:embed="rId3"/>
          <a:stretch/>
        </p:blipFill>
        <p:spPr>
          <a:xfrm>
            <a:off x="6095880" y="1604880"/>
            <a:ext cx="2828880" cy="1886040"/>
          </a:xfrm>
          <a:prstGeom prst="rect">
            <a:avLst/>
          </a:prstGeom>
          <a:ln w="0">
            <a:noFill/>
          </a:ln>
        </p:spPr>
      </p:pic>
      <p:pic>
        <p:nvPicPr>
          <p:cNvPr id="58" name="Picture 6" descr=""/>
          <p:cNvPicPr/>
          <p:nvPr/>
        </p:nvPicPr>
        <p:blipFill>
          <a:blip r:embed="rId4"/>
          <a:stretch/>
        </p:blipFill>
        <p:spPr>
          <a:xfrm>
            <a:off x="4890960" y="3733920"/>
            <a:ext cx="3353040" cy="2624040"/>
          </a:xfrm>
          <a:prstGeom prst="rect">
            <a:avLst/>
          </a:prstGeom>
          <a:ln w="0">
            <a:noFill/>
          </a:ln>
        </p:spPr>
      </p:pic>
      <p:pic>
        <p:nvPicPr>
          <p:cNvPr id="59" name="Picture 8" descr=""/>
          <p:cNvPicPr/>
          <p:nvPr/>
        </p:nvPicPr>
        <p:blipFill>
          <a:blip r:embed="rId5"/>
          <a:stretch/>
        </p:blipFill>
        <p:spPr>
          <a:xfrm>
            <a:off x="609480" y="3733920"/>
            <a:ext cx="3689640" cy="2097000"/>
          </a:xfrm>
          <a:prstGeom prst="rect">
            <a:avLst/>
          </a:prstGeom>
          <a:ln w="0">
            <a:noFill/>
          </a:ln>
        </p:spPr>
      </p:pic>
      <p:sp>
        <p:nvSpPr>
          <p:cNvPr id="60"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05 Slide </a:t>
            </a:r>
            <a:fld id="{77444314-DAC9-43EF-9A22-D6B2316A8C5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64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eld and Temporary Storage Exercise</a:t>
            </a:r>
            <a:endParaRPr b="1" lang="en-US" sz="36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3"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05 Slide </a:t>
            </a:r>
            <a:fld id="{858006F0-D6DE-41E5-B08B-5E096F5B17C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264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 of Exercise</a:t>
            </a:r>
            <a:endParaRPr b="1" lang="en-US" sz="36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6"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05 Slide </a:t>
            </a:r>
            <a:fld id="{33A50D12-AEEB-4B15-B8AE-83AC109390F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United Nations</cp:lastModifiedBy>
  <dcterms:modified xsi:type="dcterms:W3CDTF">2012-09-03T00:09:30Z</dcterms:modified>
  <cp:revision>14</cp:revision>
  <dc:subject/>
  <dc:title>Slide 1</dc:title>
</cp:coreProperties>
</file>